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470-BAD4-4801-B32D-68BAF387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1DE-9816-4A27-8288-941A7B55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D1A-D8EE-450A-B4DB-E060429A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138-3FA0-4EA7-9223-958A75F8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A057E-6712-425F-A10C-B3FF6395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F3B2F-CE8C-4B21-9414-18AD664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5DB5E-7308-43AA-B0FE-77DFB65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B99B4-3150-4B44-980C-C2DB839C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7AC15-845E-4328-B0C8-51E22E2E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62D62-22C9-41E6-9D5E-6EF8081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92D67-CF01-4BE3-865F-98101437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206-D2AA-4ECF-8C51-035C49D6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E94BA-64F8-4331-B78D-0B794066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ACB0D-E011-4AFD-A690-5BCCFF8D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1DE45-8091-4C93-BA05-70AB0420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304BF-1936-4DF0-B369-125238BF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5D763-0D7C-4B84-BA63-6A3ACD6A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213-6819-4885-9F95-F805DF2B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CA0-80B6-40B3-ABA6-4EEC29FA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D4C-DCB7-47DE-ABE1-59F60D83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7B4-AAE1-4A02-BB97-19C25D81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04C-A39C-4A91-8BBD-E0C79550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0B8-FCD9-412D-902D-AC41C01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B40-EDCC-468E-BCE2-4F8F7776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D0F0-4932-4021-875E-D830BD8BC9D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632E-FF41-47D7-A61C-4CB24C38106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INDROMES REUMATOLOGIC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R. Omar Valenzuela 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CCION REUMATOLOG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PTO. DE MEDIC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íntomas 2 a 4 semanas post infección (genitales gralmente. asintomat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Uretriti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ombres son mas sintomáticos, descarga mucopurulenta, prostatitis o epididimiti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mujeres: disuria, cervicitis, vagi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juntivit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ede ser leve y transi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veítis anterior puede afectar un solo ojo con eritema, fotofobia y dol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Art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. Artic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ligoartritis (prom: 4 art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ditiva, asi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fección ppal de EEII, rodillas, tobillos, dedos de 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ctilitis o dedos en salchich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tesitis o entesopatias (aquilianos, calcane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umbago en 50% (sacroiliacas o espina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08000" y="1125360"/>
            <a:ext cx="446256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Keratoderma blenorrágica a dermatitis exfoli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ñas de pies y manos engrosadas, opacas, asemejando onicomic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lanitis circinada: ulceras serpiginosa que rodea me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lceras orales indoloras en lengua y palad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ortitis por engrosamiento inflam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14680" y="1244520"/>
            <a:ext cx="5715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CR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cin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yna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ofageal invol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lerodact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angectas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d. Reumatológico que engloba características de esclerodermia sistémica limit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5840" y="114480"/>
            <a:ext cx="67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7840" y="228600"/>
            <a:ext cx="878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08000" y="981000"/>
            <a:ext cx="5761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INDROME DE SJÖG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ocrinopatía autoinmune  por proliferación de linfocitos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ria o 2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ria: 0.05  a 1% de la población. Relación mujer/hombre = 9/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ínica princip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xeroftalmia (queratoconjuntivitis sicca, secre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xerostomía (boca seca, queilosis, periodontitis, policaries, grietas linguales, sobreinfección, disgeus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TUNEL CARPIAN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d. Por atrapamiento del nervio Mediano a nivel de  su paso bajo el retinaculo flex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mayoría de las veces es idiopático. Un 30% tiene una causa subyacente (hipotiroidismo, obesidad, diabetes, embaraz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estesias, dolor, adormecimiento de 1 a 3er dedo mano afectada. Signo de sacudida altamente específ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estados avanzados. Perdida de fuerza motora (pinz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gnos de Phalen y Ti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047840" cy="410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97560" y="2060640"/>
            <a:ext cx="4271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flamación y necrosis de un vaso sanguíneo con la consecuente alteración de la circulación. Lesión endotelial causa trombosis e isqu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íntomas dependen de los vasos afectados y si es sistémica o localiz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íntomas suger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stém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táne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eurológ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stem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ja de peso, fieb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efal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utan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úrpura palp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vedo reticu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fartos digi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lcer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919080"/>
            <a:ext cx="61930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371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19280" y="1022400"/>
            <a:ext cx="55450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6000" y="1166760"/>
            <a:ext cx="6480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eurolog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lineuropa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noneuritis mult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cidente vas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pirat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emorragia alveolar (hemopti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lomerulonefritis (sd. Nefrotico, sd. Nefri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346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16000" y="843120"/>
            <a:ext cx="727236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47800" y="685800"/>
            <a:ext cx="5648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Grandes Va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eritis de Takaya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eritis A. 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edianos Va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liarteritis Nod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fermedad de Kawasa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queños va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fermedad de Wege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f. De Churg-Strau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liangeitis Microscop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asculitis por Hipersensi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21120" y="620640"/>
            <a:ext cx="3711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9280" y="861840"/>
            <a:ext cx="77054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INDROME DE SJÖG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as manifesta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ialgias, artralgias, artritis indistinguible de artritis reumatoi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iel seca, prur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lmonar: tos seca, nodulos pulmonares, enfermedad interst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nal. Acidosis tubular renal, vejiga irri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enital: sequedad vaginal, dispareunia, sobreinf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asocia a: Hipotiroidismo, neuropatía perifé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ede sufrir transformación a Linfoma No Hodg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SJÖGREN: Exáme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Test de Schirmer: &lt; 5mm en 5 minu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intigrama de glándulas salivales con disminución de la excre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esencia de un Anticuerpo: Factor Reumatoideo, Anticuerpo antinuclear, Anti Ro, Anti 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iopsia de Gl. Salivales con infiltrado mononu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58920" y="1149480"/>
            <a:ext cx="66978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ritis periférica acompañada de manifestaciones extraarticulares que suceden luego de infecciones gastrointestinales o genitourinarias. Curso autolimitado 3 a 12 me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ombres jóvenes. Relación hombre/mujer = 9/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LA 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gentes involucrados: Shighella, salmonella, campilobacter y uretritis no gonococcica, pplmente Chlamydia. Tb respiratorias como C. Pneumoni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6:14:35Z</dcterms:created>
  <dc:creator>MARTIN ZUÑIGA</dc:creator>
  <dc:description/>
  <dc:language>en-US</dc:language>
  <cp:lastModifiedBy>O</cp:lastModifiedBy>
  <dcterms:modified xsi:type="dcterms:W3CDTF">2008-06-02T15:20:58Z</dcterms:modified>
  <cp:revision>6</cp:revision>
  <dc:subject/>
  <dc:title>SINDROMES REUMATOLOGICOS</dc:title>
</cp:coreProperties>
</file>