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4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495680" cy="6984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008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45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228600" cy="228600"/>
          </a:xfrm>
          <a:prstGeom prst="ellipse">
            <a:avLst/>
          </a:prstGeom>
          <a:solidFill>
            <a:srgbClr val="ffdc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dc45"/>
                </a:solidFill>
                <a:latin typeface="Arial"/>
              </a:rPr>
              <a:t>Sindrome cerebeloso</a:t>
            </a:r>
            <a:endParaRPr b="1" lang="en-US" sz="44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ra. Mariana Sinning 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rso Semiologí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er año Medicin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iversidad de Chi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dc45"/>
                </a:solidFill>
                <a:latin typeface="Arial"/>
              </a:rPr>
              <a:t>Trastornos cinéticos</a:t>
            </a:r>
            <a:endParaRPr b="1" lang="en-US" sz="36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ismetrí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alta de medida de los movimiento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ueba índice nariz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ueba talón rodill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isdiadococinesia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pacidad de realizar movimientos alternantes con rapidez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nación y supinación de la man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xtensión y dorsiflexión del pié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isartria: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s la alteración de la articulación de la palabra, en este caso dada por alteración en la coordinación de los movimientos más la hipotonía de los musculos lingual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- Voz escandid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- Disartria cerebelosa (ebriosa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dc45"/>
                </a:solidFill>
                <a:latin typeface="Arial"/>
              </a:rPr>
              <a:t>Temblor cerebeloso</a:t>
            </a:r>
            <a:endParaRPr b="1" lang="en-US" sz="36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 un temblor de carácter cinético (o de intenció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observa cuando el sujeto realiza movimientos y en especial al término de los mism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dc45"/>
                </a:solidFill>
                <a:latin typeface="Arial"/>
              </a:rPr>
              <a:t>Vértigo y nistagmo </a:t>
            </a:r>
            <a:endParaRPr b="1" lang="en-US" sz="36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drome vertiginoso que empeora con ojos cerrad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smetría ocula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lutter ocular: breves movimientos pendulares horizontales a la fija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istagm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mpeora con la fija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orizontal, rotatorio vertical o multidireccion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dc45"/>
                </a:solidFill>
                <a:latin typeface="Arial"/>
              </a:rPr>
              <a:t>Rebote</a:t>
            </a:r>
            <a:endParaRPr b="1" lang="en-US" sz="36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alta de control entre musculatura agonista y antagonist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ueba de Stewart-Holm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dc45"/>
                </a:solidFill>
                <a:latin typeface="Arial"/>
              </a:rPr>
              <a:t>Sindromes localizatorios</a:t>
            </a:r>
            <a:endParaRPr b="1" lang="en-US" sz="36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ndrome cerebeloso de línea media o vermian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storno de la march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stornos ocular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ndrome cerebeloso hemisférico o neocerebelos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Hipotonía y compromiso cinético del MISMO lado afectad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ismetría, Disdiadococinesia, Temblo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bot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isatri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dc45"/>
                </a:solidFill>
                <a:latin typeface="Arial"/>
              </a:rPr>
              <a:t>Diagnóstico etiológico</a:t>
            </a:r>
            <a:endParaRPr b="1" lang="en-US" sz="32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da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morbilidad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orma presentación (velocidad secuencia sintomática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óx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Vascula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umor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generativ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mielinizan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utoinmu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uchas gracias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3162600" cy="216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3133800" cy="227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29433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dc45"/>
                </a:solidFill>
                <a:latin typeface="Arial"/>
              </a:rPr>
              <a:t>Funciones cerebelosas</a:t>
            </a:r>
            <a:endParaRPr b="1" lang="en-US" sz="36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unciones Moto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 Cognitiv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 “límbica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quicerebel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Lóbulo floculonodular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librio y oculomotilid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ocerebel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mis y  paravermian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ural , musculatura proxim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cerebel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Hemisferios 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vimientos finos , precisos , cognitivo, lenguaje , aprendizaje , memori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3495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dc45"/>
                </a:solidFill>
                <a:latin typeface="Arial"/>
              </a:rPr>
              <a:t>Vías aferentes</a:t>
            </a:r>
            <a:endParaRPr b="1" lang="en-US" sz="36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Vestíbulo-cerebelosas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Trae información de los núcleos vestibulares hasta el lóbulo flóculonodula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spino-cerebelosas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raen información de sensibilidad propioceptiva, palestesia y de estiramiento.Paleocerebel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ontocerebelosas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Trae información de la corteza motora, visual y auditiva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tículo-cerebelosas, Olivo-cerebelosa, Tectocerebelosas, Trigémino-cerebos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dc45"/>
                </a:solidFill>
                <a:latin typeface="Arial"/>
              </a:rPr>
              <a:t>Vías eferentes</a:t>
            </a:r>
            <a:endParaRPr b="1" lang="en-US" sz="32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ntato rubro talámico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Van desde el núcleo dentado hasta el núcleo talámica ventrolateral y ventroposterolateral. Luego las vías tálamocorticales llevan la información a la corteza motor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astigio-vestibular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sde el núcleo fastigio a los núcleos vestibulares y tálamo ventrolateral y ventropósterolater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61920" y="609480"/>
          <a:ext cx="72183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609480"/>
                    <a:ext cx="72183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dc45"/>
                </a:solidFill>
                <a:latin typeface="Arial"/>
              </a:rPr>
              <a:t>Trastornos estáticos</a:t>
            </a:r>
            <a:endParaRPr b="1" lang="en-US" sz="36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Astasia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Dificultad de mantener el equilibrio al estar de pié lo que lleva a abrir la base de sustentación. No es compensable por la vía ópt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ipotonía muscular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Tono disminuído en musculatura comprometida. Esto puede llevar a la aparición de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flejos pendula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sviaciones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posición de pié o de equilibrio tiende a caer hacia delante (anteropulsión), atrás (retropulsión) o lados (lateropusió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0120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dc45"/>
                </a:solidFill>
                <a:latin typeface="Arial"/>
              </a:rPr>
              <a:t>Trastornos cinéticos </a:t>
            </a:r>
            <a:endParaRPr b="1" lang="en-US" sz="3600" spc="-1" strike="noStrike">
              <a:solidFill>
                <a:srgbClr val="ffdc4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taxia o asinergia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alta en la cortracción simultanea de distintos grupos musculares que intervienen en un movimiento complej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marcha avanza con las piernas y no moviliza el tronco (gran asinergia de babinski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ueba de inversión de tronc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ueba del arrodillamient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ueba de la flexión de la piern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08:30:49Z</dcterms:created>
  <dc:creator>rrivas</dc:creator>
  <dc:description/>
  <dc:language>en-US</dc:language>
  <cp:lastModifiedBy>Mariana Ximena Sinning Opazo</cp:lastModifiedBy>
  <dcterms:modified xsi:type="dcterms:W3CDTF">2008-06-06T00:57:10Z</dcterms:modified>
  <cp:revision>107</cp:revision>
  <dc:subject/>
  <dc:title>LINEAMIENTOS ESTRATEGI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00707134</vt:r8>
  </property>
  <property fmtid="{D5CDD505-2E9C-101B-9397-08002B2CF9AE}" pid="3" name="_AuthorEmail">
    <vt:lpwstr>pveloz@ex.hospital.uchile.cl</vt:lpwstr>
  </property>
  <property fmtid="{D5CDD505-2E9C-101B-9397-08002B2CF9AE}" pid="4" name="_AuthorEmailDisplayName">
    <vt:lpwstr>Veloz, Patricio</vt:lpwstr>
  </property>
  <property fmtid="{D5CDD505-2E9C-101B-9397-08002B2CF9AE}" pid="5" name="_EmailSubject">
    <vt:lpwstr>neurología</vt:lpwstr>
  </property>
</Properties>
</file>