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0A7-BC99-42DF-BD6A-954C7A76DD82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spirados o biopsias: Muestras menos contaminadas con microorganismo de la flora comensal o sometidos a a efectos por el oxigeno y dese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86B-6CD4-4040-A6D2-2C84E9D2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1B4-7F2E-406E-8558-07C0872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E75-EA16-4F27-AD74-D32CF14C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49E-71A1-4AA1-A2BD-8BE5C176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AE5-2E12-4C9A-9425-E8125EFA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568-596C-4A08-985B-D8F82EF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F8D8-38F3-4B6E-873C-75D0423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8D3-8696-467A-B6B8-E161334A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7793-3958-4724-919D-4330884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216C-5F0B-40B8-A745-A1F9DCFA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0CD-6055-4A28-A483-36AF13F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0B3-11D3-4B1D-8685-EC658EC8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5AB0-4BA8-4C4B-9138-090D1599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5E7F-C356-4D6D-BC4B-B714F98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B99B-E777-43BF-97C4-015C42B4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893-40C2-4ADB-9FED-6DDB055E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55EC-FEAE-4AE7-A84A-D50CCAA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747-E8CA-4908-BC39-2711292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9B9-C7FF-4E66-BAED-032CF160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44D-5FD5-4DDD-9CE8-A7573AB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8C8-AAE2-470E-A345-9142FE5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F14-C6EB-4659-AD0A-3807ABE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170-0925-46DF-B3A6-2A987E7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4F5-D255-4596-A344-8DA6292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07D-AFFE-4664-AFB8-0C37D1E33B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E71-EBE5-4D0B-9D21-8059B2608692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INFECCIONES </a:t>
            </a:r>
            <a:br>
              <a:rPr sz="3200"/>
            </a:b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POR ANAEROBIOS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18148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Mg.Cs.  Carolina Ponce O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CARRERA: OBSTETRICI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5720" y="2900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3808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PROGRAMA DE MICROBIOLOGIA Y MIC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FACULTAD DE MEDICINA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Forman parte de la microbiota normal humana: cavidad oral,  tracto intestinal, tracto genitourinario y cután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Relación anaerobio: aerobio = 1000:1 en tracto G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vitan colonización e infección por microorganismos patógenos desde fuente exter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n la microbiota vaginal predominan Lactobacilos, cocos anaerobios, Bacteroides, Prevotel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295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3446" r="0" b="3014"/>
          <a:stretch/>
        </p:blipFill>
        <p:spPr>
          <a:xfrm>
            <a:off x="1474920" y="1676520"/>
            <a:ext cx="7489800" cy="5065560"/>
          </a:xfrm>
          <a:prstGeom prst="rect">
            <a:avLst/>
          </a:prstGeom>
          <a:ln cap="sq" w="1260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86080" y="1341360"/>
            <a:ext cx="7200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EN LA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De las 100 especies descritas en el humano, menos del 20% son las causantes de la mayoría de las infeccion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oportunistas producen infecciones endógenas mixtas. El cuadro clínico predominante son los absces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provenientes del ambiente exógeno, fundamentalmente bacilos Gram positivos esporulados tipo Clostridium producen cuadros clínicos graves tales como: Botulismo, Tétanos y Gangrena gaseos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56844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FACTORES DE VIRULENCIA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N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3000" y="1484280"/>
            <a:ext cx="748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dotoxina (LPS) que es menos potente  que el de bacilos Gram (-). Ej: Fusobacterium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Veillonella 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y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</a:t>
            </a:r>
            <a:r>
              <a:rPr b="0" lang="es-MX" sz="23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ducción de toxinas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lostridium s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polisacárido capsular. Ej: Bacteroides del grupo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zim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Fibrin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Lip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teasa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olagenasa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em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ialuronid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fimbrias favoreciendo la adher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419360" y="5013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499720" y="264564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86868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ONDICIONES QUE FAVORECEN EL CRECIMIENTO DE MICROORGANISMOS</a:t>
            </a:r>
            <a:r>
              <a:rPr b="1" i="1" lang="es-MX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AEROBIOS ESTRICT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7960" y="2057400"/>
            <a:ext cx="68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H y aumento acidez loc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crosis tisular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opl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S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angr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lama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ec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por bacterias aerobias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2680" y="34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SITU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IONES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LINICAS QUE OCURREN ES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CLASIFICACION DE BACTERIAS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ANAEROBI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8080" y="1305000"/>
            <a:ext cx="776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COCAC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Veillone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opion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lang="es-MX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66996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DIAGNOSTICO PRESUNTIVO DE INFECCION ANAEROB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Localización del sitio de  infección contiguo a mucosa con flora anaer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Secreción con mal olor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Necrosis  severa de tejidos, formación de absce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Gas en 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Cultivo aerobi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LOCALIZACIONES MAS FRECUENTES DE LA INFECCION POR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92160" y="1905120"/>
            <a:ext cx="6801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odonto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Peritonit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intraabd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pelv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Infecciones de piel y partes bl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4114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1.- TOMA DE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e obtiene por aspiración de absces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De pulmón, pleura, abdomen, colecciones purul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Nunca muestras de mucosas (digestiva, genital, farínge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118" t="3031" r="0" b="0"/>
          <a:stretch/>
        </p:blipFill>
        <p:spPr>
          <a:xfrm>
            <a:off x="5419800" y="1981080"/>
            <a:ext cx="3419280" cy="417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2760"/>
            <a:ext cx="792504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993300"/>
                </a:solidFill>
                <a:latin typeface="Arial"/>
              </a:rPr>
              <a:t>2.- TRANSPORTE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teger  a los microorganismos  de los efectos del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0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durante el tiempo que transcurre  entre la extracción y la siembra an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.- TINCION 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4258" t="9367" r="7970" b="13046"/>
          <a:stretch/>
        </p:blipFill>
        <p:spPr>
          <a:xfrm>
            <a:off x="4343400" y="3813120"/>
            <a:ext cx="4191120" cy="27399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BACTERIAS ANAEROBIAS</a:t>
            </a:r>
            <a:br>
              <a:rPr sz="3200"/>
            </a:b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290520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Bacterias que sólo pueden desarrollarse en ausencia de cantidades significativas de O</a:t>
            </a:r>
            <a:r>
              <a:rPr b="1" i="1" lang="es-ES" sz="28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 gaseoso y bajo condiciones de potenciales redox  (Eh) muy reducidos</a:t>
            </a:r>
            <a:r>
              <a:rPr b="1" lang="es-E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3000" y="2262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663300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403848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4.- CUL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iembra de la muestra en medios de cultivo enriquecidos (Vitamina K y Hemin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ultivo en condiciones de anaerobio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7908" t="8895" r="4961" b="15782"/>
          <a:stretch/>
        </p:blipFill>
        <p:spPr>
          <a:xfrm>
            <a:off x="5734080" y="1760400"/>
            <a:ext cx="3105000" cy="3726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295280" y="480060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5.-  </a:t>
            </a: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IDENTIF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6.- ESTUDIO DE SUSCEP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946" t="0" r="0" b="0"/>
          <a:stretch/>
        </p:blipFill>
        <p:spPr>
          <a:xfrm>
            <a:off x="1373040" y="733320"/>
            <a:ext cx="7560000" cy="5743800"/>
          </a:xfrm>
          <a:prstGeom prst="rect">
            <a:avLst/>
          </a:prstGeom>
          <a:ln cap="sq" w="38160">
            <a:solidFill>
              <a:srgbClr val="a50021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438200" y="7905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PROCESAMIENTO DE LA MU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36360" y="1469880"/>
            <a:ext cx="6530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nicilina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ranfeni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inda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M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tronid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5335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TIMICROBIANOS EN INFECCIONES POR BACTERIAS ANAER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71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RESISTENCIA A LOS ANTIBIO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343400"/>
            <a:ext cx="77724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sencia de betalactamasa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BACILOS GRAM NEGATIV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eneralmente cromosomales constitu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648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6200" y="1981080"/>
            <a:ext cx="691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fermedad inflamatoria pélv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de tejidos blandos o glándu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tuboovár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Periton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cesos pelvi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orto sép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Infección ginecológica – post operatoria DIU</a:t>
            </a:r>
            <a:r>
              <a:rPr b="0" i="1" lang="es-ES_tradnl" sz="2800" spc="-1" strike="noStrike">
                <a:solidFill>
                  <a:srgbClr val="6633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1905120"/>
            <a:ext cx="691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Las bacterias anaerobias predominantes son: Prevotella, Peptostreptococcus, Porphyromonas y Clostridium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l grupo Bacteroides fragilis se aísla con menor frecuencia  en comparación con las infecciones intraabdom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os procesos asociados a la presencia de dispositivos intrauterinos Actinomyces spp. y Eubacterium nodatum son especies frecuentemente ais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a vaginosis bacteriana se cultiva con frecuencia Mobiluncus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1320" y="4190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7440" y="155736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Aumento del Nº de bacterias  sobre 1000 UFC/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is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esaparición de flora lactobac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obrecrecimiento de bacterias anaerób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7869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Gardnerella vagin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Micoplasma homi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87520" y="1628640"/>
          <a:ext cx="3618000" cy="439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28640"/>
                    <a:ext cx="3618000" cy="4392720"/>
                  </a:xfrm>
                  <a:prstGeom prst="rect">
                    <a:avLst/>
                  </a:prstGeom>
                  <a:ln w="9360">
                    <a:solidFill>
                      <a:srgbClr val="78695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75280" y="198108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Infección ascendente desde el tracto genital inf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ANAEROBIOS involucr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413000"/>
          <a:ext cx="447516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13000"/>
                    <a:ext cx="4475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VIA DE INFECCION Y AGENTES  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5880" y="1752480"/>
            <a:ext cx="2519640" cy="6699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Microorg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cerv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7320" y="1557360"/>
            <a:ext cx="36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hlamydia trachoma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Myco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  </a:t>
            </a: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ANAEROB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2997360"/>
            <a:ext cx="1509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Ví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anal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773600"/>
            <a:ext cx="6842160" cy="1694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o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Trompas de Falopio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157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80536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0080" y="2666880"/>
            <a:ext cx="504720" cy="1800360"/>
          </a:xfrm>
          <a:prstGeom prst="downArrow">
            <a:avLst>
              <a:gd name="adj1" fmla="val 50000"/>
              <a:gd name="adj2" fmla="val 89176"/>
            </a:avLst>
          </a:prstGeom>
          <a:solidFill>
            <a:srgbClr val="9933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84280"/>
            <a:ext cx="216000" cy="202104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557360"/>
            <a:ext cx="6193080" cy="35892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79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COC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844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eptostre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565360"/>
            <a:ext cx="74167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CLÍ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663300"/>
                </a:solidFill>
                <a:latin typeface="Arial"/>
              </a:rPr>
              <a:t>Infecciones intraabdominales, </a:t>
            </a:r>
            <a:r>
              <a:rPr b="1" i="1" lang="es-ES" sz="1900" spc="-1" strike="noStrike">
                <a:solidFill>
                  <a:srgbClr val="ff0000"/>
                </a:solidFill>
                <a:latin typeface="Arial"/>
              </a:rPr>
              <a:t>ENDOMETRITIS, ABSCESOS PELVICOS, SALPINGITIS, ABORTO SEPTICO, AMNIONITIS  y CORIOAMNIONIT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6200" y="2060640"/>
            <a:ext cx="678816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resentan sistemas enzimáticos que solamente funcionan en ausencia de O</a:t>
            </a:r>
            <a:r>
              <a:rPr b="1" i="1" lang="es-E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 por tanto son estrictos en cuanto a las exigenci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Generalmente poseen un metabolismo de tipo fermentativo en el cual sustancias orgánicas son los aceptores final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3357720"/>
            <a:ext cx="6048720" cy="57600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924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Actin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2492280"/>
            <a:ext cx="691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 CLÍN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clasifica de acuerdo al órgano que afec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Infección pél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Manifestación secundaria  de una actinomicosis abdominal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mo infección primaria en una mujer con D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 presentarse como una VAGINOSIS  benigna o bien con una gran destrucción de tejido, llevando a ABSCESOS TUBOOVARICOS o obstrucción ure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Mobilun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562120"/>
            <a:ext cx="74880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</a:t>
            </a: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  presentándose  en una  mayor  número en el tracto genital femen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900" spc="-1" strike="noStrike">
                <a:solidFill>
                  <a:srgbClr val="ff0000"/>
                </a:solidFill>
                <a:latin typeface="Arial"/>
              </a:rPr>
              <a:t>Se ha aislado de de aspirado endometriales de mujeres con enfermedad inflamatoria pelvica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5084640"/>
            <a:ext cx="6840360" cy="576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4560" y="190980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ÉNERO Bac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68680"/>
            <a:ext cx="727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Bacteroides fragilis  es el patógeno más importante de este género para el hombre, se asocia fundamentalmente  a infecciones pleuropulmonares, intraabdominales  y GEN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1928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rev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6200" y="2708280"/>
            <a:ext cx="792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  Y ENFERMEDAD INFLAMATORIA PELVIC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6840360" cy="360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</a:rPr>
              <a:t>BACILOS GRAM POSITIVO ANAEROBIOS  ESPORULADOS</a:t>
            </a:r>
            <a:r>
              <a:rPr b="0" i="1" lang="en-US" sz="36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Clost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781360"/>
            <a:ext cx="705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. perfringens se  asocia a mionecrosis relacionado con infecciones uterinas debido a abortos ilegal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NAEROBIOS Y ENFERMEDADES EXOG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Agent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Enfermedad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Fuente de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l. perfringen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  Mionecrosi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bjetos contaminado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deposicione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humanas en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tacto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he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botulinum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Botulismo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 conta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on esp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tetani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Tétanos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Objeto contaminado con Cl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toxigénico en contacto con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heridas preex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Difficile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Colitis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Diseminación persona 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pseudomembranos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                 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Intoxicación alimentaría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s contami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47920" y="2133720"/>
            <a:ext cx="7467480" cy="712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447920"/>
            <a:ext cx="74674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71600" y="6477120"/>
            <a:ext cx="7391520" cy="4752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6200" y="1773360"/>
            <a:ext cx="6788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os anaerobios  poseen sistemas enzimáticos que solamente funcionan en ausencia total de Oxígeno molecular (O2) logrando  obtener energía libre y sintetizar todos sus componentes estructurales sin la ayuda del O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a vía anaerobia posee un menor rendimiento energético y está sujeta a potenciales REDOX bajos (algunas enzimas solamente operan en estas condiciones) y sin la presencia  de elementos que interfieran el flujo normal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6200" y="2023920"/>
            <a:ext cx="6788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Si bien el O2 es potencialmente tóxico para cualquier forma de vida, los anaerobios son intolerantes al mismo aunque en diferentes g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Existe un espectro que va desde los extremadamente intolerantes (aerointolerantes) hasta los aerotolerantes moderados los cuales pueden sobrevivir a la presencia de O2 durante breves perí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75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.- El 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un poderosos OXIDANTE incompatible con potenciales redox bajos. 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ncentraci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 relativa de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n el aire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melaninogenicus     0,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 fragilis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  4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,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2.- 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puede interactuar con enzimas y cofactores causando inactivaciones irreversibles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85580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2246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.- Producción de sustancias tóxicas derivadas de la reducción parcial d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78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7000" y="17128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808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500280"/>
            <a:ext cx="36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H+ + 2e       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H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484344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e       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 baseline="30000">
                <a:solidFill>
                  <a:srgbClr val="663300"/>
                </a:solidFill>
                <a:latin typeface="Arial"/>
                <a:ea typeface="Times New Roman"/>
              </a:rPr>
              <a:t>-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371628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08464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2860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t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ó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xico de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H2O2  por ausencia de la enzima ca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2752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de O2- por ausencia de la enzima superóxido dismu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357720"/>
            <a:ext cx="250560" cy="95544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78280"/>
            <a:ext cx="250560" cy="95580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O2 + 4H + 4e- --&gt; H2O (reducción complet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11240" y="234936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s la medida en VOLTIOS de la tendencia espontánea a donar o recibir electrones por parte de uno de los integrantes de la pare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Una pareja REDOX posee un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Forma reducida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     Forma oxid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dador de electrones)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receptor de electrones)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Reductor &lt;---&gt; oxidante + electr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n consecuencia cuanto menor sea la cantidad de formas oxidantes menor o más bajo será el potencial REDOX</a:t>
            </a:r>
            <a:r>
              <a:rPr b="1" i="1" lang="es-ES_tradn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184464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es Redox  (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1880" y="4114800"/>
            <a:ext cx="766800" cy="0"/>
          </a:xfrm>
          <a:prstGeom prst="line">
            <a:avLst/>
          </a:prstGeom>
          <a:ln cap="sq" w="57240">
            <a:solidFill>
              <a:srgbClr val="d54f41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11240" y="243828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r lo tanto se necesitan cantidades pequeñas de agentes oxidantes como el 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lores de potencial red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 normal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2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stridium perfringens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aerobios en general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-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92888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ecesitan Potenciales Redox  (Eh) 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2:58:52Z</dcterms:created>
  <dc:creator>.</dc:creator>
  <dc:description/>
  <dc:language>en-US</dc:language>
  <cp:lastModifiedBy>cponce</cp:lastModifiedBy>
  <dcterms:modified xsi:type="dcterms:W3CDTF">2008-09-01T14:11:33Z</dcterms:modified>
  <cp:revision>130</cp:revision>
  <dc:subject/>
  <dc:title>GÉNERO STREPTOCOCCUS</dc:title>
</cp:coreProperties>
</file>