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4092-112F-43F4-BB6C-535AD7CA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B798-8F66-4595-BDF1-CDB59AE0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5F8A-2494-4E82-9790-88E05C50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3CA3-1285-42DF-965C-1902DDF1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2D13-B8CF-4622-B90D-E149724E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56F1-AB03-4A78-BB56-4A5B014D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5C95-3703-428B-898C-6484AFAF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CCA5-BB3F-4A56-AA36-DD4E26B5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BFE3-350F-43BC-B184-21B91899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77C3-D0BA-492B-8326-9053982D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2C30-311B-43FA-8C0E-D5C5C224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C3F5-C5DC-4B3D-ACB9-0C15B537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4689-EC43-4478-884F-2F19658E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CF7C-52CB-430D-A889-50137480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3024-1076-4245-8CEA-ECEC6E01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06D2-2122-45F4-A529-CC1AAB07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BBC0-B50B-499C-8D8D-8B48007E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A0F0-AF60-487B-86B4-C5BC4C04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FA2C-E25A-4FC6-89A9-F49F5C97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0AAD-3343-4909-AAC8-188C05E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5248-C937-4E0F-B79F-90F1F66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BF81-5711-4A99-9BBE-13F22C26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B359-2FE0-4BDE-904D-84338F9E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AA17-FDB0-47EC-A434-0906A1C4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F987-26F1-4743-88C1-CD269E4611E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0B4-1A98-483C-842C-C252BD3D894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2421000"/>
            <a:ext cx="6791400" cy="1678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Arial"/>
              </a:rPr>
              <a:t>INFECCIONES DE PIEL Y TEJIDOS BL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6900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ía Teresa Ulloa F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8160" y="765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É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557360"/>
            <a:ext cx="4824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epidermi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 , S. aur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 sobre piel sana o previamente dañ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948360" y="404640"/>
          <a:ext cx="1733760" cy="23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4640"/>
                    <a:ext cx="173376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55640" y="3763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923080" y="4103640"/>
            <a:ext cx="2536560" cy="1557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9640" y="4330800"/>
            <a:ext cx="540072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orma profunda y ulcerada de impéti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mpétigo que atraviesa la epider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Generalmente en glúteos de niños y ancian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65640" y="404640"/>
            <a:ext cx="3583080" cy="2094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692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LICU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nfección del folículo piloso (bloqueo del folículo o trauma local meno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ápula o pústula con un pelo al centro, rodeada de un halo eritemat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341360"/>
            <a:ext cx="42465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olículo pil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aureus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BGN,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P aeruginosa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763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Ú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2138400" cy="2144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0880" y="4365720"/>
            <a:ext cx="845820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olículo pil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aure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nfección del folículo piloso con compromiso subcutáneo (a partir de foliculiti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manipulación puede provocar bacteremia y complicaciones 2ªr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90520" y="5084640"/>
            <a:ext cx="1029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bs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532480" y="2924280"/>
            <a:ext cx="3216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8080" y="83664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ONIQU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28640"/>
            <a:ext cx="8001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bordes ungu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orma aguda),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 C. albican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orma crón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infección superficial de los bordes de la uña, aguda o cr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31208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8366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RISIP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577960"/>
            <a:ext cx="63244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dermis (con compromiso linfático cután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S. pyoge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placa eritematosa, brillante, edematosa (piel de naranja), dolorosa, de bordes netos (rodete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ferentemente en las piernas o en la c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uente en lactantes, niños pequeños y adultos may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92760" y="1566720"/>
          <a:ext cx="22719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2760" y="1566720"/>
                    <a:ext cx="22719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197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ELUL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429000"/>
            <a:ext cx="821052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hipodermis (tejido celular subcután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pyoge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placa eritematosa, edematosa, dolorosa, bordes poco defini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eneralmente existe una puerta de entrada en la piel (traumatismo, furúnculo, úlce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92000" y="2924280"/>
            <a:ext cx="6014520" cy="6300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a31a"/>
                </a:solidFill>
                <a:latin typeface="Arial"/>
              </a:rPr>
              <a:t>INFECCIONES SECUND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1181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ÚLC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168720" cy="2151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3306600" cy="2241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59280" y="1413000"/>
            <a:ext cx="505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crosis : nula llegada de AB Colonización polimicrobi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ervorio de cepas I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cteremia poco frec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veces hay compromiso ós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IE DIAB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916280"/>
            <a:ext cx="716292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Las muestras deben tomarse por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curetaje o biopsi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_tradnl" sz="1800" spc="-1" strike="noStrike" u="sng">
                <a:solidFill>
                  <a:srgbClr val="9b0986"/>
                </a:solidFill>
                <a:uFillTx/>
                <a:latin typeface="Tahoma"/>
              </a:rPr>
              <a:t>Nunca</a:t>
            </a: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 tomar muestras superficiales (tórul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No procesar piezas ampu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Tinción de gram tiene alto V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405400" y="3141720"/>
            <a:ext cx="305424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073240"/>
            <a:ext cx="71629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Los cultivos superficiales sólo miden colonización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Biopsia de tejido profundo: buen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ente 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Pseudomonas aeruginosa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3800" y="4437000"/>
            <a:ext cx="7037280" cy="138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51148" t="33103" r="22307" b="29981"/>
          <a:stretch/>
        </p:blipFill>
        <p:spPr>
          <a:xfrm>
            <a:off x="7164360" y="692280"/>
            <a:ext cx="1173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72280" y="2725560"/>
            <a:ext cx="5695920" cy="5630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Arial"/>
              </a:rPr>
              <a:t>INFECCIONES NECROT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893880"/>
            <a:ext cx="338436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GENER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700280"/>
            <a:ext cx="830592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merosas pat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ran diversidad (agentes etiológicos, mecanismos, cuadros clí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n ser causadas por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rus (Herpes vi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cteria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, S. pyogenes,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t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ngos (Dermatofitos y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and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ásito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scabie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intas clasificaciones: superficiales/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marias/secundarias/necroti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9640" y="811080"/>
            <a:ext cx="468000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FASCEÍTIS NECROT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4120" y="3765600"/>
            <a:ext cx="838188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a en un sitio de trauma leve o inaparente con una lesión inicial similar a una quemadura o equímosis, que se extiende rápidamente (24 hr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ortalidad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35-40%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buClr>
                <a:srgbClr val="9b098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b0986"/>
                </a:solidFill>
                <a:latin typeface="Tahoma"/>
              </a:rPr>
              <a:t>Toma de muestra</a:t>
            </a:r>
            <a:r>
              <a:rPr b="0" lang="es-ES_tradnl" sz="1400" spc="-1" strike="noStrike">
                <a:solidFill>
                  <a:srgbClr val="9b0986"/>
                </a:solidFill>
                <a:latin typeface="Tahoma"/>
              </a:rPr>
              <a:t>: hemocul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32720" y="549360"/>
          <a:ext cx="19666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549360"/>
                    <a:ext cx="19666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628640"/>
            <a:ext cx="59738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ascia superficial y profu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Polimicrobiana (tipo I),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tipo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actores de riesg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DM, CA, ancianos, traumatism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necrosis extensa y destrucción de tejido celular subcutáneo  y fascia y trombosis de vasos subcutáne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659480" y="4735440"/>
            <a:ext cx="33685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40000" y="765000"/>
            <a:ext cx="216072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MIOS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800" y="1484280"/>
            <a:ext cx="8458200" cy="3732120"/>
            <a:chOff x="685800" y="1484280"/>
            <a:chExt cx="8458200" cy="3732120"/>
          </a:xfrm>
        </p:grpSpPr>
        <p:sp>
          <p:nvSpPr>
            <p:cNvPr id="218" name=""/>
            <p:cNvSpPr/>
            <p:nvPr/>
          </p:nvSpPr>
          <p:spPr>
            <a:xfrm>
              <a:off x="685800" y="1484280"/>
              <a:ext cx="845820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Tejid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múscul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Agente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Clostridium perfringen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(gangrena gase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Les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infección muy grave, compromiso sistémico, alta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) </a:t>
              </a: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gangrena gaseos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ejido traumatizad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ntaminación con esporas del sue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vasión del músc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necros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4080" y="3311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3600" y="346392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5000" y="414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2920" y="4149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838080" y="3624120"/>
            <a:ext cx="1828800" cy="128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3624120"/>
                      <a:ext cx="1828800" cy="12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25" name="" descr=""/>
          <p:cNvPicPr/>
          <p:nvPr/>
        </p:nvPicPr>
        <p:blipFill>
          <a:blip r:embed="rId3"/>
          <a:srcRect l="0" t="0" r="0" b="52368"/>
          <a:stretch/>
        </p:blipFill>
        <p:spPr>
          <a:xfrm>
            <a:off x="3635280" y="4508640"/>
            <a:ext cx="5077080" cy="1935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1781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40000" y="765000"/>
            <a:ext cx="216072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MIOS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781360"/>
            <a:ext cx="845820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músc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pyogene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miositis fulmina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infección muy grave, compromiso sistémico, alta mort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miositis fulmina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romete el músculo a partir de un foco contiguo o distante (vía hematógena). Lesión cutánea similar a la fasceitis y necrosis muscular sin 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227640" y="692280"/>
          <a:ext cx="19670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692280"/>
                    <a:ext cx="19670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893880"/>
            <a:ext cx="338436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Recordemos   ¡¡¡¡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700280"/>
            <a:ext cx="830592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merosas pat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ran diversidad (agentes etiológicos, mecanismos, cuadros clí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n ser causadas por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rus (Herpes vi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cteria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, S. pyogenes,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t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ngos (Dermatofitos y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and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ásito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scabie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intas clasificaciones: superficiales/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marias/secundarias/necroti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12000" y="907920"/>
            <a:ext cx="2592360" cy="894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SUPERFICIALES</a:t>
            </a: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84880" y="3716280"/>
            <a:ext cx="2174760" cy="10378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f8a31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651640" y="1773360"/>
            <a:ext cx="3124080" cy="894960"/>
            <a:chOff x="5651640" y="1773360"/>
            <a:chExt cx="3124080" cy="894960"/>
          </a:xfrm>
        </p:grpSpPr>
        <p:sp>
          <p:nvSpPr>
            <p:cNvPr id="112" name=""/>
            <p:cNvSpPr/>
            <p:nvPr/>
          </p:nvSpPr>
          <p:spPr>
            <a:xfrm>
              <a:off x="5651640" y="1773360"/>
              <a:ext cx="31240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Epi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Impéti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Erisipe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0960" y="200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960" y="2459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895480" y="4797360"/>
            <a:ext cx="6248520" cy="1696320"/>
            <a:chOff x="2895480" y="4797360"/>
            <a:chExt cx="6248520" cy="1696320"/>
          </a:xfrm>
        </p:grpSpPr>
        <p:sp>
          <p:nvSpPr>
            <p:cNvPr id="116" name=""/>
            <p:cNvSpPr/>
            <p:nvPr/>
          </p:nvSpPr>
          <p:spPr>
            <a:xfrm>
              <a:off x="2895480" y="4797360"/>
              <a:ext cx="6248520" cy="16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Hipo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Celul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Fascia superficial y profund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Fasceítis necrotiz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Músc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Mios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3400" y="51372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5670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0760" y="6280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590920" y="549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093680"/>
          <a:ext cx="5329440" cy="381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93680"/>
                    <a:ext cx="532944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914400"/>
            <a:ext cx="3449520" cy="52056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27240" y="2379600"/>
            <a:ext cx="7016400" cy="3641400"/>
            <a:chOff x="1227240" y="2379600"/>
            <a:chExt cx="7016400" cy="3641400"/>
          </a:xfrm>
        </p:grpSpPr>
        <p:sp>
          <p:nvSpPr>
            <p:cNvPr id="125" name=""/>
            <p:cNvSpPr/>
            <p:nvPr/>
          </p:nvSpPr>
          <p:spPr>
            <a:xfrm>
              <a:off x="5905080" y="44406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2800" y="44406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aracterís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27240" y="44406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Cuadro clí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05080" y="52308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2800" y="52308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aracter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27240" y="52308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ahoma"/>
                </a:rPr>
                <a:t>Evolu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05080" y="36504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Mono-polimicrobi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2800" y="36504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Monomicrobi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27240" y="36504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ahoma"/>
                </a:rPr>
                <a:t>Etiologí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05080" y="2862360"/>
              <a:ext cx="233856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Dañ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2800" y="2862360"/>
              <a:ext cx="222228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7240" y="2862360"/>
              <a:ext cx="245556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Piel afect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5080" y="2379600"/>
              <a:ext cx="2338560" cy="48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b0986"/>
                  </a:solidFill>
                  <a:latin typeface="Tahoma"/>
                </a:rPr>
                <a:t>SECUND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2800" y="2379600"/>
              <a:ext cx="2222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b0986"/>
                  </a:solidFill>
                  <a:latin typeface="Tahoma"/>
                </a:rPr>
                <a:t>PRIM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27240" y="2379600"/>
              <a:ext cx="245556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CARACTERÍS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27240" y="2379600"/>
              <a:ext cx="701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286236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27240" y="36504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27240" y="52308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27240" y="6021000"/>
              <a:ext cx="701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7240" y="2379600"/>
              <a:ext cx="0" cy="3641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82800" y="2379600"/>
              <a:ext cx="0" cy="36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05080" y="2379600"/>
              <a:ext cx="0" cy="36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43640" y="2379600"/>
              <a:ext cx="0" cy="3641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7240" y="44406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76360" y="1916280"/>
          <a:ext cx="6324480" cy="3700440"/>
        </p:xfrm>
        <a:graphic>
          <a:graphicData uri="http://schemas.openxmlformats.org/drawingml/2006/table">
            <a:tbl>
              <a:tblPr/>
              <a:tblGrid>
                <a:gridCol w="2635200"/>
                <a:gridCol w="368928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L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E ETI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ét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lic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, Can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rúncu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oniqu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, Can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t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isipe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l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,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os ra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762120" y="1676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907920"/>
            <a:ext cx="5759280" cy="52056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Comic Sans MS"/>
              </a:rPr>
              <a:t>INFECCIONES PRIM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609300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* En general no requieren toma de muestra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042920" y="1989000"/>
          <a:ext cx="6858000" cy="3451320"/>
        </p:xfrm>
        <a:graphic>
          <a:graphicData uri="http://schemas.openxmlformats.org/drawingml/2006/table">
            <a:tbl>
              <a:tblPr/>
              <a:tblGrid>
                <a:gridCol w="2365560"/>
                <a:gridCol w="44924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L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E ETI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mad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. aerugin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matitis eczemat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lceras crónica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robacterias</a:t>
                      </a: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P aeruginosa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anaerobio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ric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u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,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tas (aer/ana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42920" y="5589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* Úlceras de decúbito, varicos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052640"/>
            <a:ext cx="6048720" cy="52056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Comic Sans MS"/>
              </a:rPr>
              <a:t>INFECCIONES SECUND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1027080"/>
            <a:ext cx="676908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a31a"/>
                </a:solidFill>
                <a:latin typeface="Comic Sans MS"/>
              </a:rPr>
              <a:t>INFECCIONES NECROT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9640" y="2583000"/>
            <a:ext cx="8280360" cy="3693240"/>
            <a:chOff x="539640" y="2583000"/>
            <a:chExt cx="8280360" cy="3693240"/>
          </a:xfrm>
        </p:grpSpPr>
        <p:sp>
          <p:nvSpPr>
            <p:cNvPr id="159" name=""/>
            <p:cNvSpPr/>
            <p:nvPr/>
          </p:nvSpPr>
          <p:spPr>
            <a:xfrm>
              <a:off x="539640" y="2583000"/>
              <a:ext cx="8136000" cy="3078000"/>
            </a:xfrm>
            <a:prstGeom prst="rect">
              <a:avLst/>
            </a:prstGeom>
            <a:solidFill>
              <a:srgbClr val="feed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360" y="2712960"/>
              <a:ext cx="8135640" cy="35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Cuadros agu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Destrucción fulminante de tejidos y gran toxicidad sisté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Alta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Etiología: Fasceítis necrotizante (inf sinérgica/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S pyogen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ngrena de Fournier (anaerobios, BGN, staphylo y enterococ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iositis 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S pyogen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ngrena gaseosa (mionecrosis por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C perfringen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4920" y="2738520"/>
            <a:ext cx="7236720" cy="764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8a31a"/>
                </a:solidFill>
                <a:latin typeface="Arial"/>
              </a:rPr>
              <a:t>INFECCIONES PRIM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08000" y="836640"/>
            <a:ext cx="4824720" cy="52056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AGENTES ET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agentes bacterianos más importantes  en estas infeccion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1905120" cy="2006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86360" y="278136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treptococcus pyo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2160" y="54421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taphylococcus aur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5762" r="0" b="0"/>
          <a:stretch/>
        </p:blipFill>
        <p:spPr>
          <a:xfrm>
            <a:off x="6372360" y="4941720"/>
            <a:ext cx="2592360" cy="16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40000" y="242100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643280" y="4941720"/>
            <a:ext cx="168624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8:51:01Z</dcterms:created>
  <dc:creator>yo</dc:creator>
  <dc:description/>
  <dc:language>en-US</dc:language>
  <cp:lastModifiedBy>Usuario</cp:lastModifiedBy>
  <dcterms:modified xsi:type="dcterms:W3CDTF">2008-09-01T20:37:50Z</dcterms:modified>
  <cp:revision>139</cp:revision>
  <dc:subject/>
  <dc:title>Presentación de PowerPoint</dc:title>
</cp:coreProperties>
</file>