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762-96EB-4524-9EFD-DE628C15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A4F-7480-4D75-81E5-13F29CD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1A96-7AAC-4932-A7FA-37F7F113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B6B-2F79-4FD2-AA72-ECA2C6E0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522-A481-4503-8434-2E84EEE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8CA-4892-45AF-8104-8A1A5A5D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AEB-3B5B-4286-BDAC-92A1C49F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010-910E-4F53-9232-3478B38F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E4A-B533-431B-B8BE-70CB26A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F2D-2712-4E15-A12B-993BE2F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5F7-9D4C-4F86-8576-7538B8F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0D5-CA34-4F05-B216-4B52EDD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38E-A264-47D8-8038-5B169D86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MINARIO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ASES 3-4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9-1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9000" y="-3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MIGDALITIS FEBRIL </a:t>
            </a:r>
            <a:br>
              <a:rPr sz="3600"/>
            </a:b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“enseñanz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s amigdalitis generalmente mejoran con tratamiento antimicrobiano en 2 a 4 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nte la persistencia del cuadro sospechar mononucleosis infecciosa y pedir examenes: hemograma, cultivo secreción faríngea (-); monotest  o  IgM  VCA de E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 etiología herpética es rara, pero debe considerarse:  persiste dolor y la lesión rebasa las amígdalas. Cultivo  para 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360" y="4680"/>
            <a:ext cx="7873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2708280"/>
            <a:ext cx="4397400" cy="637560"/>
          </a:xfrm>
          <a:prstGeom prst="rect">
            <a:avLst/>
          </a:prstGeom>
          <a:solidFill>
            <a:srgbClr val="04d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ENA MU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1520" y="0"/>
            <a:ext cx="3967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pidem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1447920"/>
            <a:ext cx="0" cy="1041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720" y="1371600"/>
            <a:ext cx="318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razone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3680" y="1295280"/>
            <a:ext cx="446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olección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seg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sistemas u órganos af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virus  sospe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raslado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en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2640" y="3278160"/>
            <a:ext cx="45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ervación</a:t>
            </a:r>
            <a:r>
              <a:rPr b="1" lang="en-US" sz="2400" spc="-1" strike="noStrike">
                <a:solidFill>
                  <a:srgbClr val="fecd8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 4ºC, -20, -80, -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" y="4729320"/>
            <a:ext cx="279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isl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cep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huevo embr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5480" y="4516560"/>
            <a:ext cx="3258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muno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-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lut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muno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Western b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4080" y="4876920"/>
            <a:ext cx="3297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R y RT-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CR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RFLP (endonucle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2520" y="4267080"/>
            <a:ext cx="32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icroscopí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60640" y="3429000"/>
            <a:ext cx="0" cy="47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76640"/>
            <a:ext cx="5724360" cy="571680"/>
          </a:xfrm>
          <a:prstGeom prst="rect">
            <a:avLst/>
          </a:prstGeom>
          <a:solidFill>
            <a:srgbClr val="f6ee4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CNICAS  DIAGNOSTICO  VI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1440" y="761760"/>
            <a:ext cx="0" cy="3352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1440" y="762120"/>
            <a:ext cx="142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8440" y="37814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440" y="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izado (U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9880" y="8380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040" y="36496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no U Ch: 978 6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RESPIRATORIA (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200" y="1413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. Huenumán, 42a, empleada doméstica en Santiago, oriunda de Temuco. El 25 Mayo 2004 viaja a Temuco y permanece una semana. Dos familiares están con fiebre y tos. Regresa a la capital y presenta decaimiento, fiebre y cef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amen físico: tº 37.8 ax., faringe congestiva +, pulmones n/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IRA alta. Estado gripal, ¿influ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Tratamiento: sin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FECCION RESPIRATORIA (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6858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 En Santiago y el resto del país se ha detectado circulación de virus Influenza A H3N2 variedad Fujian desde mediados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En su lugar de trabajo hay 2 adultos sobre 45 años y 2 estudiantes universitarios. Todos están sanos y los mayores se vacunaron contra influenza en Ab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nóstic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Influ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boratori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Detección de virus influenza por IF o ELISA (diagnóstico ráp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Control estricto de temperatura (curva febril) muestra normalización en dos días; aumenta la tos, que es más productiva, desaparece la 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lus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 S O. 43a, bioquímico U. Chile, casado con BQ., llegados en Febrero desde USA donde estuvieron becados por 2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n Mayo la hija de 8 meses presenta un cuadro de un día con vómitos y fiebre, seguido de deposiciones líquidas por 3 días, que mejora con tratamiento diet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 los 4 días el padre presenta 2 vómitos y deposiciones líquidas durante dos días. No hay antecedentes de transgresione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tiologí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bacterian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Salmonella, Shigella, E. Coli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V. Parahaemolyticu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tox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virales: rotavirus, calici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arasitari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E. histolytica, 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ámenes: ¿Rotavirus? (ELISA); ¿coprocultiv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onclusión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Arial"/>
              </a:rPr>
              <a:t>¿Saben lo suficiente sobr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innata y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humoral primaria y secund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determinar la inmunidad a un a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saber si una población está inmune contra la rubéola y la 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Se vacunarían Uds. contra el virus papilo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5560" y="-2289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DIAGNÓSTICO VIR</a:t>
            </a:r>
            <a:r>
              <a:rPr b="1" lang="es-ES_tradnl" sz="4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0033"/>
                </a:solidFill>
                <a:uFillTx/>
                <a:latin typeface="Arial"/>
              </a:rPr>
              <a:t>Diagnóstico clínico: or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Anamnesis personal (inmunosuprimidos), familiar,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Examen físico: exantemas y enantemas; respiratorio bilateral y difuso; icteri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Laboratorio general: hemograma, LCR, R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Laboratorio virológico: con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1.- Detección de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i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munodiagnóstico: ELISA, IF, I Cr, aglutinació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islamiento: cultiv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R, RT-PCR, PCR tiempo real; RFLP; s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2.- Respuesta inmune: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rologí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= Ig M/ seroco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el diagnóst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 la caracteriz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iral: ¿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ónde situarn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440" y="1628280"/>
            <a:ext cx="914544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agnóstico clínico y epidemiológico (pren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etección rápida de antígenos: IF ($), ELISA ($$), inmunocromatografía ($$)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aglutinación ($$), antigenemia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Aislamiento en cultivo celular: HEp-2 (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CR ó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RT-PCR:  RLFP, sondas moleculares,  secuenciación  ($$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erología: neutralización, ELISA, IFI; respuesta celular (LT, citokinas, o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664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oyo`s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846000" y="-1143000"/>
            <a:ext cx="10836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.I.C., 28a, administrador restaurante, sin antecedentes mórbidos (Marzo 2004).  Anamnesis por teléf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fiebre de 39ºC, odinofagia con amígdalas con exudado, adenopatía submaxilar mod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t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se indica Azitromicina 250 mg/ 12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ev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persiste fiebre sobre 38.5 y odino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hemograma: Hto 39 Hb 14; Leuc 7000 Bac 1, Seg 50, Linf 35 Mon 10; VHS 20mm/hr. Se solicita cultivo secreción faríngea e IgM VCA-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50560" y="-9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AMIGDALITIS FEBRIL (1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6120" y="5300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11be3"/>
                </a:solidFill>
                <a:latin typeface="Arial"/>
              </a:rPr>
              <a:t>Linfocitos de Dow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IGDALITIS FEBRIL (1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Tratamiento sólo sin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fiebre, sigue odinofagia y lesiones en amígd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ércol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Resultados: cultivo (-); IgM  VCA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odinofagia, persiste lesión faríngea. Cultivo  para adenovirus y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Francamente menos dolor y menos lesiones; persistió “decaido y débil” por 7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2286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0040" y="3141720"/>
            <a:ext cx="189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SV 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31:14Z</dcterms:created>
  <dc:creator>Fac. de Medicina</dc:creator>
  <dc:description/>
  <dc:language>en-US</dc:language>
  <cp:lastModifiedBy>Fac. de Medicina</cp:lastModifiedBy>
  <dcterms:modified xsi:type="dcterms:W3CDTF">2008-10-29T11:57:30Z</dcterms:modified>
  <cp:revision>10</cp:revision>
  <dc:subject/>
  <dc:title>SEMINARIO  CLASES 3-4-5</dc:title>
</cp:coreProperties>
</file>