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2640-F458-4427-BB9A-A4BBCB9F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D27C-4FFF-4823-A145-E79A7108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8733-6930-4855-9121-26AC18C3B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C8F6-9A48-46A0-AC1E-21913BAB4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D92A-1AB2-474F-8555-97EA2BFC6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A5D9-794F-4CCC-90DE-234D9489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DB5B-7C70-418C-92E3-CDE7F4AF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A595-4D06-45C2-AF03-9E85FA25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0BEA-97ED-4FEC-A797-BC8564D4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FD35-04E2-42AA-9B2F-03DC1755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A5FA-5C8E-47EF-B2E2-26AB568F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4DA6-FFFF-4BB7-94B0-97963D1F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6915-4C31-4DD3-A7BA-E88510E9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D09C-AD68-4C1D-BCBB-948043B0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7956-AC0B-4BB1-81DF-2BA1952E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C1C2-5356-4DD6-B8BE-17F347C48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7A57-3751-4021-A24B-7F13FF490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6E52-5717-40D5-9D2A-A2505D19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997A-132C-4F0A-9CA9-66E96012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0605-A7FD-403F-A12C-FF759FD1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1FF9-1186-404C-A0D4-2175DBCB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B35D-4532-4D90-BE2D-18F8B9B9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EA79-BCB7-46E8-9138-462CAB55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DB4E-CE11-43DC-95D8-9E512424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82C2-2905-4F5F-8D72-6A28017EB12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DD5F-178F-4F26-89C2-A902F73C8B4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Teorías Psicológicas y Sociales del Envejecimiento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4717800"/>
            <a:ext cx="64008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.O Alicia Valdés Roj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0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7617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eoría de la Continuida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26920" y="3789000"/>
            <a:ext cx="795816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esar de los cambios, una alta proporción de personas mayores muestran consistencia a través del tiempo en el perfil de sus actividad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2376720" cy="2376360"/>
          </a:xfrm>
          <a:prstGeom prst="rect">
            <a:avLst/>
          </a:prstGeom>
          <a:ln w="9360">
            <a:solidFill>
              <a:srgbClr val="cca5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bbd71"/>
                </a:solidFill>
                <a:latin typeface="Arial"/>
              </a:rPr>
              <a:t>Teoría de la Continuida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 existe ruptura radical entre la edad adulta y la tercera edad, se basa 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paso a la vejez es una prolongación de experiencias, proyectos y hábitos de la vida. La personalidad y sistema de valores se mantienen prácticamente intact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l envejecer los individuos aprenden a utilizar  estrategias de adaptación que les ayudan a reaccionar favorablemente ante las dificultades de la vi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eoría de la Continuida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continuidad sirve de base al proceso de adaptación al cambio mediante dos mecanism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deseo de continuidad impulsa l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paración al camb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deseo de continuidad como meta para la adaptación (enfrentar el cambio con preservación de sus vida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796000" y="2708280"/>
            <a:ext cx="29638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bbd71"/>
                </a:solidFill>
                <a:latin typeface="Arial"/>
              </a:rPr>
              <a:t>Teorías Sociales y Vejez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gún Comfort (1977), 75% de los cambios relacionados con la edad pueden ser atribuidos al envejecimiento social y son producto de nuestras creencias, prejuicios y conceptos erróneos sobre la vejez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7877" t="7541" r="0" b="0"/>
          <a:stretch/>
        </p:blipFill>
        <p:spPr>
          <a:xfrm>
            <a:off x="5076720" y="1916280"/>
            <a:ext cx="35766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dbbd71"/>
                </a:solidFill>
                <a:latin typeface="Arial"/>
              </a:rPr>
              <a:t>Teorías Sociales y Vejez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000" y="1413000"/>
            <a:ext cx="7848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vita considerar a la vejez como un fenómeno forzado a encajar en un proceso de medicaliza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ermite integrar los envejecimientos desiguales, Y DIFERENCIADOS según el género, estrato social, aspectos culturales y de desarrollo económic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1"/>
          <a:stretch/>
        </p:blipFill>
        <p:spPr>
          <a:xfrm>
            <a:off x="3348000" y="4149720"/>
            <a:ext cx="2376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eorías Social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55280" y="2204640"/>
            <a:ext cx="353844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vincul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cult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erniz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rcRect l="6551" t="11770" r="0" b="0"/>
          <a:stretch/>
        </p:blipFill>
        <p:spPr>
          <a:xfrm>
            <a:off x="4788000" y="1484280"/>
            <a:ext cx="322560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dbbd71"/>
                </a:solidFill>
                <a:latin typeface="Arial"/>
              </a:rPr>
              <a:t>Teoría de la Desvinculación </a:t>
            </a:r>
            <a:br>
              <a:rPr sz="4000"/>
            </a:br>
            <a:r>
              <a:rPr b="1" lang="es-ES" sz="4000" spc="-1" strike="noStrike">
                <a:solidFill>
                  <a:srgbClr val="dbbd71"/>
                </a:solidFill>
                <a:latin typeface="Arial"/>
              </a:rPr>
              <a:t>o del Desapego </a:t>
            </a:r>
            <a:r>
              <a:rPr b="1" lang="es-ES" sz="2800" spc="-1" strike="noStrike">
                <a:solidFill>
                  <a:srgbClr val="dbbd71"/>
                </a:solidFill>
                <a:latin typeface="Arial"/>
              </a:rPr>
              <a:t>(Cummings, 1961)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066920" y="1685520"/>
            <a:ext cx="461484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sociedad y el individuo (en forma interactiva), que envejece tienen una misma meta: la desvinculación del individuo de la socie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funcional  (prepara para la muerte y permite la sustitución generacional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014480" y="1600200"/>
            <a:ext cx="2774880" cy="4781520"/>
          </a:xfrm>
          <a:prstGeom prst="rect">
            <a:avLst/>
          </a:prstGeom>
          <a:ln w="57240">
            <a:solidFill>
              <a:srgbClr val="8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bbd71"/>
                </a:solidFill>
                <a:latin typeface="Arial"/>
              </a:rPr>
              <a:t>Teoría de la Desvinculació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"...El envejecimiento normal se acompaña de un distanciamiento o "desvinculación" recíproco entre las personas que envejecen y los miembros del sistema social al que pertenecen -desvinculación provocada ya sea por el mismo interesado o por los otros miembros de este sistema."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considera la muerte como la desvinculación total, de esta manera, se considera esta etapa como el momento en que la persona reorganiza sus proyectos en función del sentido y el tiempo que le queda por vivi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eoría de la Subcultur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vejez conlleva cierto aislamiento (por pérdida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 viejos poseerían rasgos característicos  de un grupo aisl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664160" y="2306520"/>
            <a:ext cx="4017960" cy="3111480"/>
          </a:xfrm>
          <a:prstGeom prst="rect">
            <a:avLst/>
          </a:prstGeom>
          <a:ln w="9360">
            <a:solidFill>
              <a:srgbClr val="cca5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eoría de la Modernizació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259160" cy="34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posición social de los mayores es inversamente proporcional al grado de industrialización (tecnologízación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31720" y="2286000"/>
            <a:ext cx="3659400" cy="2743200"/>
          </a:xfrm>
          <a:prstGeom prst="rect">
            <a:avLst/>
          </a:prstGeom>
          <a:ln w="57240">
            <a:solidFill>
              <a:srgbClr val="cca500"/>
            </a:solidFill>
            <a:miter/>
          </a:ln>
        </p:spPr>
      </p:pic>
      <p:sp>
        <p:nvSpPr>
          <p:cNvPr id="206" name=""/>
          <p:cNvSpPr/>
          <p:nvPr/>
        </p:nvSpPr>
        <p:spPr>
          <a:xfrm>
            <a:off x="1089000" y="6240600"/>
            <a:ext cx="752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5638680"/>
            <a:ext cx="8686800" cy="459720"/>
          </a:xfrm>
          <a:prstGeom prst="rect">
            <a:avLst/>
          </a:prstGeom>
          <a:solidFill>
            <a:srgbClr val="663300"/>
          </a:solidFill>
          <a:ln w="9360">
            <a:solidFill>
              <a:srgbClr val="cc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Ninguna teoría psico-social explica el proceso de envejecimi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7467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560" y="981000"/>
            <a:ext cx="7797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ahoma"/>
              </a:rPr>
              <a:t>¿PORQUÉ ENVEJECEMOS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eoría de la Modernizació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teoría de la modernización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, destaca la situación actual del viejo caracterizada por ser relegado socialmente de manera considerable, siendo que en las sociedades tradicionales el viejo gozaba de un estatus elevado y era reconocido por su experiencia y sabidurí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s innovaciones tecnológicas, el desarrollo industrial y los nuevos valores educativos y sociales han ido paulatinamente despojando al viejo de su estatus anterior. Los progresos en el campo de la prevención y la salud han aumentado la esperanza de vida de la población lo que ha repercutido en el mayor incremento de adultos mayores y por consecuencia, de sus necesidades sociales y de salud. Lo anterior se traduce en una mayor carga social y un deterioro en sus condiciones de vid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"/>
          <p:cNvPicPr/>
          <p:nvPr/>
        </p:nvPicPr>
        <p:blipFill>
          <a:blip r:embed="rId1"/>
          <a:srcRect l="21618" t="27751" r="20437" b="12333"/>
          <a:stretch/>
        </p:blipFill>
        <p:spPr>
          <a:xfrm>
            <a:off x="1116000" y="981000"/>
            <a:ext cx="7080120" cy="54910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Teoría de la Modernización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eorías del Envejecimien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514480" y="1628640"/>
            <a:ext cx="3629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Biológ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sicológ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o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ceptos erróneos sobre la vejez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4438440" cy="3002040"/>
          </a:xfrm>
          <a:prstGeom prst="rect">
            <a:avLst/>
          </a:prstGeom>
          <a:ln w="57240">
            <a:solidFill>
              <a:srgbClr val="808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1317600" y="6240600"/>
            <a:ext cx="729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5300640"/>
            <a:ext cx="8458200" cy="1068840"/>
          </a:xfrm>
          <a:prstGeom prst="rect">
            <a:avLst/>
          </a:prstGeom>
          <a:solidFill>
            <a:srgbClr val="f8a500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inguna por sí sola explicará adecuadamente el envejecimi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eorías Psicológica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105520" y="1915920"/>
            <a:ext cx="403848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l Desarrol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 la Activ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 la Continu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" y="2016000"/>
            <a:ext cx="454644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bbd71"/>
                </a:solidFill>
                <a:latin typeface="Arial"/>
              </a:rPr>
              <a:t>TEORÍA DEL DESARROLL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010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ahoma"/>
              </a:rPr>
              <a:t>Erikson 1950 Plantea la etapa de la vejez desde los 65 años en adelante, contemplando factores individuales y culturale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ahoma"/>
              </a:rPr>
              <a:t>Su teoría menciona que la crisis esencial es </a:t>
            </a:r>
            <a:r>
              <a:rPr b="0" i="1" lang="es-ES_tradnl" sz="3200" spc="-1" strike="noStrike">
                <a:solidFill>
                  <a:srgbClr val="dbbd71"/>
                </a:solidFill>
                <a:latin typeface="Tahoma"/>
              </a:rPr>
              <a:t>integridad</a:t>
            </a:r>
            <a:r>
              <a:rPr b="0" lang="es-ES_tradnl" sz="3200" spc="-1" strike="noStrike">
                <a:solidFill>
                  <a:srgbClr val="dbbd71"/>
                </a:solidFill>
                <a:latin typeface="Tahoma"/>
              </a:rPr>
              <a:t> v/s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_tradnl" sz="3200" spc="-1" strike="noStrike">
                <a:solidFill>
                  <a:srgbClr val="dbbd71"/>
                </a:solidFill>
                <a:latin typeface="Tahoma"/>
              </a:rPr>
              <a:t>desesperación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105680" y="4724280"/>
            <a:ext cx="203832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90720" y="1994040"/>
            <a:ext cx="7162560" cy="15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Las principales virtudes son la </a:t>
            </a:r>
            <a:r>
              <a:rPr b="1" i="1" lang="es-ES_tradnl" sz="3000" spc="-1" strike="noStrike">
                <a:solidFill>
                  <a:srgbClr val="dbbd71"/>
                </a:solidFill>
                <a:latin typeface="Times New Roman"/>
              </a:rPr>
              <a:t>prudencia</a:t>
            </a:r>
            <a:r>
              <a:rPr b="0" i="1" lang="es-ES_tradnl" sz="3000" spc="-1" strike="noStrike">
                <a:solidFill>
                  <a:srgbClr val="dbbd71"/>
                </a:solidFill>
                <a:latin typeface="Times New Roman"/>
              </a:rPr>
              <a:t> </a:t>
            </a: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y   la </a:t>
            </a:r>
            <a:r>
              <a:rPr b="1" i="1" lang="es-ES_tradnl" sz="3000" spc="-1" strike="noStrike">
                <a:solidFill>
                  <a:srgbClr val="dbbd71"/>
                </a:solidFill>
                <a:latin typeface="Times New Roman"/>
              </a:rPr>
              <a:t>sabiduría</a:t>
            </a:r>
            <a:r>
              <a:rPr b="1" lang="es-ES_tradnl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bbd71"/>
                </a:solidFill>
                <a:latin typeface="Times New Roman"/>
              </a:rPr>
              <a:t>TEORÍA DEL DESARROLL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059280" y="2997360"/>
            <a:ext cx="345600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eoría de la Activida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00720" y="1699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rimera teoría R.W. Havighurst y R. Albrecht, 1953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ctividad como base del envejecimiento saluda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2802240" cy="4248000"/>
          </a:xfrm>
          <a:prstGeom prst="rect">
            <a:avLst/>
          </a:prstGeom>
          <a:ln w="76320">
            <a:solidFill>
              <a:srgbClr val="f8a5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bbd71"/>
                </a:solidFill>
                <a:latin typeface="Arial"/>
              </a:rPr>
              <a:t>TEORÍA DE LA ACTIVIDA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ahoma"/>
              </a:rPr>
              <a:t>Cuanto más activa se mantenga la gente anciana, podrá envejecer de manera más satisfactoria.</a:t>
            </a:r>
            <a:r>
              <a:rPr b="0" lang="es-ES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ahoma"/>
              </a:rPr>
              <a:t>Las personas más adaptadas y que sobreviven más años en mejor estado, son aquellas que realizan más activida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ahoma"/>
              </a:rPr>
              <a:t>Se sitúa la actividad como base del envejecimiento saludabl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bbd71"/>
                </a:solidFill>
                <a:latin typeface="Arial"/>
              </a:rPr>
              <a:t>Teoría de la Activida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Revisión por Lemon, Bengston y Peterson, 1972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n un comienzo expone que lo mas importante es estar socialmente involucrado, indiferente al tipo de actividad que se desempeñe, enfocándose en lo cuantitativo primordialm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n 1972, Lemon propone que para el sujeto lo mas importante son las actividades que tienen sentido para él y no la actividad por sí misma, no es importante la cantidad de interacciones que mantenga si no su significa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8a500"/>
                </a:solidFill>
                <a:latin typeface="Tahoma"/>
              </a:rPr>
              <a:t>No es la actividad por sí misma lo que es provechoso, sino lo que para el individuo tiene sentido.</a:t>
            </a:r>
            <a:r>
              <a:rPr b="1" lang="es-ES" sz="2000" spc="-1" strike="noStrike">
                <a:solidFill>
                  <a:srgbClr val="f8a5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4:53:40Z</dcterms:created>
  <dc:creator>Terapia</dc:creator>
  <dc:description/>
  <dc:language>en-US</dc:language>
  <cp:lastModifiedBy>Fac .de Medicina</cp:lastModifiedBy>
  <dcterms:modified xsi:type="dcterms:W3CDTF">2008-09-09T20:49:03Z</dcterms:modified>
  <cp:revision>44</cp:revision>
  <dc:subject/>
  <dc:title>Concepto de envejecimiento</dc:title>
</cp:coreProperties>
</file>