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15C-F06C-439E-849A-F5E46DB2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131-6D39-4D3F-941E-041E9324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0B6-0B1A-40B5-A579-4E0A3726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D6D-3623-4837-BC46-64AF03D5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14AF-BBAE-4A0A-AB7D-E4B19279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749E-000E-46CC-AAD8-8B2F6389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5A67-CECC-4F61-804F-280583E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546B-969F-4951-902F-A5C2AD53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F055-691F-4BC1-A723-531DD80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3BBA-2990-4273-9C5A-6435DF7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7C8-6EFA-4416-ADA3-1860C39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00D-5F2A-41E8-87BD-3C7C1E1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1746-BEF7-4A53-8A2D-4F49E51C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6635-4B6A-4AAD-85B3-6EC5354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7ED7-8E2C-4272-BCE0-D03D9013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EF5F-D9AC-4DAB-B2F1-4CE813EF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ABC2-5913-4C00-803B-A8474E39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43C-C672-4A18-9C10-B719CC9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AFA-B858-40A4-AF92-CE5FB2D1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BDA-731D-47B3-8B52-7A30D90C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1E8-66AA-4E97-9387-74196138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DDA-4534-4984-9E79-5E28D5B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3FF-58C5-4FB5-8E31-12850B2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EE9-595C-4F83-A851-7DEB731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675F-7738-45C1-838E-8E7E01953A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24DA-ED8C-4BA8-96DD-1FD4400F60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La diversidad en las formas de envejecer es cuestión de suert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be7960"/>
                </a:solidFill>
                <a:latin typeface="Tahoma"/>
              </a:rPr>
              <a:t>**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Cómo prevenir el envejecimiento patológico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be7960"/>
                </a:solidFill>
                <a:latin typeface="Tahoma"/>
              </a:rPr>
              <a:t>**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Qué se puede hacer para envejecer con vitalida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¿Me cuesta camin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arti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trofia muscular por desu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Ostrucción ar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urológicas (AVE, Parkin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blemas en los pi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callosidades, deform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Mentales: Demencia y Depres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ciones sensoriales: visual, vértig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vención: Caminar (45 minutos/d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ducación: factores intrínsecos y extrínse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valuar e intervenir seguridad domicili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ivienda en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ormito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añ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c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stuario y cal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so de AT para marcha, cinturón de segurida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prender a levant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ducar riesgos en la cal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tropell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ducación v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Barreras arquitectó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ñalética visual y acústic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fectos del Ejercicio Sobre las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as que incluyen ejercicios de equilibrio, fuerza, educación y manejo de factores de riesgo de caídas, disminuyen significativamente el ries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100" spc="-1" strike="noStrike">
                <a:solidFill>
                  <a:srgbClr val="ffffcc"/>
                </a:solidFill>
                <a:latin typeface="Tahoma"/>
              </a:rPr>
              <a:t>Autocuidado </a:t>
            </a:r>
            <a:br>
              <a:rPr sz="5100"/>
            </a:br>
            <a:r>
              <a:rPr b="0" lang="es-CL" sz="5100" spc="-1" strike="noStrike">
                <a:solidFill>
                  <a:srgbClr val="ffffcc"/>
                </a:solidFill>
                <a:latin typeface="Tahoma"/>
              </a:rPr>
              <a:t>del Adulto Mayor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O Alicia Valdés Ro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Tahoma"/>
              </a:rPr>
              <a:t>Autocuidado del Adulto May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511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idado 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fe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gn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idado del Cuer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Nutr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o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iesgo de caí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1.  Ejercicio </a:t>
            </a:r>
            <a:r>
              <a:rPr b="0" i="1" lang="es-CL" sz="4000" spc="-1" strike="noStrike">
                <a:solidFill>
                  <a:srgbClr val="ffffff"/>
                </a:solidFill>
                <a:latin typeface="Tahoma"/>
              </a:rPr>
              <a:t>“El Mejor Remedio”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2.  Nutrició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aluar y educar conocimientos básicos nutricionales para el A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mportancia de alimentación para mantenimiento de la salud del 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nciones de las sustancias nutritivas en el organ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imentos y sus nutri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es nutricionales: cantidad y frecuencia del consumo de ali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ndiciones que impone el envejecimiento al 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daptar (aplicar) alimentación a nuevos conoci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3.  Cuidado de la Boc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8598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bios gusta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Higiene 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en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da d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pillado de 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jercicios orofac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4.  Cuidado de los P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ulación del riego sanguín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sajes por fricción  (cremas activadoras de circu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vitar pre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vitar calcetín o media con cos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Zap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Zonas almohadilladas (talón, empeine interi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lexible en la zona delant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cón de material anti impactos y altura menos de 2 cm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ig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ratamiento de callosidades y deform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6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cc"/>
                </a:solidFill>
                <a:latin typeface="Tahoma"/>
              </a:rPr>
              <a:t>Caídas en los últimos 12 meses. Estudio SABE: Chile (1999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19320" y="2133720"/>
          <a:ext cx="7467480" cy="43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46748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uidado del Cuerpo: </a:t>
            </a:r>
            <a:br>
              <a:rPr sz="3200"/>
            </a:b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5.  Riesgo de Caíd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valuar riesgo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st de Tinet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r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lib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estionario de Dowton (autoaplic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ídas prev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cam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éficits sensor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do de conci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r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24:28Z</dcterms:created>
  <dc:creator>Fac. de Medicina</dc:creator>
  <dc:description/>
  <dc:language>en-US</dc:language>
  <cp:lastModifiedBy>Fac. de Medicina</cp:lastModifiedBy>
  <dcterms:modified xsi:type="dcterms:W3CDTF">2008-09-30T19:53:06Z</dcterms:modified>
  <cp:revision>13</cp:revision>
  <dc:subject/>
  <dc:title>Diapositiva 1</dc:title>
</cp:coreProperties>
</file>