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267D-6848-4BEB-8324-C53C4610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D5F6-3D23-4199-9FF1-B395471F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BEA9-24BE-43D7-A55B-5E5566906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AB46-8DC0-490D-BB24-425E630CD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1E28-AEC8-41BA-A296-4E334A50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A51A-EBD5-4287-9C60-2EE47971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7E6E-78D8-4E3B-971F-51351FC4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7A72-F7D4-477F-9364-EB745F9F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A925-A2BD-4B5B-B173-4CDE0585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87AC-923E-4EDB-8BB2-4AD8649C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F6D5-BD55-4A34-8B39-1D98FFB9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FDCE-459E-44FC-B5F4-02FC83B5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C8B4-056F-4CF8-856B-6030EFBD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32F5-FC10-4E59-8AEF-FC24A77E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5C5E-83B1-4D26-91DE-9D24F68B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0230-8D85-4A22-97F9-B622D6368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98F7-C291-445B-BEDE-36496FAB8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C723-718D-405A-B18D-1E87C8CB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6AFF-1E0D-4FBC-AAD2-33CB96C6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B864-C702-4397-9A9F-82D62FDF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C7E1-09E5-4AA0-B378-0D3C9DC2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D3F7-30F1-48C4-B0FE-54D4B96D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B0AE-66EF-4E57-9368-E718DACE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15A4-6818-45FB-AA3D-4CEB469F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6800-48C1-4B9E-8742-90087B2457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4209-9C99-4690-8FCE-DEDB02C654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images.google.cl/imgres?imgurl=http://66.240.252.2/___dynimg/notas/d445_WW95csub6thrcb8w.jpg&amp;imgrefurl=http://www.surenio.com.ar/hits.php%3Fs%3DWW95csu692tvw59u%24WW95aqbyaffg9199%24%24index.php%241&amp;h=356&amp;w=445&amp;sz=33&amp;hl=es&amp;start=4&amp;um=1&amp;tbnid=rcHuQYblJpng_M:&amp;tbnh=102&amp;tbnw=127&amp;prev=/images%3Fq%3Dadultos%2Bmayores%26svnum%3D10%26um%3D1%26hl%3Des%26sa%3D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images.google.cl/imgres?imgurl=http://www.paho.org/Images/DD/PIN/persp19_06.jpg&amp;imgrefurl=http://vladomirosevic.blogspot.com/2006/01/abuelos-historia-y-remix.html&amp;h=426&amp;w=300&amp;sz=87&amp;hl=es&amp;start=10&amp;um=1&amp;tbnid=tYfoIpzep4Jl-M:&amp;tbnh=126&amp;tbnw=89&amp;prev=/images%3Fq%3Dadultos%2Bmayores%26svnum%3D10%26um%3D1%26hl%3Des%26sa%3D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84480" y="404640"/>
            <a:ext cx="1159200" cy="1944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i="1" lang="en-US" sz="3600" spc="-1" strike="noStrike">
                <a:solidFill>
                  <a:srgbClr val="b7e7ff"/>
                </a:solidFill>
                <a:latin typeface="Trebuchet MS"/>
              </a:rPr>
              <a:t>“</a:t>
            </a:r>
            <a:r>
              <a:rPr b="0" i="1" lang="en-US" sz="3600" spc="-1" strike="noStrike">
                <a:solidFill>
                  <a:srgbClr val="b7e7ff"/>
                </a:solidFill>
                <a:latin typeface="Trebuchet MS"/>
              </a:rPr>
              <a:t>Estudio sobre el buen envejecimiento: programa de prevención de riesgos para adultos mayores”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6093000"/>
            <a:ext cx="640080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rebuchet MS"/>
              </a:rPr>
              <a:t>Análisi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1413000"/>
            <a:ext cx="889308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Las limitaciones del estudio radican en que los resultados pueden no ser generalizables a AM que vivan en otras condiciones (por ejemplo; residencia para AM) o de otro estrato socioeconóm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Una gran fortaleza del estudio es que sus resultados pueden extenderse a AM provenientes de diferentes grupos étn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rebuchet MS"/>
              </a:rPr>
              <a:t>Análisis</a:t>
            </a:r>
            <a:br>
              <a:rPr sz="28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50920" y="984240"/>
            <a:ext cx="8893080" cy="60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¿Cómo se explican los resultados superiores obtenidos por la intervención de T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Relación entre Ocupación y Salud, sostenida por evidencia obtenida en revisiones sistemáticas de literatura exist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En contraste con el grupo “social”, la intervención de TO tuvo un fuerte componente individual, a pesar de haber sido realizada mayoritariamente en sesiones grup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La intervención de TO contiene instrucciones específicas de cómo enfrentar barreras presentes en la vida cotidia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cc00"/>
              </a:solidFill>
              <a:latin typeface="Trebuchet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95280" y="1158840"/>
            <a:ext cx="8569440" cy="60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Antecedentes científicos y explicación de la raciona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mento 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alencia de EC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acto envejecimiento en C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vejecimiento exito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erosos y distintos desafí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uesto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a de intervención en TO, centrado en maximizar independencia y potenciar funcionalidad, puede ser una buena intervención de carácter preventivo en población vulnerabl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80000" y="2421000"/>
            <a:ext cx="280836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79280" y="1628640"/>
            <a:ext cx="856944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Criterios de selección y lugar de recolección de da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bres, mujeres; multiétnicos; 60 y +; viven independ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erios exclusión: incapacidad vida independiente; marcada deme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luye AM hablantes de lengua mandar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ejos habitacionales subsidiados para 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versos métodos de reclutami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48360" y="260280"/>
            <a:ext cx="1729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0920" y="189000"/>
            <a:ext cx="8893080" cy="73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ujetos elegibles asignados a 3 grupo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de TO (Programa de Rediseño de Vida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ontrol de actividades sociales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ontrol sin intervención. Periodo de 9 meses de tratamien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rotocolo de intervención basado en ocupación como benéfica para la salu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Intervención basada en aprendizaje didáctico, experiencia directa y análisis ocupacional individ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Unidades modulares en diversos tem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rebuchet MS"/>
              </a:rPr>
              <a:t>Seguridad en la comun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rebuchet MS"/>
              </a:rPr>
              <a:t>Transpor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rebuchet MS"/>
              </a:rPr>
              <a:t>Protección articu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rebuchet MS"/>
              </a:rPr>
              <a:t>Ayudas técn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rebuchet MS"/>
              </a:rPr>
              <a:t>Conservación de energí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rebuchet MS"/>
              </a:rPr>
              <a:t>Ejerci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rebuchet MS"/>
              </a:rPr>
              <a:t>Nutri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1413000"/>
            <a:ext cx="889308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rebuchet MS"/>
              </a:rPr>
              <a:t>Grupo de TO: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10 AM; 1 sesión semanal de 2 horas; 9 horas totales de intervención individual a lo largo de los 9 meses (1 hora mensual). Dirigida por TO entren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rebuchet MS"/>
              </a:rPr>
              <a:t>Grupo control de actividad social: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10 AM; 1 sesión semanal de 2.25 horas; sin intervención individual. Dirigida por no profes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rebuchet MS"/>
              </a:rPr>
              <a:t>Grupo Control sin tratamiento: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no reciben ningú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ipo de interven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003640" y="4365720"/>
            <a:ext cx="3456000" cy="2303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0920" y="1413000"/>
            <a:ext cx="8893080" cy="51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Objetivos Específicos e Hipóte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rebuchet MS"/>
              </a:rPr>
              <a:t>Objetivo: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Evaluar efectividad de la TO preventiva diseñada específicamente para grupos de AM multiétnicos y que viven independientemente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rebuchet MS"/>
              </a:rPr>
              <a:t>Hipótesis: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la participación en un programa de TO preventivo afecta positivamente la salud física, el funcionamiento cotidiano, y el bienestar psicosocial de los adultos mayor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ES_tradnl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549360"/>
            <a:ext cx="8893080" cy="77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Medidas de resul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Línea base inicial y a los 9 meses de interven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Cuestionarios autoaplic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Cuestionario de Estatus Funcional (Jette &amp; Cleary, 1987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Índice Z de Satisfacción de Vida (Wood, Wylie &amp; Sheafor, 1969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Escala de Depresión del Centro de Estudios Epidemiológicos – CES (Radloff, 1977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Estudio de Resultados Médicos (MOS). Formato abreviado de la encuesta de salud general (Stewart, Hays &amp; Ware, 1988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Cuestionario de Estado de Salud Funcional. Formato abreviado SF 36 (RAND SF-36; Hays et al., 1993; Ware &amp; Sherbourne, 1992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ES_tradnl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50920" y="1413000"/>
            <a:ext cx="889308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Flujo de participantes en cada pa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24000" y="2205000"/>
            <a:ext cx="8460360" cy="4374000"/>
            <a:chOff x="324000" y="2205000"/>
            <a:chExt cx="8460360" cy="4374000"/>
          </a:xfrm>
        </p:grpSpPr>
        <p:cxnSp>
          <p:nvCxnSpPr>
            <p:cNvPr id="110" name="_s26639"/>
            <p:cNvCxnSpPr>
              <a:stCxn id="111" idx="0"/>
              <a:endCxn id="112" idx="2"/>
            </p:cNvCxnSpPr>
            <p:nvPr/>
          </p:nvCxnSpPr>
          <p:spPr>
            <a:xfrm flipV="1" rot="16200000">
              <a:off x="5596920" y="2910960"/>
              <a:ext cx="875520" cy="2961720"/>
            </a:xfrm>
            <a:prstGeom prst="bentConnector3">
              <a:avLst>
                <a:gd name="adj1" fmla="val 129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26638"/>
            <p:cNvCxnSpPr>
              <a:stCxn id="114" idx="0"/>
              <a:endCxn id="112" idx="2"/>
            </p:cNvCxnSpPr>
            <p:nvPr/>
          </p:nvCxnSpPr>
          <p:spPr>
            <a:xfrm flipV="1">
              <a:off x="4554000" y="3954240"/>
              <a:ext cx="3240" cy="875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26637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2635560" y="2910960"/>
              <a:ext cx="875520" cy="2961720"/>
            </a:xfrm>
            <a:prstGeom prst="bentConnector3">
              <a:avLst>
                <a:gd name="adj1" fmla="val 129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26633"/>
            <p:cNvSpPr/>
            <p:nvPr/>
          </p:nvSpPr>
          <p:spPr>
            <a:xfrm>
              <a:off x="3285000" y="2205000"/>
              <a:ext cx="2538000" cy="1749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Trebuchet MS"/>
                </a:rPr>
                <a:t>Sujetos elegibles (N=373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Trebuchet MS"/>
                </a:rPr>
                <a:t>No Aleatorizados (n=12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Trebuchet MS"/>
                </a:rPr>
                <a:t>Aletorizados (N=361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26634"/>
            <p:cNvSpPr/>
            <p:nvPr/>
          </p:nvSpPr>
          <p:spPr>
            <a:xfrm>
              <a:off x="324000" y="4829400"/>
              <a:ext cx="2538000" cy="1749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Tratados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2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Seguidos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2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Pérdidas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2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Completan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0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T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26635"/>
            <p:cNvSpPr/>
            <p:nvPr/>
          </p:nvSpPr>
          <p:spPr>
            <a:xfrm>
              <a:off x="3285000" y="4829400"/>
              <a:ext cx="2538000" cy="1749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2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2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2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Soci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26636"/>
            <p:cNvSpPr/>
            <p:nvPr/>
          </p:nvSpPr>
          <p:spPr>
            <a:xfrm>
              <a:off x="6246360" y="4829400"/>
              <a:ext cx="2538000" cy="1749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1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1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0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Sin Intervenció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rebuchet MS"/>
              </a:rPr>
              <a:t>Resultado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1413000"/>
            <a:ext cx="8893080" cy="56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 encontraron beneficios significativos en la intervención de TO para varios dominios de salud y calidad de v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Mientras que en los grupos control se observa una tendencia a la declinación, en el de TO se observan mejorías o bien una tendencia a una menor declin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El análisis estadístico realizado en los 3 grupos, en las 11 variables observadas, encuentra que la dirección del efecto favorece a la intervención de TO en el total de variables comparado con el grupo “social”, y en 10 variables comparado con el grupo control no tra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21:09:57Z</dcterms:created>
  <dc:creator>mele</dc:creator>
  <dc:description/>
  <dc:language>en-US</dc:language>
  <cp:lastModifiedBy>WinuE</cp:lastModifiedBy>
  <dcterms:modified xsi:type="dcterms:W3CDTF">2008-11-04T15:23:46Z</dcterms:modified>
  <cp:revision>119</cp:revision>
  <dc:subject/>
  <dc:title>Seminario “Estudio sobre el buen envejecimiento: programa de prevención de riesgos para adultos mayores”</dc:title>
</cp:coreProperties>
</file>