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7F9-C40F-41A3-9766-60158BF3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16D-E005-437B-921F-3651C94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13C-C353-4A1C-838B-895B7D8D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367-B083-48EA-B6DF-3091B7A5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E56B-E298-456C-B0CA-2D5EB759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B2C8-B274-4A43-B84B-7617B1DE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118E-8F77-4E44-9336-241A7489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2C25-87FC-4E80-9E89-6C79B67A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2D8D-47C0-4485-86E4-684DAD4C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CAB7-1CF5-43F8-9710-53342578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986E-7ABE-49C5-AC8E-83599E59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199-E6E9-4AC3-AC64-C8AFDAB2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914F-590F-4A68-B3F3-C1BF76C6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4B6E-7EDA-4DBE-815E-CF5F6C02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8897-D95B-4A5A-8CBE-E047E28B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46D5-F752-4861-89D6-7D4925AD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7A0A-6C04-422F-8EAD-C6D62C3D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3FF-76C9-4182-A517-7594E0DC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9B6-33BB-423E-AF15-61D504B5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4DC-FF33-4940-B274-CF62C2BA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CE7-120C-4380-92D7-C6417209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D42-BE29-4EBF-80A6-FE86854E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1CC-3B97-46AF-8E2D-64B1C977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40A-C87B-4BEC-BF8B-632EF886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1BB3-192F-426F-8C4D-DDE08066A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22C3-8825-4C89-A48A-437EE2174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A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. Edda Bus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1676520"/>
            <a:ext cx="457200" cy="137160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cepto de anormalidades una medida muy relativ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que puede ser una condición del desarrollo  de un Ge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bien la máxima  expresión de Salud m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r que la genialidad puede ir acompañada de cuadros angustiosos “ Desorden de Ansiedad generalizada”, se ha observado que esta misma “anormalidad”o sufrimiento derivado de los síntomas ha sido un estímulo para alcanzar una dimensión más elevada del espíritu ( Artes, Música, Religión)                           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Kirkegaard , filósofo danés inspirador de la Filosofí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xistencialsta, sufrió trastorno de la person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Rainer Maria Rilke, poeta alemán, presentó Trastorno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pr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no y Enferm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ienen una frontera sutil y a veces difusa que posibili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mperfección, error y la enferm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mbién la libertad y la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ble encontrar en esta frontera lo esencial y distintivo del Ser Humano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ALL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artir de la información recibida, el grupo debe reflexionar y distinguir si estamos frente a una situación de Normalidad o Anormalidad. Pueden trabajar en el caso presentado y en otros casos identificados entre conocidos o en los medios de comunic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fundamentará su decisión apoyándose en Modelos de Desarrollo Evolutivo, Modelos Sistémicos, Modelos Sociológicos, Modelos Culturales, que permitan una comprensión científica de la situación en e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Una vez que el grupo decida si lo considera  que se trata de un comportamiento Normal o un comportamiento Anormal, debe proponer en líneas generales un plan de cuidad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elegirá dos de sus integrantes, para que los represente en la presentación y debate final con el curso compl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trega de informe final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lud y Enfermeda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uál es su relació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ómo entendemos cada concept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roussais, establece que los fenómenos de Enfermedad coinciden con los de la Salud, difieren sólo por la intensidad. Define la enfermedad desde los hallazgos anátomo - pat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laude Bernard (filósofo), expresa que Salud y Enfermedad, son alteraciones cualitativas y cuantitativas de la fisiología. El estado patológico está constituído por la exageración, desproporción y disarmonía  de los fenómen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riche (1936) , toma en cuenta la Subjetividad del enfermo y defin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ud es  “la Vida en el silencio de los órgan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fermedad “ es aquello que molesta a los hombres en el normal ejercicio de su vida, en sus ocupaciones y sobretodo aquello que lo hace sufr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llenbach (1980) , habló de la posibilidad de que la Normalidad o exceso de normalidad , puede llegar a ser un factor generador de pat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Jaspers: une conceptos anteriores y agrega  Factor Socia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: Relación de Anorexia Nerviosa y el Ideal de Delgadez imperante en la sociedad post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alta frecuencia de obesidad y la filosofía de vida del consumismo desenfrenado y la comida ráp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blece como “Hombre promedio” aquel que se aproxima a la Media Aritmética de las características del grupo a que pertene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mayor parte  de la conducta del ser humano se ajustan a una distribución Normal, es decir, sus comportamientos tienen una distribución en torno a un Promedio y aquellos comportamientos comprendidos entre +/- 2 Desviaciones Estándar, son considerad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iterio Cuantitativo, basado en hechos observados.... Y distribuídos según la Curva de Gau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una persona tiene una conducta semejante a las conductas de la mayoría de su grupo sociales Normal, está adaptado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mbio, aquellos que se alejan del promedio, hacia los extremos de la Curva de Gauss, son considerados a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¿ Enfermos y Geni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Normativo o Valorativ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 al Hombre como Normal , cuando se asemeja a u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elo Ide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ue reúne característic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eab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un sistema de valores imper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stablece como el Hombre “Debe Ser”, para lo cuál Normalidad es una condición cualit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 que Anormales y Enfermos son considerados como un “Disvalor Social” ( Jaspers)... Un juicio de Valor que implica considerarlo como ser inferior , nocivo e indes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Enfermedad ment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necesario determinar ¿Está psicótico o no? ¿ es psiquicamente normal o n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l es la Norma que se altera o desvía? ¿Sus Percepciones? ¿La cognición?¿ La voluntad? ¿o su conducta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cierto que una persona con Alucinaciones o delirios, presenta algo no esperado en las personas corrientes , pero también hay EQZ simples o larvadas o EQZ “residual” y en ninguna de ellas hay sínto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En los Trastornos afectivos, se localiza la enfermedad en una desviación cuantitativa del nivel del ánim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1:47:58Z</dcterms:created>
  <dc:creator>ebb</dc:creator>
  <dc:description/>
  <dc:language>en-US</dc:language>
  <cp:lastModifiedBy>Fac. de Medicina</cp:lastModifiedBy>
  <dcterms:modified xsi:type="dcterms:W3CDTF">2009-03-13T16:56:58Z</dcterms:modified>
  <cp:revision>17</cp:revision>
  <dc:subject/>
  <dc:title>Sin título de diapositiva</dc:title>
</cp:coreProperties>
</file>