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C36-3FAC-488D-A701-119EC518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53A-ACC7-4307-956E-462D6E61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553-4DFA-4D2D-B40A-B0C633B5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F24-52E2-4B97-B549-C3C18C51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1AA-3EFD-4104-B69C-E42FC445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D1EB-DFA0-4C7B-AEE6-D3C98CD3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9418-6B1F-4FCA-A3A8-A93A2A48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CEC6-3E27-4CE4-9A49-BC33927E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9F10-5808-450D-8D66-F3A19BD0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E683-A77C-4A9F-B0F7-82E9A014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2F4E-3972-4313-A067-7F48E850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655-E436-48A1-887D-D59E87CE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1DFD-DA76-4224-8597-C02E0868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A3BF-386D-456F-A75C-EBD92446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E80E-8209-454F-911D-67F8BDF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494-B85B-4FC1-841D-C28DF30F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4F78-9C7C-4D23-93B0-7AE8B001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569-AC57-4959-8D2B-C663E979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193-FA1C-4E7C-B85C-DF2BFD56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051-B667-4552-85DB-9F25BA79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F75-8EDA-432B-9F59-CB233BA5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31A-37C1-425A-9DED-7C9927F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C44-19EC-4D05-82AB-41109F0F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309-D9C4-4C20-805C-B906CF82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8B69-AE7F-41D3-AD36-D0D63DB3A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1C01-78FD-4AEB-921A-23D760C59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ANORMA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. Edda Bust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1676520"/>
            <a:ext cx="457200" cy="1371600"/>
          </a:xfrm>
          <a:prstGeom prst="upDownArrow">
            <a:avLst>
              <a:gd name="adj1" fmla="val 50000"/>
              <a:gd name="adj2" fmla="val 59722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cepto de anormalidades una medida muy relativ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que puede ser una condición del desarrollo  de un Ge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 bien la máxima  expresión de Salud m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r que la genialidad puede ir acompañada de cuadros angustiosos “ Desorden de Ansiedad generalizada”, se ha observado que esta misma “anormalidad”o sufrimiento derivado de los síntomas ha sido un estímulo para alcanzar una dimensión más elevada del espíritu ( Artes, Música, Religión)                       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Kirkegaard , filósofo danés inspirador de la Filosofí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xistencialsta, sufrió trastorno de la person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Rainer Maria Rilke, poeta alemán, presentó Trastorn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pre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 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no y Enferm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ienen una frontera sutil y a veces difusa que posibili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imperfección, error y la enferm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la libertad y la salu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posible encontrar en esta frontera lo esencial y distintivo del Ser Humano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ALL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partir de la información recibida, el grupo debe reflexionar y distinguir si estamos frente a una situación de Normalidad o Anormalidad. Pueden trabajar en el caso presentado y en otros casos identificados entre conocidos o en los medios de comunic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fundamentará su decisión apoyándose en Modelos de Desarrollo Evolutivo, Modelos Sistémicos, Modelos Sociológicos, Modelos Culturales, que permitan una comprensión científica de la situación en estu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Una vez que el grupo decida si lo considera  que se trata de un comportamiento Normal o un comportamiento Anormal, debe proponer en líneas generales un plan de cuidado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l grupo elegirá dos de sus integrantes, para que los represente en la presentación y debate final con el curso 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ntrega de informe final</a:t>
            </a: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lidad y Anormalidad</a:t>
            </a:r>
            <a:br>
              <a:rPr sz="4400"/>
            </a:b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alud y Enfermeda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uál es su relació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¿Cómo entendemos cada concept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roussais, establece que los fenómenos de Enfermedad coinciden con los de la Salud, difieren sólo por la intensidad. Define la enfermedad desde los hallazgos anátomo - patoló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laude Bernard (filósofo), expresa que Salud y Enfermedad, son alteraciones cualitativas y cuantitativas de la fisiología. El estado patológico está constituído por la exageración, desproporción y disarmonía  de los fenómen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Concepto de Enfermedad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riche (1936) , toma en cuenta la Subjetividad del enfermo y def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lud es  “la Vida en el silencio de los órgan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fermedad “ es aquello que molesta a los hombres en el normal ejercicio de su vida, en sus ocupaciones y sobretodo aquello que lo hace sufr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llenbach (1980) , habló de la posibilidad de que la Normalidad o exceso de normalidad , puede llegar a ser un factor generador de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Jaspers: une conceptos anteriores y agrega  Factor So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: Relación de Anorexia Nerviosa y el Ideal de Delgadez imperante en la sociedad post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alta frecuencia de obesidad y la filosofía de vida del consumismo desenfrenado y la comida ráp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blece como “Hombre promedio” aquel que se aproxima a la Media Aritmética de las características del grupo a que pertene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mayor parte  de la conducta del ser humano se ajustan a una distribución Normal, es decir, sus comportamientos tienen una distribución en torno a un Promedio y aquellos comportamientos comprendidos entre +/- 2 Desviaciones Estándar, son considerados 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Estadístic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iterio Cuantitativo, basado en hechos observados.... Y distribuídos según la Curva de Gau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una persona tiene una conducta semejante a las conductas de la mayoría de su grupo sociales Normal, está adaptado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cambio, aquellos que se alejan del promedio, hacia los extremos de la Curva de Gauss, son considerados an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¿ Enfermos y Genio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Para determinar la relativa normalidad se utilizan criteri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Criterio Normativo o Valorativ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idera al Hombre como Normal , cuando se asemeja a u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delo Ide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ue reúne característic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eab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un sistema de valores imp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stablece como el Hombre “Debe Ser”, para lo cuál Normalidad es una condición cualit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que Anormales y Enfermos son considerados como un “Disvalor Social” ( Jaspers)... Un juicio de Valor que implica considerarlo como ser inferior , nocivo e indes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Enfermedad ment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necesario determinar ¿Está psicótico o no? ¿ es psiquicamente normal o n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l es la Norma que se altera o desvía? ¿Sus Percepciones? ¿La cognición?¿ La voluntad? ¿o su conducta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cierto que una persona con Alucinaciones o delirios, presenta algo no esperado en las personas corrientes , pero también hay EQZ simples o larvadas o EQZ “residual” y en ninguna de ellas hay sínto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En los Trastornos afectivos, se localiza la enfermedad en una desviación cuantitativa del nivel del ánim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47:58Z</dcterms:created>
  <dc:creator>ebb</dc:creator>
  <dc:description/>
  <dc:language>en-US</dc:language>
  <cp:lastModifiedBy>Fac. de Medicina</cp:lastModifiedBy>
  <dcterms:modified xsi:type="dcterms:W3CDTF">2009-03-13T16:56:58Z</dcterms:modified>
  <cp:revision>17</cp:revision>
  <dc:subject/>
  <dc:title>Sin título de diapositiva</dc:title>
</cp:coreProperties>
</file>