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806-29C7-424B-9E02-BDBF09AB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3B2-50B3-4A1A-B8A3-1804F656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25F-04E0-42FD-A98B-FD93E2C3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759-850F-4D9A-A666-6FF3FDEB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8101-BBFA-49A4-A8FD-75417682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B131-A4B1-439A-870B-D7D4DC31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5B8B-D0A2-4FB4-B4CC-2F3D1339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8D7A-F2B6-47B4-AF67-D0788BDA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1FF4-7008-43EB-9CCE-F387F023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B01F-F8DA-44B8-A0EC-72B3E3DF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B919-DF12-4978-BDB9-8EB37CE5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82F-7905-4212-AD8D-18DCECE3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D030-5E49-49ED-BFC7-52C8F88D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E6AF-41D3-459E-A41B-59DA5840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D47E-BF4C-4B62-8E46-D12B31C3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820E-22F0-4E75-8DEC-4A901582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4C9D-22BC-4511-BE81-E48BDD80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9CC-058E-4225-8C51-459C5CE6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819-5174-4A9F-816F-8D1D7712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9BE-57A5-435F-AFBD-BD8E21DA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CAC-C772-42F6-8A09-10F1C520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A28-D4A6-43C5-85D4-72B9DAB9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F63-10A2-4622-A86E-8A6CD82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D76-C5F1-418A-B6FB-EB8CFCC5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BC30-FB16-499A-9450-E9E5E767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CE80-2B08-44C6-A2AE-0446BEED4A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Cri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aiz griega “ krinein” que significa desafí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enómeno limitado en el tiemp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in desenlace determinado al momento del inic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tera el equilibrio psicológico prev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Desarrollo de tipologías (3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ff"/>
                </a:solidFill>
                <a:latin typeface="Times New Roman"/>
              </a:rPr>
              <a:t>5.- Crisis que reflejan psicopatología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ya consolidada: en estos casos la respuesta sintomática o la exacerbación de rasgos caracterológicos es desproporcionada al estímulo exter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6.- </a:t>
            </a: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Urgencias psiquiátricas propiamente tales: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tuaciones en las que el funcionamiento de un paciente con psicopatología severa se ha alterado y no es en este momento capaz de responsabilizarse de si mismo o de sus actos Ej suicidas, homicid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Teoría de la Intervención en Cri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Una persona en crisis esta muy abierta a cambiar mucho en un período corto de tiempo; por lo mismo puede ser ayudado en forma más rápida y efectiva por otra persona. El equilibrio emotivo, antes cerrado, se abre a la influencia externa. Todo lo anterior puede ser usado para ayudar al sujeto a recuperar o mejorar su nivel previo de funcionamiento emocional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Tipos de Intervenció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cc"/>
                </a:solidFill>
                <a:latin typeface="Times New Roman"/>
              </a:rPr>
              <a:t>Apoyo gener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 escuche al paciente, dejelo hablar, no descalifique ni desmienta sus afirmaciones, esté con el/ella. Cuando la persona comience a recuperarse: apóyelo y refuerce contenidos de realidad, conteste honestamente a sus preguntas, comparta francamente “su” visión de la situ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99"/>
                </a:solidFill>
                <a:latin typeface="Times New Roman"/>
              </a:rPr>
              <a:t>Manejo ambient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 flexibilice las demandas y exigencias que recaen sobre el paciente en la medida de lo posible; ofrezca ayudarlo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66"/>
                </a:solidFill>
                <a:latin typeface="Times New Roman"/>
              </a:rPr>
              <a:t>Aproximación genérica: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asado en su conocimiento de las etapas del duelo intervenga hacia una solución adaptativa de la cri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Aproximación Individu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Especialista en Salud Ment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Principios básicos de una intervención en Cri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servar la función del individuo en familia y comunidad dentro de lo posi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yudar a resolver problemas y así estimular el crecimiento emocional de la persona en crisis ( apoyo social evaluativ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vitar consecuencias mayores, ej. hospitaliz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cc66"/>
                </a:solidFill>
                <a:latin typeface="Times New Roman"/>
              </a:rPr>
              <a:t>Manejo de crisis en situaciones repentinas o traumátic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ermitir al paciente la expresion de sus emociones intensas y contradictor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ermitirle el detallar su percepción del suceso traumático, reconstruyendo los difererntes aspec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Explorar las consecuencias para el paciente de la situación- Posibles cambios que se pueden gener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cc66"/>
                </a:solidFill>
                <a:latin typeface="Times New Roman"/>
              </a:rPr>
              <a:t>Crisis Anticipatorias frente a    Cambios Vita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66"/>
                </a:solidFill>
                <a:latin typeface="Times New Roman"/>
              </a:rPr>
              <a:t>Definición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frente a situaciones en que la persona prevee o está comenzando y sobre las cuales no tiene mayor grado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99"/>
                </a:solidFill>
                <a:latin typeface="Times New Roman"/>
              </a:rPr>
              <a:t>Ej.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 Despido laboral, embarazo, enfermedad crón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cc"/>
                </a:solidFill>
                <a:latin typeface="Times New Roman"/>
              </a:rPr>
              <a:t>Estrategia general: Guia anticipator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Desarrollar en el paciente una noción lo más exacta posible de los cambios que vienen y explorar con el las consecuencias psiccológicas de estos cambios, dar información sobre la normatividad del estado, identificar redes de apoy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cc66"/>
                </a:solidFill>
                <a:latin typeface="Times New Roman"/>
              </a:rPr>
              <a:t>Crisis de Maduración y/o Evolutiva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99"/>
                </a:solidFill>
                <a:latin typeface="Times New Roman"/>
              </a:rPr>
              <a:t>Definición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 crisis que simbolizan fases de desarrollo interno del individuo durante su ciclo vit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9933"/>
                </a:solidFill>
                <a:latin typeface="Times New Roman"/>
              </a:rPr>
              <a:t>Ej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. Conflictos de autoridad con los padres, mantención de relación de parej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66"/>
                </a:solidFill>
                <a:latin typeface="Times New Roman"/>
              </a:rPr>
              <a:t>Estrategia general de intervención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Conceptualizar en conjunto la temática subyacente a la crisis ( dependencia independencia, capacidad de intimidad, etc.)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Explorar medios nuevos de condu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Acciones posibles para NO especialist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.- Actitud de ayuda y comprensión huma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* relación empá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* escuchar atentam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vención ambien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vención genérica en cri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Desarrollo histórico de la  teoría de crisis emocional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Freud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señaló la importancia de los sucesos vitales en el desencadenamiento de una reacción emoc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66"/>
                </a:solidFill>
                <a:latin typeface="Times New Roman"/>
              </a:rPr>
              <a:t>Erickson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rodujo los conceptos de ciclo vital y crisis normativas en la vida hechos que debe enfrentar para crec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cc"/>
                </a:solidFill>
                <a:latin typeface="Times New Roman"/>
              </a:rPr>
              <a:t>Lindemann y Caplan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formularon teoría específica de la crisis y describieron las etapas de la elaboración del duel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99"/>
                </a:solidFill>
                <a:latin typeface="Times New Roman"/>
              </a:rPr>
              <a:t>Holmes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uantificó la importancia de los cambios vitales como factor desencadenante de enferme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Cri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33"/>
                </a:solidFill>
                <a:latin typeface="Times New Roman"/>
              </a:rPr>
              <a:t>Enfrentarse,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Existir,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cc00cc"/>
                </a:solidFill>
                <a:latin typeface="Times New Roman"/>
              </a:rPr>
              <a:t>Teoría de la Crisi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y </a:t>
            </a:r>
            <a:r>
              <a:rPr b="0" lang="es-ES_tradnl" sz="3200" spc="-1" strike="noStrike">
                <a:solidFill>
                  <a:srgbClr val="990099"/>
                </a:solidFill>
                <a:latin typeface="Times New Roman"/>
              </a:rPr>
              <a:t>Técnicas de Intervención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se convierten en Instrumentos indispensables para todo profesional de salu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352680" y="205740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Crisis Emocion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Una situación de peligro emocional es aquella que amenaza el equilibrio psicológico de un individu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 deberse a cambios en el medio ambiente físico, social o biológic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hacen insuficientes los medios normales de enfrentamient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ducta adaptativa se refiere a todos los procesos psicológicos que sirven para mantener o reestablecer el equilibrio psicológic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conducta adaptativa puede resolver o agravar un problema según como se utili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Evolución posible de una Crisis Emocional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 flipV="1">
            <a:off x="5105520" y="2437920"/>
            <a:ext cx="1752480" cy="1219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Line 4"/>
          <p:cNvSpPr/>
          <p:nvPr/>
        </p:nvSpPr>
        <p:spPr>
          <a:xfrm flipV="1">
            <a:off x="5191200" y="3657240"/>
            <a:ext cx="129528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5105520" y="4191120"/>
            <a:ext cx="152388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105520" y="4495680"/>
            <a:ext cx="1523880" cy="1219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1066680" y="3657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tuac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mbio Vit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3352680" y="3429000"/>
            <a:ext cx="183852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teración de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quilibrio Ind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idu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6858000" y="1752480"/>
            <a:ext cx="1752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peración en un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jor nivel 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ncionami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6486480" y="3048120"/>
            <a:ext cx="2352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tabilización en el niv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equilibrio prev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6334200" y="4191120"/>
            <a:ext cx="28098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eoramiento co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parición de enfer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d física, psicológ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 psicosomát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6858000" y="57150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ert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Factores que influyen en el desenlace de una cri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actor de Personal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diciones Físicas del Individu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cursos Sociales y sistema de Comunicación del Med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Times New Roman"/>
              </a:rPr>
              <a:t>Etapas en el desarrollo de una Crisi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.-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: Tensión por Insuficiencia de Recursos Efectiv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I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-: Aumenta Tensión y Angust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úsqueda de Opiniones y Consej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II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-: Mas ansiedad     sentimientos negativ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Nuevos enfrentamien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Regresión: Nivel funcionamiento más segu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Disminución de criterios de éxi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V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-:Cambios de personalidad, Adicciones a sustancias químicas, Enferme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5638680" y="4267080"/>
            <a:ext cx="76320" cy="76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Desarrollo de Tipologías(1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.- </a:t>
            </a:r>
            <a:r>
              <a:rPr b="0" lang="es-ES_tradnl" sz="3200" spc="-1" strike="noStrike">
                <a:solidFill>
                  <a:srgbClr val="ff9933"/>
                </a:solidFill>
                <a:latin typeface="Times New Roman"/>
              </a:rPr>
              <a:t>Crisis frente a situaciones externa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: Conflicto laboral, hijo enferm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2.-</a:t>
            </a: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Crisis Anticipatorias frente a cambio vitales Normativo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: hitos normales en el ciclo vital que son necesario franquear en pos de crecer y desarrollarse Ej noviazgo, primer embaraz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Desarrollo de Tipologías (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3.- </a:t>
            </a:r>
            <a:r>
              <a:rPr b="0" lang="es-ES_tradnl" sz="2800" spc="-1" strike="noStrike">
                <a:solidFill>
                  <a:srgbClr val="cc0066"/>
                </a:solidFill>
                <a:latin typeface="Times New Roman"/>
              </a:rPr>
              <a:t>Reacción a Trauma Intenso o Agudo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acción emocional precipitada por una situación externa inesperada e incontrol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4.- </a:t>
            </a:r>
            <a:r>
              <a:rPr b="0" lang="es-ES_tradnl" sz="2800" spc="-1" strike="noStrike">
                <a:solidFill>
                  <a:srgbClr val="cc00cc"/>
                </a:solidFill>
                <a:latin typeface="Times New Roman"/>
              </a:rPr>
              <a:t>Reacción a Situación de Maduración o Cambio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risis que simbolizan fases del desarrollo interno del individuo durante su ciclo vit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2:52:37Z</dcterms:created>
  <dc:creator>v</dc:creator>
  <dc:description/>
  <dc:language>en-US</dc:language>
  <cp:lastModifiedBy>Facultad de Medicina</cp:lastModifiedBy>
  <cp:lastPrinted>2003-10-01T02:40:26Z</cp:lastPrinted>
  <dcterms:modified xsi:type="dcterms:W3CDTF">2009-05-13T18:53:30Z</dcterms:modified>
  <cp:revision>53</cp:revision>
  <dc:subject/>
  <dc:title>Intervención en Crisis</dc:title>
</cp:coreProperties>
</file>