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C17-009C-45F4-9423-1C39C749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C466-8EC4-4D35-A8DD-3D33518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584-96CA-471A-947E-C8684EC54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76D7-36F4-4FA4-9072-73BE36D0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6901-79C9-4547-B016-C1505EF7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AD7-D75B-4B68-BE56-4D8907CB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FACD-08FE-446F-8458-9201BC0C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5C6-C010-4208-BAE2-FE1B2AC3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A70F-4199-499A-9EDA-342DCD9BF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5BC4-A71A-4B3A-B40C-6C917F3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2E7D-8D80-48E3-9B1D-9210810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3357-A23B-4515-897D-6F504F34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AADD-177A-4CE2-A3CC-D734C8177537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1152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unda Cla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Sergio Sánchez Bu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Contenidos: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ición demográfica. Cambios epidemiológ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ase expositiva, pausa,  taller (evaluación parcial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200" spc="-1" strike="noStrike">
                <a:solidFill>
                  <a:srgbClr val="000000"/>
                </a:solidFill>
                <a:latin typeface="Arial"/>
              </a:rPr>
              <a:t>Descanso 10 M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regre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r grupos de 2-3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ntar los casos que expondrá el profes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uerdo: actividad evalu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7488360" cy="5642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16000"/>
            <a:ext cx="8207280" cy="8366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Describe y comenta los componentes demográficos de las tres posibles trayectorias futuras del tamaño poblac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7207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oría Demo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424720" cy="547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tro etapas (sucesivas en el tiempo)  explican los cambios del tamaño de una pobl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Alt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a Natalidad, Mortalidad a la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alidad a la baja 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ja Natalidad, Baja Mort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explica mediante el análisis de las tasas de Natalidad, Morta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 consecuencias se entienden mediante el resultado o Crecimiento Natural de la población (CN=N-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1: Crecimiento nulo o esc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2: Crecimiento A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3: Menor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pa 4: Escaso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ción Demográfica-Cálculo Numér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79200" indent="0">
              <a:spcBef>
                <a:spcPts val="799"/>
              </a:spcBef>
              <a:buNone/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cuación compensad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0120" y="2852640"/>
            <a:ext cx="79326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095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a de crecimiento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entaje neto de cambio en el tamaño poblacional, en un añ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0640" y="2492280"/>
            <a:ext cx="8272440" cy="3097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a de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centaje de cambio en una población resultante de los flujos migratorios y los cambios en los patrones de natalidad y mortalidad ( en un año, respecto a la población bas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4960" y="3429000"/>
            <a:ext cx="8072640" cy="1974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96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ualmente la población mundial crece en aproximadamente 90 millones de personas al añ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blación mundial total por países agrupados según el ingreso, 1980, 1998, 2015 (www.worldbank.o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2708280"/>
            <a:ext cx="5113440" cy="2746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tiempo de duplicación , es el parámetro que permite conocer el tiempo en que una determinada población se duplicaría a la tasa de crecimiento ac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población con una tasa de crecimiento del 1% se demoraría aproximadamente 70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%, 35; 3% 23,3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proximar a su calculo, dividiendo 70 por la tasa de nat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9760" y="4797360"/>
            <a:ext cx="8123040" cy="825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os a Conside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1908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 teoría es una mirada moderna sobre la realidad sociopolítica del m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éase: Notestein, Frank. 1953. "Economic Problems of Population Change". En Proceedings of the Eighth International Conference of Agricultural Economists, págs. 13 a 31. Londres: Oxford University 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estructura sobre el concepto de revolución 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iene por ejemplar la evolución de las poblaciones del mundo desarrollado (Caso de Finlan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gunos dicen que hay una quinta etapa, caracterizada por baja natalidad y mortalidad con crecimiento que podría llegar a ser neg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transforma en un problema político, hay que desarrollar polítcias pro-crecimiento pobl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4:54:28Z</dcterms:created>
  <dc:creator>Sergio Sanchez</dc:creator>
  <dc:description/>
  <dc:language>en-US</dc:language>
  <cp:lastModifiedBy>ssanchez</cp:lastModifiedBy>
  <dcterms:modified xsi:type="dcterms:W3CDTF">2009-08-20T14:52:38Z</dcterms:modified>
  <cp:revision>41</cp:revision>
  <dc:subject/>
  <dc:title>Leopoldo María Panero: biografía</dc:title>
</cp:coreProperties>
</file>