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7858-B4CE-4F09-BE04-DA49F5D98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8A5A-8114-4C2F-8634-D8C1DCEE8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D66E-ED88-44F7-8A21-9F9D77F5B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FAE4-7456-44DF-87CE-01E5B4A31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2505-A255-4048-ADCC-1EE503B56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BD72-9502-420E-A5BC-68BC226FE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25EC-3983-400E-A074-F87F3C535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D94F-A93A-49A9-88B8-0C60CC1F5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6BC5-E686-4E42-9353-0FD0677B7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F336-ADF5-4922-A36E-8B9E9E0BF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03F2-F252-42D6-8F5F-85FB2A87C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8860-8DCE-4D82-AADE-6A1E8F098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97A4E-2AD2-4034-8DFF-1A11B763C90E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064360" cy="1152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cera Clas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. Sergio Sánchez Bus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Contenidos: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mbios epidemiológicos. Indicadores. Análisis de población por sexo y e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lase expositiva, pausa,  taller (evaluación parcial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cuesta nacional de salud , 2003. (http://epi.minsal.cl/epi/html/invest/ENS/ENS.ht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824120"/>
            <a:ext cx="8229600" cy="44766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il epidemiológico chileno, actu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1998720"/>
            <a:ext cx="7993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“…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levancia tiene el grupo de enfermedades cardiovasculares, que muestra que más de la mitad de la población adulta chilena tiene un riesgo cardiovascular alto o muy alto, con altas tasas de hipertensión, sobrepeso y obesidad, dislipidemia y tabaqu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tras enfermedades destacables por su frecuencia y gravedad potencial son: depresión, función renal disminuida y la enfermedad respiratoria crónica que afecta a 1 de cada 5 adultos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S,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il epidemiológico chileno, año 2000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50920" y="1658880"/>
            <a:ext cx="8708760" cy="40752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tratificación por edad, sex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 poblaciones se estratifican porque hombres y mujeres mueren  y enferman de diferentes causas, de manera que las decisiones políticas (con P) deben ser tomadas con relación a este comportami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cen más hombres que mujeres. Mueren más hombres a todas las eda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esperanza de vida (tiempo promedio de vida por habitante de una población es mayor en hombres que en muje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tratificación por edad, sex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ay enfermedades propias de los hombres, como cáncer de próstata, testículo y otros de mujeres: CaCu, Utero, mama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ay enfermedades predominantemente de hombres: cardiovasculares, tabaquismo, alcoholismo y otras de mujeres: Síndrome de Crohn, colitis ulcerosa, jaqueca,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187280" y="103320"/>
            <a:ext cx="6913800" cy="675468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tratificación por edad, sex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mayor implicancia es que da pie a pensar en la inequidad de género y sus consecuencias en la salud de la pobla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aje desde programa de la mujer, a programa de salud sexual y reproduct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mejor manera de expresar sintéticamente estos cambios son las pirámides poblacion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7200" spc="-1" strike="noStrike">
                <a:solidFill>
                  <a:srgbClr val="000000"/>
                </a:solidFill>
                <a:latin typeface="Arial"/>
              </a:rPr>
              <a:t>Descanso 10 Mi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 regres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r grupos de 2-3 person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entar los casos que expondrá el profes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uerdo: actividad evalu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24000" y="1125000"/>
            <a:ext cx="8207280" cy="3861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nsaye un comentario breve acerca de la relación entre  el envejecimiento y el desarrollo de una población, entendido como el despliegue de recursos sociales, financieros, culturales etc, que una población posee en un determinado mo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cadores epidemiológ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Mortalidad se refiere a las muertes producidas en una población, en un período determin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morbilidad se refiere a las personas que enferman, lesionan o discapacitan en una población en un período de tiem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cadores epidemiológ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sa de incidenc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es el número de personas que contraen una enfermedad durante un determinado período de tiempo por cada 1.000 habitantes expuestos al ries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68360" y="3795840"/>
            <a:ext cx="8207280" cy="20811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adores epidemiológ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79200" indent="0">
              <a:spcBef>
                <a:spcPts val="799"/>
              </a:spcBef>
              <a:buNone/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Tasa de prevalencia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es el número de personas que padecen de una enfermedad determinada en un </a:t>
            </a: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punto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determinado de tiempo por cada 1.000 habitantes. Esta tasa incluye todos los casos conocidos que no han resultado en la muerte, la cura, o la remisión, así como casos nuevos que se estén desarrollando durante ese período específ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7095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asa de preval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 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medición se hace al final de 1997. (un período de tiempo acotado). Equivale a una “fotografí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55640" y="2133720"/>
            <a:ext cx="7763040" cy="17128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ros indicad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asa de casos: N° de casos reportados de una enfermedad por 100,000 personas en un año. (tipo de tasa de incidencia que observa el report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asa de Letalidad: proporción de personas que contraen la enfermedad y mueren debido a ella en un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eriodo determin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9640" y="3884760"/>
            <a:ext cx="7907400" cy="22082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ros indicad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ños de Vida Potencial Perdidos (AVPP) (AVISA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ción de la cantidad de años de vida hum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 se pierden por efecto de la muerte prematur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ada como evento evitable. Se obtie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endo un límite potencial promedio de la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80 años de edad, en este caso) y calculando 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erencia entre la edad a la que ocurrió c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unción y ese lím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ción epidemio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496360" cy="4896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66438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 el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correlato epidemiológico de la teoría demográf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66438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pi: acerca de, so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66438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mos: gente, perso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66438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ogía: estudio 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66438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entiende que desde un estadio inicial (etapa 1-2) dónde hay una preponderancia de población joven, con baja esperanza de vida, hay por tanto, predominio de enfermedades infectocontagiosas sobre las EC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664380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ción epidemio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 medida que la población envejece (etapas 3 y 4), modernización mediante (desarrollo, protección social, etc,),aumenta la esperanza de vida y comienzan a manifestarse ECNT. Paralelamente, y debido al aumento del nivel de vida e intervenciones sanitarias, disminuyen las infectocintagios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sí, en Chile, las principales causas de muerte son las cardiovasculares (HTA, IAM, Obesidad, etc), Cánceres (estudios de Wilkinson muestran co-relación con stress, S. inmune) y accidentes de tránsito (alcoholes e ileg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14:54:28Z</dcterms:created>
  <dc:creator>Sergio Sanchez</dc:creator>
  <dc:description/>
  <dc:language>en-US</dc:language>
  <cp:lastModifiedBy>ssanchez</cp:lastModifiedBy>
  <dcterms:modified xsi:type="dcterms:W3CDTF">2009-08-20T14:52:56Z</dcterms:modified>
  <cp:revision>51</cp:revision>
  <dc:subject/>
  <dc:title>Leopoldo María Panero: biografía</dc:title>
</cp:coreProperties>
</file>