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9FF-522F-4254-BFF3-DB7BBE1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081-5DED-4122-BC74-0978B483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183-D4B5-4E5C-AFA5-228DF952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3FC-73B8-4CC6-9341-9733E391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7B1-DD33-4DA0-AD45-48DDB0D6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34D-3DAC-4F7D-8A73-9E39ECA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373-06EC-4072-B9CB-7318484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56A-D8BE-427A-8868-3CDEC4E9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501-0787-4BA0-AAFC-E23F48D8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6DE-6231-4987-8177-084FFD5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157-6E40-4AB8-A460-97A825F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79F-933D-48E6-BB20-C906466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8F0-C8DE-496E-B80F-2C0821CBE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álisis sociodemográfico de la pob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8496360" cy="81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  de Mayo de 2004: promulgada en diario of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ambos cónyuges lo solicitan de común acuerdo y acreditan que ha cesado su convivencia durante un lapso mayor de un año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se verifique un cese efectivo de la convivencia conyugal durante el transcurso de, a lo menos, tres años, salvo que, a solicitud de la parte demandada, el juez verifique que el demandante, durante el cese de la convivencia, no ha dado cumplimiento, reiterado, a su obligación de alimentos respecto del cónyuge demandado y de los hijos comunes, pudiendo hacerl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biblioteca nacional. Ley 19947. Capítulo VI. Párrafo 1. Artículo 54 y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496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n dentro de distintos campos académicos, no todos están de acue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aza no es un término científico. No existe un acuerdo acerc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as razas existen o acerca de lo que distingue exactamente 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98560" y="1817640"/>
            <a:ext cx="7489800" cy="3411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1693800"/>
            <a:ext cx="518508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81240" y="1612800"/>
            <a:ext cx="447840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81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52640"/>
            <a:ext cx="84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22480" y="1224000"/>
            <a:ext cx="442116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: caracterización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7040" y="1400040"/>
            <a:ext cx="6169320" cy="469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, 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7960" y="1652760"/>
            <a:ext cx="6043680" cy="3288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052640"/>
            <a:ext cx="849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: Personas o persona que ocupa una sola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: Grupo de personas que viven juntas y vinculadas por sangre o condicion civil . También puede ser familia con un solo individu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os de famil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nopa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355840"/>
            <a:ext cx="63151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1400" y="1616040"/>
            <a:ext cx="660060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05080"/>
            <a:ext cx="84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Nuclear: Es aquel hogar constituido por padre, madre hij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extendido: hogar nuclear y otras personas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compuesto: hogar nuclear o extendido y otras personas no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Monoparental: una so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sin núcleo: eparentados pero son relación de f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052640"/>
            <a:ext cx="849636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n dentro de distintos campos académic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todos están de acue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raza no es un término científ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existe un acuerdo acerc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ántas razas existen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erca de lo que dist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actamente a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13200" y="2276640"/>
            <a:ext cx="371952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279440"/>
            <a:ext cx="5184720" cy="2220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0920" y="3794040"/>
            <a:ext cx="537696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7040" y="1413000"/>
            <a:ext cx="5754600" cy="180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5440" y="3763800"/>
            <a:ext cx="5759280" cy="197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052640"/>
            <a:ext cx="84963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ersonas que presentan una o más discapacidades en 2002, alcanz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34.377, lo que equivale al 2,2% de la población total del país. De este tot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78.563 (53,4%) son hombres y 155.814 (46,6%) son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ente: INE. Censo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9400" y="2851200"/>
            <a:ext cx="6978600" cy="2954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052640"/>
            <a:ext cx="84963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enso de 2002 consultó nueve opciones en la pregunta sobre religión, ampl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í el número de alternativas respecto a los censos anteriores.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idos indican que el 70,0% de los habitantes de quince años o má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ó católico; el 15,1% evangélico; el 4,4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8,3% dijo no tener religión, ser ateo o agnóstico. El censo d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stró que el 76,7% de los habitantes de 14 años o más se declaró católico;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2,4% evangélico; el 0,8% protestante; el 4,2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5,8% dijo ser indiferente o at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32280" y="1916280"/>
            <a:ext cx="351936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89000" y="1913040"/>
            <a:ext cx="193536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upcialidad se refiere al matrimonio como un fenómeno de la población e incluye la tasa a la cual el mismo sucede, las características de las personas casadas y la disolución de tales uniones (por divorcio, separación, viudez y anul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de matrimonios por cada 1.000 del total de habitantes durante un añ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Nº de matrimonios, no el Nº de personas que se c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ipto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97360"/>
            <a:ext cx="70149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mujeres, normalmente, se casan a una edad anterior que los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 actualmente hay un fenómeno de retraso del matrimonio, debido al aumento de las oportunidades de trabajo para las muj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l año 2006 se registraron en Chile 58.155 matrimonios. Sin embargo, desde 1996 los matrimonios celebrados en nuestro país venían disminuy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territorial y social: 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832040"/>
            <a:ext cx="7932600" cy="3684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ad media para contraer m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22280"/>
            <a:ext cx="820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el Censo 2002 mostraba que era de 27,7 años para los hombres y de 24,6 años para las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comparan estos datos con la edad media calculada a partir de las Estadísticas Vitales 2006, se observa que la edad media al casarse de los hombres habría aumentado 2,1 años (a 29,8 años) y la de mujeres aumentó 3,4 años (a 28,0 añ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2640"/>
            <a:ext cx="8496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asa de divorcio (o tasa bruta de divorcio) indica el número de divorcios por cada 1.000 habitantes durante un año determinado. Esta tasa se calcula utilizando el número de divorcios y no el número de personas que se divorc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600" y="3359160"/>
            <a:ext cx="860112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8496360" cy="73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sal de divorcio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º.-Atentado contra la vida o malos tratamientos graves contra la integridad físic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íquica del cónyuge o de alguno de los hij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º.-    Trasgresión grave y reiterada de los deberes  de convivencia, socorro y fidelidad propios  del matrimonio. El abandono continuo o reiterado del hogar común, es una forma de trasgresión grave de los deberes del matrimon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º.-    Condena ejecutoriada por la comisión de alguno de los crímenes o simples del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 el orden de las familias y contra la moralidad pública, o contra las perso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istos en el Libro II, Títulos VII y VIII, del Código Penal, que involucr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ve ruptura de la armonía conyug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º.-    Conducta homosex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º.-    Alcoholismo o drogadicción que constituya un impedimento grave para la convivencia armoniosa entre los cónyuges o entre éstos y los hij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º.-    Tentativa para prostituir al otro cónyuge o a lo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4T16:09:33Z</dcterms:modified>
  <cp:revision>60</cp:revision>
  <dc:subject/>
  <dc:title>Leopoldo María Panero: biografía</dc:title>
</cp:coreProperties>
</file>