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4CD-7481-40C7-8A40-8A6EB40F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BE3-411A-45A2-BF63-81473344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A52-F395-4F36-B670-695BBBDF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D38-FDE8-4769-A1A8-F9A4C340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03A-0505-4458-9327-497E228D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6B9-2D25-4F2B-84A9-03B76220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529-3304-492C-9A12-6D6C06E4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E32-EFD1-4977-862A-C7748824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2EE-6225-4D41-BC40-3E41FE62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29F-F45B-4F3B-90E0-BEA1A8A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4DD-2306-43ED-BBAA-32464FD5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83F-A824-4B5D-B4E1-E6476F8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DB0F-9A7D-4986-8521-44DC7DD5CDB8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is.minsal.cl/" TargetMode="External"/><Relationship Id="rId2" Type="http://schemas.openxmlformats.org/officeDocument/2006/relationships/hyperlink" Target="http://www.ine.cl/" TargetMode="External"/><Relationship Id="rId3" Type="http://schemas.openxmlformats.org/officeDocument/2006/relationships/hyperlink" Target="http://epi.minsal.cl/epi/html/sdesalud/mortal/morhtml/mort1.htm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is.minsal.cl/deis/ev/esperanza_de_vida/DIBUJO.BM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ortalidad general, materna por cau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ínculos relaci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1557360"/>
            <a:ext cx="64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eis.minsal.c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pi.minsal.cl/epi/html/sdesalud/mortal/morhtml/mort1.htm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58920" y="328680"/>
          <a:ext cx="6436800" cy="6268680"/>
        </p:xfrm>
        <a:graphic>
          <a:graphicData uri="http://schemas.openxmlformats.org/drawingml/2006/table">
            <a:tbl>
              <a:tblPr/>
              <a:tblGrid>
                <a:gridCol w="918360"/>
                <a:gridCol w="920880"/>
                <a:gridCol w="918720"/>
                <a:gridCol w="920880"/>
                <a:gridCol w="918720"/>
                <a:gridCol w="920520"/>
                <a:gridCol w="918720"/>
              </a:tblGrid>
              <a:tr h="8787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GENERAL POR SEXO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mbos sex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omb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j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4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.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6.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5.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4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9.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0.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9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2.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8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3.6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8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5.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32000" y="119160"/>
          <a:ext cx="6290640" cy="6694200"/>
        </p:xfrm>
        <a:graphic>
          <a:graphicData uri="http://schemas.openxmlformats.org/drawingml/2006/table">
            <a:tbl>
              <a:tblPr/>
              <a:tblGrid>
                <a:gridCol w="698400"/>
                <a:gridCol w="699120"/>
                <a:gridCol w="699120"/>
                <a:gridCol w="699120"/>
                <a:gridCol w="698760"/>
                <a:gridCol w="699120"/>
                <a:gridCol w="699120"/>
                <a:gridCol w="698760"/>
                <a:gridCol w="699120"/>
              </a:tblGrid>
              <a:tr h="8708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infantil y sus componentes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 precoz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st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 1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 día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 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 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9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0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31840" y="1465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DefaultOcx"/>
          <p:cNvGraphicFramePr/>
          <p:nvPr/>
        </p:nvGraphicFramePr>
        <p:xfrm>
          <a:off x="1041480" y="-758880"/>
          <a:ext cx="4111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DefaultOcx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-758880"/>
                    <a:ext cx="411120" cy="411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-834840"/>
            <a:ext cx="56736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      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Esperanza de vida al nacer (en años) por periodo y sexo.</a:t>
            </a:r>
            <a:br>
              <a:rPr sz="1600"/>
            </a:b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Chile, 1950-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            ambos  masc    fem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3640" y="1125360"/>
          <a:ext cx="3797280" cy="5500800"/>
        </p:xfrm>
        <a:graphic>
          <a:graphicData uri="http://schemas.openxmlformats.org/drawingml/2006/table">
            <a:tbl>
              <a:tblPr/>
              <a:tblGrid>
                <a:gridCol w="3797280"/>
              </a:tblGrid>
              <a:tr h="55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5603760" y="714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08640" y="7788240"/>
          <a:ext cx="2369880" cy="276120"/>
        </p:xfrm>
        <a:graphic>
          <a:graphicData uri="http://schemas.openxmlformats.org/drawingml/2006/table">
            <a:tbl>
              <a:tblPr/>
              <a:tblGrid>
                <a:gridCol w="2369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UENTE: Instituto Nacional de Estadísticas, Proyecciones y 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stimaciones de Población, Total País, 200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5216760" y="8064720"/>
            <a:ext cx="955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 Gráfic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92360" y="1052640"/>
          <a:ext cx="3778200" cy="5481360"/>
        </p:xfrm>
        <a:graphic>
          <a:graphicData uri="http://schemas.openxmlformats.org/drawingml/2006/table">
            <a:tbl>
              <a:tblPr/>
              <a:tblGrid>
                <a:gridCol w="1333080"/>
                <a:gridCol w="814680"/>
                <a:gridCol w="815400"/>
                <a:gridCol w="81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0-195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2,9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7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5-196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3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0-196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5,2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5-19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7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0-19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6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5-19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9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0-1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5-199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9,5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8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0-19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3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1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5-2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7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7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0-20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7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5-20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4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1,5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0-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5-20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20-202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2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3,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76640" y="1905120"/>
            <a:ext cx="45907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71600" y="1905120"/>
            <a:ext cx="46008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95560" y="1905120"/>
            <a:ext cx="4952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57560" y="1847880"/>
            <a:ext cx="46288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1852560"/>
            <a:ext cx="45720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1852560"/>
            <a:ext cx="50292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921440" cy="5329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268280"/>
            <a:ext cx="77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mortalidad se refiere a las muertes sucedidas dentro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blación. Si bien todos estamos destinados a morir algún dí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abilidad de morir durante un período determinado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 relaciona con muchos factores, como la edad, el sexo, la raz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upación y la clase social. La incidencia de muerte puede rev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chos detalles acerca del nivel de vida y la atención médica d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un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6068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asa de mortalid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nominada también la tasa bruta de mortalidad) es el número de muertes por cada 1.000 habitantes durante un año 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1800360"/>
            <a:ext cx="45720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71600" y="1819440"/>
            <a:ext cx="460080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95560" y="1819440"/>
            <a:ext cx="495288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71600" y="1790640"/>
            <a:ext cx="46008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76640" y="1890720"/>
            <a:ext cx="459072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1852560"/>
            <a:ext cx="459072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76640" y="1866960"/>
            <a:ext cx="45907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95560" y="186696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76640" y="1847880"/>
            <a:ext cx="459072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19700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tasas brutas de mortalidad se ven afectadas por mucha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población, especialmente la estructura por edad. Por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to, al comparar las tasas de mortalidad de distintos países, es pru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ar las diferencias en composición por edad antes de ll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a conclusión acerca de la salud, o de las condicione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mbientales de algún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a de mortalidad por causa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calcular las tasas de mortalidad para grupos de 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íficas para poder comparar la mortalidad a diferentes edades 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isma edad durante un período de tiempo. También pueden realiz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ciones entre países o á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do a que la mortalidad varía bastante según el sexo y la raza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do las tasas de mortalidad por edad específica para homb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jeres y para distintos grupos raciales dentro de una población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n por se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38480" y="1847880"/>
            <a:ext cx="466704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6920" y="1828800"/>
            <a:ext cx="46101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66920" y="1752480"/>
            <a:ext cx="461016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76640" y="1771560"/>
            <a:ext cx="459072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43080" y="1771560"/>
            <a:ext cx="48578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76640" y="1886040"/>
            <a:ext cx="459072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71600" y="1895400"/>
            <a:ext cx="460080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95560" y="1895400"/>
            <a:ext cx="495288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37484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tasas de mortalidad por causas específicas se expresan norm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número de muertes por cada 100.000 habitantes porque par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ía de las causas de muerte, dichas ocurrencias son muy ba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es el número de niños men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año que fallece por cada 1.000 nacidos vivos durante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8412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 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práctica, una muerte materna se define como la muerte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ujer mientras está embarazada o dentro de un plazo de 42 dí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ber terminado el embarazo debido a cualquier causa relacionad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eorada por el embarazo o su administración, pero no debid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usas accidentales o incid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184400"/>
            <a:ext cx="833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peranza de vida es una estimación del númer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omed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vida adicionales que una persona podría esperar vivir si las tas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talidad por edad específica para un año determinado permaneci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el resto de su vida. La esperanza de vida es un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otética porque se basa en las tasas de mortalidad actuales, pero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sas de mortalidad reales cambian durante el transcurso de la vid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ersona. La esperanza de vida de cada persona cambia segú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a envejece y a medida que cambian las tendencias de mortan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ido a que la esperanza de vida varía de manera sign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el sexo, la edad actual y la raza, normalmente estas categorías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an por separado. La esperanza de vida al nacer es l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comúnmente citada. Es un buen indicador de las condicion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ud act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26828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bla de mortalidad es una de las herramient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campo de la demografía que se utiliza para simular la mort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talicia experimentada por una población. Lo logra tomando l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mortalidad por edad específica de una población y aplicándol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oblació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potét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100.000 personas nacidas en esa mi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época. Durante cada año de la tabla de mortalidad, es inevitable que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meros de la población hipotética disminuyan hasta llegar a la úl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lera donde las personas de edad más avanzada también mori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184400"/>
            <a:ext cx="833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000" y="622440"/>
            <a:ext cx="9034560" cy="5613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13640" y="2637000"/>
            <a:ext cx="670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Arial"/>
              </a:rPr>
              <a:t>Situación Chile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9-14T14:43:12Z</dcterms:modified>
  <cp:revision>67</cp:revision>
  <dc:subject/>
  <dc:title>Leopoldo María Panero: biografía</dc:title>
</cp:coreProperties>
</file>