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1F3-A659-4693-B754-CE36CC23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550-DABA-4FE7-B559-82985E83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37A-375E-4519-93DD-42AE6CC6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F99-0A2F-49A7-A612-E48A637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2C9-5BD7-48E4-9AAB-C0B2281D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DBD-1F66-49C6-A3C0-8CEC1DAD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3F65-FE55-484E-8393-2C5130EC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259C-9CAA-4E35-A6BB-0B6E8057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0821-58E5-4C34-91C6-7363EAC3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B6B-3A4B-41B9-A710-63D25BB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1751-2266-43A8-997D-147D0E9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BD0-3E0B-4F45-ADD0-D0C55089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B4A-ACF2-4373-BEC6-7F79784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07B0-6A01-443E-AD3D-220BF38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AB96-80A4-4261-A6A6-AE756E43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EC92-9136-47DF-A308-EB56743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A95-A908-4083-95DD-24C6B97B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EED-6769-4609-80F9-5619C59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FF0-5CD1-4CE2-BDFE-0E491288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FD3-BF56-4212-8A82-ADD57FC0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2D2-1D0E-4A1B-9DE5-59110EE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F1E-818B-4B18-8E8B-794879B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051-746A-4694-A576-D35B13E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365-9023-4A06-983E-EC074FA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7717-2498-4BA2-9D48-B182E52FD167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D11D-E837-406D-A8C2-952549B74F0A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35280" y="1052640"/>
            <a:ext cx="5486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gramación Activ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CION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TOU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42920" y="981000"/>
            <a:ext cx="7263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tividad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r 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UN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 las tres películas que se indican a continuación y reflexionar sob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Qué les impactó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 Qué fortalezas y debilidades presentan las  personas con discapacidad que son protagonist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Las personas con discapacidad  están integradas a la socied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Qué obstáculos para la integración exist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1944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mipie_1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3246480" cy="4853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0" y="990720"/>
            <a:ext cx="304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 pie izquierd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es una película basada en la vida del escritor irlandés Christy Brown, quien tenía parálisis cerebral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2209680" cy="203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457200"/>
            <a:ext cx="5715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  <a:ea typeface="Times New Roman"/>
              </a:rPr>
              <a:t>YO SOY S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 am Sam)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Dirección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essie Nelson.</a:t>
            </a:r>
            <a:br>
              <a:rPr sz="2400"/>
            </a:br>
            <a:r>
              <a:rPr b="1" lang="es-ES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País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USA.</a:t>
            </a:r>
            <a:br>
              <a:rPr sz="2400"/>
            </a:br>
            <a:r>
              <a:rPr b="1" lang="es-ES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Año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2001.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Duració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132 min.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Interpretació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ean Penn (Sam Dawson), Michelle Pfeiffer (Rita Harrison),otro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 conmovedor drama sentimental en el que Sean Penn da vida a Sam, un deficiente mental que deberá luchar en los tribunales para conservar la custodia de su pequeña hij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3810240" cy="5334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29200" y="762120"/>
            <a:ext cx="2743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Arial"/>
              </a:rPr>
              <a:t>En la película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Arial"/>
              </a:rPr>
              <a:t>Forrest Gam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Arial"/>
              </a:rPr>
              <a:t>, su protagonista Tom Hanks dice en un momento: "Tonto es el que hace tonterías", el que miente de forma reiterada y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3:38:47Z</dcterms:created>
  <dc:creator>terapia</dc:creator>
  <dc:description/>
  <dc:language>en-US</dc:language>
  <cp:lastModifiedBy>Fac. de Medicina</cp:lastModifiedBy>
  <dcterms:modified xsi:type="dcterms:W3CDTF">2009-08-26T17:45:22Z</dcterms:modified>
  <cp:revision>8</cp:revision>
  <dc:subject/>
  <dc:title>Presentación de PowerPoint</dc:title>
</cp:coreProperties>
</file>