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3CF-CB79-4FE7-B3C3-89710048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605-9B27-4D35-9EB4-B33CFC31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B40-470C-4E2D-9469-FBE7CD3A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766-F99B-4080-9765-AF5338D6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0259-957B-49D7-887B-A9CA292C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8822-512B-403C-81C5-05CE0660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5400-F98B-4BA5-9FC8-CE23B7FC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AFEB-36AC-4BCE-AB4F-C51704B6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978D-AD9A-4DAA-89E9-00DBFBCB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D981-D34A-4A01-ADC3-3DC1C515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5E69-9253-4889-B36D-43AC6B43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FA9-915D-4E2D-8225-9B8E8248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AE75-0F70-4D85-AD3F-2258BB97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C99D-71BA-44BD-A34C-D4D7A01A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3191-8B5A-4665-9AAA-78FD84BE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24B3-D418-425D-9AB2-5EFCFF42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5729-8B99-4A20-A22D-31FF1D4A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97C-58BC-434E-94FC-495DE7C7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5E4-8DA7-46A1-82BC-8AF72467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D95-62BA-4C05-B036-E3771BC7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D04-8A83-4788-AF67-86C0701C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FD6-468E-4F2E-8215-F32125E3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A74-3764-4986-9C48-7AF1C565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0E8-4D42-4A1B-834B-C6B31402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1014-13C8-4320-9752-C2B44129FB7D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491E-9D86-455A-8040-697B8C9C4BB7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ENTREVIST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carena Valdés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FASES DE LA ENTREVIST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8a5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3300"/>
                </a:solidFill>
                <a:uFillTx/>
                <a:latin typeface="Tahoma"/>
              </a:rPr>
              <a:t>1.- APERTURA</a:t>
            </a: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: orientada a la obtención de confianza y logro de una relación con 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P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Preocupación del ambiente físico y revisión de antecedentes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Introducción y salud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Definición de metas para la entrevis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ahoma"/>
              </a:rPr>
              <a:t>Demostración de interés en la persona d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FASES DE LA ENTREVIST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8a5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3300"/>
                </a:solidFill>
                <a:latin typeface="Tahoma"/>
              </a:rPr>
              <a:t>2.-</a:t>
            </a:r>
            <a:r>
              <a:rPr b="0" lang="es-ES" sz="2800" spc="-1" strike="noStrike" u="sng">
                <a:solidFill>
                  <a:srgbClr val="663300"/>
                </a:solidFill>
                <a:uFillTx/>
                <a:latin typeface="Tahoma"/>
              </a:rPr>
              <a:t>CUERP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Tahoma"/>
              </a:rPr>
              <a:t>   </a:t>
            </a:r>
            <a:r>
              <a:rPr b="0" lang="es-ES" sz="2400" spc="-1" strike="noStrike">
                <a:solidFill>
                  <a:srgbClr val="663300"/>
                </a:solidFill>
                <a:latin typeface="Tahoma"/>
              </a:rPr>
              <a:t>a. FASE EXPLORATO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Tahoma"/>
              </a:rPr>
              <a:t>Delimitación de la consulta y negociación de razón principal de para esta reunió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Tahoma"/>
              </a:rPr>
              <a:t>Organización del flujo de informació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Tahoma"/>
              </a:rPr>
              <a:t>Exploración de creencias y preocupacion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Tahoma"/>
              </a:rPr>
              <a:t>Desarrollo del contexto vital del problema: que sabe del problema, con que lo relaciona, entorno, ac. Vitales, afectividad  el pacient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Tahoma"/>
              </a:rPr>
              <a:t>Actualización de problemas anteriores: consultas anteri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Tahoma"/>
              </a:rPr>
              <a:t>Revisión por sistemas y factores de riesgo, 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Tahoma"/>
              </a:rPr>
              <a:t>Exámen fís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FASES DE LA ENTREVIST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f8a500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3300"/>
                </a:solidFill>
                <a:uFillTx/>
                <a:latin typeface="Tahoma"/>
              </a:rPr>
              <a:t>2.-CUERPO</a:t>
            </a: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b. FASE RESOLUTIVA:  Componer un plan de cuidado posible de ser llevado a cabo por el paci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ahoma"/>
              </a:rPr>
              <a:t>Pas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Enunciación de los problemas y confirmación de este por el pacient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Informar y educar al paciente sobre sus proble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Propuesta de acuerdo de plan de acción ( problema por problema y mencionando cambio conductual esperado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Negociación de plan de acción ( c/ posibilidades reales y asegurar comprensión y asimilación x parte del paciente 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ahoma"/>
              </a:rPr>
              <a:t>Acuerdo y alianz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FASES DE LA ENTREVIST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solidFill>
            <a:srgbClr val="f8a5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3.-CIER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Revisión y confirmación de contrat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Invitación final al trabajo en equipo y seguimient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Despedi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ECNICAS DE APOYO NARRATIV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mpati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lidez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speto 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cre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58920" y="2565360"/>
            <a:ext cx="65228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UCHAS GRACI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a entrevist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ramienta valiosa de uso diario en donde se entremezclan posibilidad de recolección de buena información, establecimiento de una relación de calidad y educación ,motivación y negociación con 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ecto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uen diagnostico de enfermerí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adherencia al cuidado 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atisfacción de paciente y del profe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bbd71"/>
                </a:solidFill>
                <a:latin typeface="Arial"/>
              </a:rPr>
              <a:t>Modelo Tri-funcional de Entrevist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- Recolección de información exacta y preci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- Relación profesional para la satisfacción de ambas partes involucradas en el acto y el establecimiento de una buena alianza de trabajo, 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- Educación, Negociación y Motivación para un plan de cuid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bbd71"/>
                </a:solidFill>
                <a:latin typeface="Arial"/>
              </a:rPr>
              <a:t>Recolección de información exacta y precisa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ahoma"/>
              </a:rPr>
              <a:t>Destreza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écnica del embu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li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rificación y precisión de sent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queo y corrobo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sión de problemas adi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Recolección de información exacta y precisa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00"/>
                </a:solidFill>
                <a:latin typeface="Tahoma"/>
              </a:rPr>
              <a:t>Destre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mpatía: Capacidad de apreciar, comprender y aceptar situación emocional de otro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eguntas abiertas: permitir el que el paciente describa su problema en sus propios términ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écnica del embudo: buscar el abordaje de un tema en forma progresivamente mas específ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cilitación: Conductas verbales y no verbales que apoyen la expresión de parte del paci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Recolección de información exacta y precisa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00"/>
                </a:solidFill>
                <a:latin typeface="Tahoma"/>
              </a:rPr>
              <a:t>Destrez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larificación y precisión de sentido: volver a preguntar o pedir aclaración  de algún aspecto del relato del paciente Ej: cuando Ud. dice que “ “ que entiende  por eso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Chequeo y corroboración: repetir en forma resumida lo entendido y solicitar al paciente que lo confirme o corrija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Revisión de problemas adicionales: pq. no es fácil comenzar por consultar lo mas doloroso o preocupant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ñalamiento: Mostrar posibles relaciones entre emociones y conductas y áreas de confli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Relación emocional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00"/>
                </a:solidFill>
                <a:latin typeface="Tahoma"/>
              </a:rPr>
              <a:t>Destrez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mpatiz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flejar emociones ( nombrar emoción percibida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ductas no verbal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egitimar (aceptar y validar la experiencia del paciente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acilitar la expresión verbal del paciente( cuenteme más acerca de, silencios,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poyar  a, la person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acer alianza de trabajo 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spet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Educación, Negociación y Motivación para un plan de cuidad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00"/>
                </a:solidFill>
                <a:latin typeface="Tahoma"/>
              </a:rPr>
              <a:t>Destreza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r al paciente respecto de su problema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ociar con el paciente un plan de tratamiento 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tivar al pacie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FASES DE LA ENTREVIST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APER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CUER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FASE EXPLOR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FASE RESOLU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- CIER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4:30:45Z</dcterms:created>
  <dc:creator>Fac. de Medicina</dc:creator>
  <dc:description/>
  <dc:language>en-US</dc:language>
  <cp:lastModifiedBy>Facultad de Medicina</cp:lastModifiedBy>
  <dcterms:modified xsi:type="dcterms:W3CDTF">2009-10-06T21:09:33Z</dcterms:modified>
  <cp:revision>27</cp:revision>
  <dc:subject/>
  <dc:title>ENTREVISTA</dc:title>
</cp:coreProperties>
</file>