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23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10.png" ContentType="image/png"/>
  <Override PartName="/ppt/media/image12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35.png" ContentType="image/png"/>
  <Override PartName="/ppt/media/image43.jpeg" ContentType="image/jpeg"/>
  <Override PartName="/ppt/media/image37.jpeg" ContentType="image/jpeg"/>
  <Override PartName="/ppt/media/image13.png" ContentType="image/png"/>
  <Override PartName="/ppt/media/image36.jpeg" ContentType="image/jpeg"/>
  <Override PartName="/ppt/media/image40.jpeg" ContentType="image/jpeg"/>
  <Override PartName="/ppt/media/image44.png" ContentType="image/png"/>
  <Override PartName="/ppt/media/image42.jpeg" ContentType="image/jpeg"/>
  <Override PartName="/ppt/media/image39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6F45-180A-4716-B191-659355FB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ABD3-BAAD-44C4-B6DF-57062E71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17EA-DB4D-4FDC-9BD5-BF32FFB6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F2D3-64D9-40F8-ADFA-AB690824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5379-402D-4851-A77B-4438C613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925A-212E-4352-8ABE-D5E4F191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C890-EDDA-4F77-BBCF-604A119B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B46D-1071-4496-9D41-39F0022D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5B52-F79E-4FE8-967B-F232BA3D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E732-9912-4F74-8E35-030FA755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5C08-3204-4550-A455-28BDE65A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A12-8E92-4DE1-8369-7F54379C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21F6-CD6F-4E5F-A626-DDA3607D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91AF-231F-44A2-A2EF-6AEAE1DA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C2CB-297F-4A2D-9A28-6BD6F575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ACC2-9368-452B-BDE2-82759517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3E85-E96B-447A-ABBA-7F07A94B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CE72F-5AC5-4CA6-A3DA-19BCEF72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7D049-0FC4-4314-8D77-1B68D466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BE1B1-7013-49AE-A72C-95531720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B63CF-07CB-4BE9-98BE-1E25058B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7F2A0-B101-4B0B-AE88-F059E8AC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86BD-2603-42B2-A59A-D37FF2DA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4AA7E-AC4F-42E5-B096-7A719272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47AA9-93C4-48E6-9CD6-D219D626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5A8ED-8BEB-4A77-9B79-88E8EAD2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AB1EE-FB02-44AD-BA1D-06DC4486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12249-3CE1-48DA-A29E-5C95EA71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F60B4-EAC4-4D41-91EF-EA012FB2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0048F-79CE-4CC0-A6F2-FC5A6A02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7B7E2-0A91-47F6-9D53-6F31B518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979CA-D893-438C-8CA3-6EA280D0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7C86F-76E5-4B70-B27C-7EE12836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F7C-32C4-4C64-8BA2-B2224233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53241-CB04-4561-8201-0B4E7A18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7E47D-058C-4D04-924B-15799097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361F6-28C3-4959-B440-FECC1623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D3426-4C8B-4525-BEF9-3B5C1EF2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B3DDC-E558-45F0-8F49-FE44D5A0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AC87D-0533-4E40-AE56-75A743E7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32A41-78A8-49A1-A008-5148310B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4EFBB-52D8-4807-8446-5D4E030E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3F902-1390-471D-9234-A1BCD122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09297-65FD-429E-9274-901975F7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DA30-E5E4-447C-84FA-75E61989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939CB-6080-4283-BAE6-2BA3B491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B7823-37AD-4124-8395-AC107F66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00B69-A3E4-435C-AB6E-F8C644A7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BAF6F-16F6-4A7E-A83F-810B0D67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CDB23-BA87-40FF-B540-782A5C37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EB6F0-7D3A-4F8E-BE8F-050971D5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A3E80-1B64-4144-B108-DBB5A033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EEABE-685B-4352-8826-F2190E7A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5F585-37CC-4A67-8B4F-F0F3704A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1A65C-6AD7-47DD-A031-B373022E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4C4-9C91-41D0-95E3-59012B19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AD152-33B4-4F0C-ADC2-52904E98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D8351-6286-4594-B141-59820BDA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60936-9023-470C-BF35-FAFDF9CA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21B23-7347-48F9-ABEF-63B40C54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45536-20E6-4DB3-A805-47758218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06210-8830-4B07-B07E-E870CFF6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F06FC-F989-43C0-A789-B92B4582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567B5-2BF6-4834-9BA8-9C49AA89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19FC3-39DA-42A0-823E-8B12A39A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DF5FE-21C2-4B08-8811-92C393D4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D6F9-0657-4478-B825-C6BB4169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24862-17B9-40DB-9207-F78A3AAC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197B7-AD78-4876-A46B-8DD44660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9A199-67BA-4FE6-B266-C23BB5E5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EAB5A-43B3-45E2-8597-FA2DC3B8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18383-A100-45C1-BCDA-ACFA2EAE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ED224-8C17-444A-86CD-D44EF257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B8E1E-630B-40C8-8B93-888218B6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C2B94-0ECF-4403-9107-C48C952C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385CE-0B8A-439C-A001-A586162C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09236-0126-4030-A875-CDD33C8D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DEAF-0581-4633-BBAC-8D21DB75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EE7C0-5042-4184-9671-9EEC198E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3F79C-A86D-47D6-88CB-16AC97AC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BA9C0-8745-4F1B-B9ED-8F709B68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60160-408C-43CF-88BC-2C3F95D6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64F08-BA22-4378-9FA6-A4B410E8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E578B-2AE0-4D09-B8E5-47CF51FA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DF5D0-6043-4F27-98D9-56DC1486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B8961-AD35-4FF3-AC58-1E15E501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069DD-6270-4F7C-BEA0-735F83A5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01106-B251-4C30-8AFB-50E55C58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6E69-6962-4186-A22C-A4C6F853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5EE50-C2C1-4655-BD20-0835C98A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EDEEF-8644-47A6-A00B-31390AC9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710F8-7A16-474A-BE1A-6699D902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0A297-D3B4-4327-B1BE-E565CE26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8E325-174C-45FF-A90F-5D8BD1EB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32B1F-9750-4DC6-A8FC-6C57CCB8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3734C-4FAC-4CE5-999E-024F0813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D195-4D3F-4AEF-8366-F3631691FBFA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10 Rectángulo redondeado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495E-03BD-4ADC-9F59-5B80A957C08D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3" name="11 Rectángulo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12 Rectángulo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14 Rectángulo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A180-5D31-4BE4-B0B3-3992C5654FD1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10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C668-6D27-4987-89DB-65D98A92333E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9 Rectángulo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10 Rectángulo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11 Rectángulo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9385-6B01-4335-AB4F-033B86E683AC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984000" y="6315480"/>
            <a:ext cx="13474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9F3F-6688-427A-A260-FBA73B0BF876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984000" y="6315480"/>
            <a:ext cx="13474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87CF-BA01-4784-8E67-186F0ECA43A5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67CB-1CD9-4C3B-9EDB-0C99B4BBED38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pn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marceabufhele@gmail.co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066680" y="491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696464"/>
                </a:solidFill>
                <a:latin typeface="Perpetua"/>
              </a:rPr>
              <a:t>V Año Medicina 2009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696464"/>
                </a:solidFill>
                <a:latin typeface="Perpetua"/>
              </a:rPr>
              <a:t>Sede Nor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696464"/>
                </a:solidFill>
                <a:latin typeface="Perpetua"/>
              </a:rPr>
              <a:t>Clínica Psiquiátrica Universitar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1071360" y="1356840"/>
            <a:ext cx="7086600" cy="18608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Franklin Gothic Book"/>
              </a:rPr>
              <a:t>Curso Psiquiatría Infantil y de la Adolescenc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359" name="Object 4"/>
          <p:cNvGraphicFramePr/>
          <p:nvPr/>
        </p:nvGraphicFramePr>
        <p:xfrm>
          <a:off x="3714840" y="0"/>
          <a:ext cx="102528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4840" y="0"/>
                    <a:ext cx="102528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14292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34817"/>
                </a:solidFill>
                <a:latin typeface="Franklin Gothic Book"/>
              </a:rPr>
              <a:t>Agradecimientos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99680" y="1356840"/>
            <a:ext cx="81104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A nuestros paciente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Quienes han sido muy generosos y nos han permitido filmar sesiones de entrevista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es hemos prometido que su uso será exclusivamente profesional y docente. Queremos pedir que se mantenga confidencialida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A los becados y profesionales docentes de la unidad de psiquiatría infantil  CPU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or su tiempo y motivación a colaborar en docenci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A ustedes: por sus deseos de aprender … y motivarnos a hacer una mejor docencia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Al final del curso, les pediremos…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90" name="Picture 4" descr="m4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28890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7"/>
          <p:cNvSpPr/>
          <p:nvPr/>
        </p:nvSpPr>
        <p:spPr>
          <a:xfrm>
            <a:off x="428760" y="4929120"/>
            <a:ext cx="824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d34817"/>
                </a:solidFill>
                <a:latin typeface="Tahoma"/>
              </a:rPr>
              <a:t>…</a:t>
            </a:r>
            <a:r>
              <a:rPr b="1" lang="es-CL" sz="4400" spc="-1" strike="noStrike">
                <a:solidFill>
                  <a:srgbClr val="d34817"/>
                </a:solidFill>
                <a:latin typeface="Tahoma"/>
              </a:rPr>
              <a:t>una evaluación del proceso docent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34817"/>
                </a:solidFill>
                <a:latin typeface="Franklin Gothic Book"/>
              </a:rPr>
              <a:t>Bibliografía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42960" y="1643040"/>
            <a:ext cx="796752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Psicopatología Infantil y del Adolescente”, de Almonte, Montt y Correa, publicado por Editorial Mediterráneo 2003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Perpetua"/>
              </a:rPr>
              <a:t>Capítulos indicados en el programa.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Apuntes adicionales de docente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Perpetua"/>
              </a:rPr>
              <a:t>Indicados en el programa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Perpetua"/>
              </a:rPr>
              <a:t>Apuntes Psicología evolutiva de 2° Año de Medicina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7" descr="mafalda"/>
          <p:cNvPicPr/>
          <p:nvPr/>
        </p:nvPicPr>
        <p:blipFill>
          <a:blip r:embed="rId1"/>
          <a:stretch/>
        </p:blipFill>
        <p:spPr>
          <a:xfrm>
            <a:off x="755640" y="142920"/>
            <a:ext cx="7095960" cy="5324400"/>
          </a:xfrm>
          <a:prstGeom prst="rect">
            <a:avLst/>
          </a:prstGeom>
          <a:ln w="0">
            <a:noFill/>
          </a:ln>
        </p:spPr>
      </p:pic>
      <p:sp>
        <p:nvSpPr>
          <p:cNvPr id="395" name="2 CuadroTexto"/>
          <p:cNvSpPr/>
          <p:nvPr/>
        </p:nvSpPr>
        <p:spPr>
          <a:xfrm>
            <a:off x="928800" y="52149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d34817"/>
                </a:solidFill>
                <a:latin typeface="Tahoma"/>
              </a:rPr>
              <a:t>Y que disfruten el curso…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295280" y="3543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Perpetua"/>
              </a:rPr>
              <a:t>Conceptos generale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Franklin Gothic Book"/>
              </a:rPr>
              <a:t>Psiquiatría de niños y adolescentes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ChildrenSeeChildrenDo.wmv" descr=""/>
          <p:cNvPicPr/>
          <p:nvPr/>
        </p:nvPicPr>
        <p:blipFill>
          <a:blip r:embed="rId1"/>
          <a:stretch/>
        </p:blipFill>
        <p:spPr>
          <a:xfrm>
            <a:off x="285840" y="142920"/>
            <a:ext cx="864396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501040" cy="1082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Psiquiatría Infantil y del adolescent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71680" y="1642680"/>
            <a:ext cx="81151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Especialidad primaria de la medicina cuyo campo de acción es prevención, diagnóstico, tratamiento y rehabilitación de enfermedades mentales del niño y adolescente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Prevención: promoción y fomento de salud mental y </a:t>
            </a:r>
            <a:r>
              <a:rPr b="1" lang="es-CL" sz="2200" spc="-1" strike="noStrike">
                <a:solidFill>
                  <a:srgbClr val="000000"/>
                </a:solidFill>
                <a:latin typeface="Perpetua"/>
              </a:rPr>
              <a:t>desarrollo</a:t>
            </a: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 sano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Conociendo factores de riesgo y de protección. Factores de Resilienci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Diagnóstico, tratamiento y rehabilitación de las patologías mentales y problemas de salud mental que pueden alterar el </a:t>
            </a:r>
            <a:r>
              <a:rPr b="1" lang="es-CL" sz="2200" spc="-1" strike="noStrike">
                <a:solidFill>
                  <a:srgbClr val="000000"/>
                </a:solidFill>
                <a:latin typeface="Perpetua"/>
              </a:rPr>
              <a:t>desarrollo</a:t>
            </a: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 normal y sano de niños y adolescent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Comparte campo con neurología infantil y pediatrí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Desarrollo biopsicosocia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28400" y="164304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Adquisición de una identidad biológica, psicológica y social que equilibre las necesidades del individuo con las del contexto social en el que está inserto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Proceso de inducción sucesiva y recíproca entre diferentes sistemas (genética, neurobiología, ambiente familiar, sociocultural, entre otros) que conducen a la construcción  de una persona que es simultáneamente un </a:t>
            </a:r>
            <a:r>
              <a:rPr b="0" i="1" lang="es-ES" sz="2600" spc="-1" strike="noStrike">
                <a:solidFill>
                  <a:srgbClr val="d34817"/>
                </a:solidFill>
                <a:latin typeface="Perpetua"/>
              </a:rPr>
              <a:t>“organismo, un yo y un miembro de la sociedad”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Desarrollo biopsicosocia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¿Por qué es necesario conocer el desarrollo normal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Permite diferenciar conductas normales y patológica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Permite impulsar aspectos preventivos que fomenten desarrollo integral del niño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Distintos logros en distintos periodos evolutiv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Bebé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, preescolar, escolar, adolescencia, adultez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Integración de distintos context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Individual, familiar, escolar, social, cultur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d34817"/>
                </a:solidFill>
                <a:latin typeface="Franklin Gothic Book"/>
              </a:rPr>
              <a:t>¿Qué tipos de problemas aborda la Psiquiatría del niño y adolescente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59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lteración o desviación del desarrollo psicológico/psiquiátrico integral de niños y adolescent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nfermedades psiquiátricas de inicio en la infancia/adolescenci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nfermedades psiquiátricas que se inician a cualquier edad y también en infancia/adolescenci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Síntomas psicológicos originados por situaciones vitales y contextuales que afectan al niño/adolescen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Síntomas psicológicos que acompañan a enfermedades orgánica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4296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34817"/>
                </a:solidFill>
                <a:latin typeface="Franklin Gothic Book"/>
              </a:rPr>
              <a:t>Objetivo del curso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57120" y="1447560"/>
            <a:ext cx="43070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536400" indent="-22392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Perpetua"/>
              </a:rPr>
              <a:t>Formar al futuro médico en los conocimientos y habilidades básicas de la disciplina: 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Perpetua"/>
              </a:rPr>
              <a:t>Desempeñar un rol educativo y preventivo de la salud mental del niño y su familia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Perpetua"/>
              </a:rPr>
              <a:t>Diagnóstico y manejo inicial de la patología de la especialidad de consulta más frecuente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3" name="Picture 11" descr="life"/>
          <p:cNvPicPr/>
          <p:nvPr/>
        </p:nvPicPr>
        <p:blipFill>
          <a:blip r:embed="rId1"/>
          <a:stretch/>
        </p:blipFill>
        <p:spPr>
          <a:xfrm>
            <a:off x="4673520" y="1928880"/>
            <a:ext cx="4316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d34817"/>
                </a:solidFill>
                <a:latin typeface="Franklin Gothic Book"/>
              </a:rPr>
              <a:t>Relevancia de psiquiatría infantil en Chil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14400" y="17859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Edad Adult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36% de la población tenía un trastorno psiquiátrico por lo menos 1 vez en la vid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22,6% refería 1 trastorno en los últimos 6 mes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erpetua"/>
              </a:rPr>
              <a:t>Estudio Chileno de prevalencia de patología psiquiátrica. Vicente B., Rioseco P., Saldivia S., Kohn R., Torres S. Rev. Med. Chile. V.130, N°5, Mayo 2002. 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lvl="2" marL="272880" indent="-2728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Niños y Adolescent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evalencia:  24,2% en escolares y 22,3% en niños mayores de 10 añ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erpetua"/>
              </a:rPr>
              <a:t>Toledo V., De la Barra F., López C., George M., Rodríguez J. en Psicopatología Infantil y de la Adolescencia de Almonte C., Montt M.E., Correa A. Editorial Mediterráneo. 2003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CL" sz="3600" spc="-1" strike="noStrike">
                <a:solidFill>
                  <a:srgbClr val="d34817"/>
                </a:solidFill>
                <a:latin typeface="Franklin Gothic Book"/>
              </a:rPr>
              <a:t> </a:t>
            </a:r>
            <a:r>
              <a:rPr b="0" lang="es-CL" sz="3600" spc="-1" strike="noStrike">
                <a:solidFill>
                  <a:srgbClr val="d34817"/>
                </a:solidFill>
                <a:latin typeface="Franklin Gothic Book"/>
              </a:rPr>
              <a:t>¿Qué tiene de diferente la Psiquiatría infantil y de la adolescencia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714240" y="178596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os síntomas se producen en un ser en </a:t>
            </a:r>
            <a:r>
              <a:rPr b="0" lang="es-CL" sz="2600" spc="-1" strike="noStrike">
                <a:solidFill>
                  <a:srgbClr val="d34817"/>
                </a:solidFill>
                <a:latin typeface="Perpetua"/>
              </a:rPr>
              <a:t>desarroll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a importancia del</a:t>
            </a:r>
            <a:r>
              <a:rPr b="0" lang="es-CL" sz="2600" spc="-1" strike="noStrike">
                <a:solidFill>
                  <a:srgbClr val="d34817"/>
                </a:solidFill>
                <a:latin typeface="Perpetua"/>
              </a:rPr>
              <a:t> context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or lo tanto…..su importante rol </a:t>
            </a:r>
            <a:r>
              <a:rPr b="0" lang="es-CL" sz="2600" spc="-1" strike="noStrike">
                <a:solidFill>
                  <a:srgbClr val="d34817"/>
                </a:solidFill>
                <a:latin typeface="Perpetua"/>
              </a:rPr>
              <a:t>preventiv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1" name="5 Marcador de contenido" descr="untitled.bmp"/>
          <p:cNvPicPr/>
          <p:nvPr/>
        </p:nvPicPr>
        <p:blipFill>
          <a:blip r:embed="rId1"/>
          <a:stretch/>
        </p:blipFill>
        <p:spPr>
          <a:xfrm>
            <a:off x="4951440" y="1785960"/>
            <a:ext cx="37148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d34817"/>
                </a:solidFill>
                <a:latin typeface="Franklin Gothic Book"/>
              </a:rPr>
              <a:t>Para analizar las conductas de los niños: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500040" y="1773360"/>
            <a:ext cx="4319640" cy="52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ocer el desarrollo normal del niñ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nalizar el contexto en que se produce la conduc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ocer intensidad y características de la conduc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terminar incapacidad que produ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4" name="5 Marcador de contenido" descr="niños.jpg"/>
          <p:cNvPicPr/>
          <p:nvPr/>
        </p:nvPicPr>
        <p:blipFill>
          <a:blip r:embed="rId1"/>
          <a:stretch/>
        </p:blipFill>
        <p:spPr>
          <a:xfrm>
            <a:off x="5238720" y="2000160"/>
            <a:ext cx="358776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d34817"/>
                </a:solidFill>
                <a:latin typeface="Franklin Gothic Book"/>
              </a:rPr>
              <a:t>¿Cómo diferenciar una conducta normal de un trastorno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933800" y="164304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Frecuencia inusu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No acorde a edad de desarrollo del niño o adolescen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Ocurre en más de un contexto o ambien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Grado de discapacidad funcional que produce (severidad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iempo de duració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7" name="Picture 10" descr="nautico"/>
          <p:cNvPicPr/>
          <p:nvPr/>
        </p:nvPicPr>
        <p:blipFill>
          <a:blip r:embed="rId1"/>
          <a:stretch/>
        </p:blipFill>
        <p:spPr>
          <a:xfrm>
            <a:off x="1071720" y="1770120"/>
            <a:ext cx="34290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Análisis de la psicopatologí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9" name="6 CuadroTexto"/>
          <p:cNvSpPr/>
          <p:nvPr/>
        </p:nvSpPr>
        <p:spPr>
          <a:xfrm>
            <a:off x="214200" y="1643040"/>
            <a:ext cx="10717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NIÑO/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D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7 CuadroTexto"/>
          <p:cNvSpPr/>
          <p:nvPr/>
        </p:nvSpPr>
        <p:spPr>
          <a:xfrm>
            <a:off x="2143080" y="1643040"/>
            <a:ext cx="16430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8 CuadroTexto"/>
          <p:cNvSpPr/>
          <p:nvPr/>
        </p:nvSpPr>
        <p:spPr>
          <a:xfrm>
            <a:off x="4786200" y="1643040"/>
            <a:ext cx="13575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NTEX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9 CuadroTexto"/>
          <p:cNvSpPr/>
          <p:nvPr/>
        </p:nvSpPr>
        <p:spPr>
          <a:xfrm>
            <a:off x="7000920" y="1643040"/>
            <a:ext cx="1357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INTOM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3" name="Picture 5" descr="mafalda%20sulla%20sedia"/>
          <p:cNvPicPr/>
          <p:nvPr/>
        </p:nvPicPr>
        <p:blipFill>
          <a:blip r:embed="rId1"/>
          <a:stretch/>
        </p:blipFill>
        <p:spPr>
          <a:xfrm>
            <a:off x="303120" y="2492280"/>
            <a:ext cx="971640" cy="13176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4" descr="manolito"/>
          <p:cNvPicPr/>
          <p:nvPr/>
        </p:nvPicPr>
        <p:blipFill>
          <a:blip r:embed="rId2"/>
          <a:stretch/>
        </p:blipFill>
        <p:spPr>
          <a:xfrm>
            <a:off x="250920" y="4149720"/>
            <a:ext cx="1155600" cy="1441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2" descr="familia"/>
          <p:cNvPicPr/>
          <p:nvPr/>
        </p:nvPicPr>
        <p:blipFill>
          <a:blip r:embed="rId3"/>
          <a:stretch/>
        </p:blipFill>
        <p:spPr>
          <a:xfrm>
            <a:off x="4857840" y="2143080"/>
            <a:ext cx="1123920" cy="9698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5" descr="profesor"/>
          <p:cNvPicPr/>
          <p:nvPr/>
        </p:nvPicPr>
        <p:blipFill>
          <a:blip r:embed="rId4"/>
          <a:stretch/>
        </p:blipFill>
        <p:spPr>
          <a:xfrm>
            <a:off x="4857840" y="4000680"/>
            <a:ext cx="1428840" cy="10220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0" descr="mafalda_amici"/>
          <p:cNvPicPr/>
          <p:nvPr/>
        </p:nvPicPr>
        <p:blipFill>
          <a:blip r:embed="rId5"/>
          <a:stretch/>
        </p:blipFill>
        <p:spPr>
          <a:xfrm>
            <a:off x="4786200" y="5143680"/>
            <a:ext cx="1776600" cy="9284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8" descr="dinero"/>
          <p:cNvPicPr/>
          <p:nvPr/>
        </p:nvPicPr>
        <p:blipFill>
          <a:blip r:embed="rId6"/>
          <a:stretch/>
        </p:blipFill>
        <p:spPr>
          <a:xfrm>
            <a:off x="5143680" y="3214800"/>
            <a:ext cx="793440" cy="6760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http://blog.educastur.es/dcmo/files/2008/10/dibujo-de-corteza-cerebral.jpg"/>
          <p:cNvPicPr/>
          <p:nvPr/>
        </p:nvPicPr>
        <p:blipFill>
          <a:blip r:embed="rId7"/>
          <a:stretch/>
        </p:blipFill>
        <p:spPr>
          <a:xfrm>
            <a:off x="2214720" y="2071800"/>
            <a:ext cx="1373040" cy="11635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5" descr="garfield"/>
          <p:cNvPicPr/>
          <p:nvPr/>
        </p:nvPicPr>
        <p:blipFill>
          <a:blip r:embed="rId8"/>
          <a:stretch/>
        </p:blipFill>
        <p:spPr>
          <a:xfrm>
            <a:off x="2286000" y="3338640"/>
            <a:ext cx="857160" cy="11620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6" descr="bbarrosoir"/>
          <p:cNvPicPr/>
          <p:nvPr/>
        </p:nvPicPr>
        <p:blipFill>
          <a:blip r:embed="rId9"/>
          <a:stretch/>
        </p:blipFill>
        <p:spPr>
          <a:xfrm>
            <a:off x="2286000" y="4357800"/>
            <a:ext cx="1228680" cy="12110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2" descr="20051214183134-rayo"/>
          <p:cNvPicPr/>
          <p:nvPr/>
        </p:nvPicPr>
        <p:blipFill>
          <a:blip r:embed="rId10"/>
          <a:stretch/>
        </p:blipFill>
        <p:spPr>
          <a:xfrm>
            <a:off x="7072200" y="2214720"/>
            <a:ext cx="1117800" cy="12952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0" descr="illustration_02"/>
          <p:cNvPicPr/>
          <p:nvPr/>
        </p:nvPicPr>
        <p:blipFill>
          <a:blip r:embed="rId11"/>
          <a:stretch/>
        </p:blipFill>
        <p:spPr>
          <a:xfrm>
            <a:off x="7143840" y="3857760"/>
            <a:ext cx="17301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El diagnóstico en Psiquiatría Infantil es (principalmente) clínic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914400" y="1643040"/>
            <a:ext cx="374976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quiere de una cuidadosa historia clínica y examen ment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36" name="5 Marcador de contenido" descr="niños jugando.bmp"/>
          <p:cNvPicPr/>
          <p:nvPr/>
        </p:nvPicPr>
        <p:blipFill>
          <a:blip r:embed="rId1"/>
          <a:stretch/>
        </p:blipFill>
        <p:spPr>
          <a:xfrm>
            <a:off x="5351400" y="1685880"/>
            <a:ext cx="29145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5" descr="padres"/>
          <p:cNvPicPr/>
          <p:nvPr/>
        </p:nvPicPr>
        <p:blipFill>
          <a:blip r:embed="rId1"/>
          <a:stretch/>
        </p:blipFill>
        <p:spPr>
          <a:xfrm>
            <a:off x="2195640" y="1989000"/>
            <a:ext cx="4752720" cy="344016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24"/>
          <p:cNvSpPr/>
          <p:nvPr/>
        </p:nvSpPr>
        <p:spPr>
          <a:xfrm>
            <a:off x="2700360" y="115920"/>
            <a:ext cx="433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Y la información se obtiene (principalmente) de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Y de otras fuentes</a:t>
            </a: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…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441" name="6 Marcador de contenido" descr="profesores.gif"/>
          <p:cNvPicPr/>
          <p:nvPr/>
        </p:nvPicPr>
        <p:blipFill>
          <a:blip r:embed="rId1"/>
          <a:stretch/>
        </p:blipFill>
        <p:spPr>
          <a:xfrm>
            <a:off x="571680" y="1571760"/>
            <a:ext cx="2781000" cy="38764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pediatra"/>
          <p:cNvPicPr/>
          <p:nvPr/>
        </p:nvPicPr>
        <p:blipFill>
          <a:blip r:embed="rId2"/>
          <a:stretch/>
        </p:blipFill>
        <p:spPr>
          <a:xfrm>
            <a:off x="5715000" y="1000080"/>
            <a:ext cx="2238480" cy="27972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0" descr="Resource2"/>
          <p:cNvPicPr/>
          <p:nvPr/>
        </p:nvPicPr>
        <p:blipFill>
          <a:blip r:embed="rId3"/>
          <a:stretch/>
        </p:blipFill>
        <p:spPr>
          <a:xfrm>
            <a:off x="6215040" y="4146480"/>
            <a:ext cx="2805120" cy="22161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C:\Users\usuario\Pictures\Abuelos2.jpg"/>
          <p:cNvPicPr/>
          <p:nvPr/>
        </p:nvPicPr>
        <p:blipFill>
          <a:blip r:embed="rId4"/>
          <a:stretch/>
        </p:blipFill>
        <p:spPr>
          <a:xfrm>
            <a:off x="3571920" y="4071960"/>
            <a:ext cx="22096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Procedimientos diagnóstico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ntrevista clínica al niño y a los padr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Historia dificultades actual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Historia del desarrollo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xamen ment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xamen neurológico y físic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xploración familia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Informe escola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valuación psicológic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valuación fonoaudiológica y T.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valuación por asistente social</a:t>
            </a: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Interconsulta a otros especialista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boratorio y radiología: hormonas tiroídeas, EEG, TAC, RNM; Spect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Entrevista a niños y adolescent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571680" y="1447560"/>
            <a:ext cx="409248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Con actitud cálida y empática,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preguntar si sabe por qué viene a la consulta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499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Hablar sobre áreas de interés del niño, acercándose discretamente al área problemática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499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Niño pequeño: se puede jugar con el niño, dibujar con él, o dejarlo dibujar en forma libr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499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Mientras se interactúa se va realizando examen mental del niño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51" name="Picture 6" descr="2005"/>
          <p:cNvPicPr/>
          <p:nvPr/>
        </p:nvPicPr>
        <p:blipFill>
          <a:blip r:embed="rId1"/>
          <a:stretch/>
        </p:blipFill>
        <p:spPr>
          <a:xfrm>
            <a:off x="4933800" y="2300400"/>
            <a:ext cx="37497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34817"/>
                </a:solidFill>
                <a:latin typeface="Franklin Gothic Book"/>
              </a:rPr>
              <a:t>Características generales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28760" y="1571400"/>
            <a:ext cx="846432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Perpetua"/>
              </a:rPr>
              <a:t>Este curso está organizado con la colaboración de las </a:t>
            </a:r>
            <a:r>
              <a:rPr b="0" lang="es-ES" sz="2800" spc="-1" strike="noStrike">
                <a:solidFill>
                  <a:srgbClr val="000000"/>
                </a:solidFill>
                <a:latin typeface="Perpetua"/>
              </a:rPr>
              <a:t>unidades docentes Norte, Oriente y Sur</a:t>
            </a:r>
            <a:r>
              <a:rPr b="0" lang="es-ES_tradnl" sz="2800" spc="-1" strike="noStrike">
                <a:solidFill>
                  <a:srgbClr val="000000"/>
                </a:solidFill>
                <a:latin typeface="Perpetua"/>
              </a:rPr>
              <a:t> de la Universidad de Chil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Impartiéndose un programa común para todos los campus de la Facultad de Medicina de la Universidad de Chil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Perpetua"/>
              </a:rPr>
              <a:t>Se ha realizado un esfuerzo por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Privilegiar las temáticas relevantes para el médico general, considerando el escaso tiempo disponibl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Privilegiar las actividades práctica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Entrevista a niños y adolescent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99680" y="1447560"/>
            <a:ext cx="416412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A mayor edad mayor uso de técnicas verbales de comunicació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Adecuar lenguaje a nivel de desarrollo del niño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Adolescentes: darles espacio, entrevistarlo solo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Nunca entrevistar solo a los padr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Siempre preguntar en que le gustaría recibir ayuda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54" name="4 Marcador de contenido" descr="adolescentes.jpg"/>
          <p:cNvPicPr/>
          <p:nvPr/>
        </p:nvPicPr>
        <p:blipFill>
          <a:blip r:embed="rId1"/>
          <a:stretch/>
        </p:blipFill>
        <p:spPr>
          <a:xfrm>
            <a:off x="4933800" y="1477800"/>
            <a:ext cx="374976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Entrevista a los padr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14200" y="1447560"/>
            <a:ext cx="47865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Perpetua"/>
              </a:rPr>
              <a:t>Motivo de consulta - anamnesi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80320" indent="-321840">
              <a:lnSpc>
                <a:spcPct val="90000"/>
              </a:lnSpc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Desde cuándo se produce la conducta que les preocupa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38440" indent="-321840">
              <a:lnSpc>
                <a:spcPct val="90000"/>
              </a:lnSpc>
              <a:spcBef>
                <a:spcPts val="499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¿Desde “siempre” o desde un determinado momento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80320" indent="-321840">
              <a:lnSpc>
                <a:spcPct val="90000"/>
              </a:lnSpc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En qué contexto se produce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80320" indent="-321840">
              <a:lnSpc>
                <a:spcPct val="90000"/>
              </a:lnSpc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A qué lo atribuyen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80320" indent="-321840">
              <a:lnSpc>
                <a:spcPct val="90000"/>
              </a:lnSpc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Qué soluciones han intentado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80320" indent="-321840">
              <a:lnSpc>
                <a:spcPct val="90000"/>
              </a:lnSpc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Por qué consultan ahora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80320" indent="-321840">
              <a:lnSpc>
                <a:spcPct val="90000"/>
              </a:lnSpc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Qué esperan de la consulta?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5072040" y="1447920"/>
            <a:ext cx="392904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 u="sng">
                <a:solidFill>
                  <a:srgbClr val="000000"/>
                </a:solidFill>
                <a:uFillTx/>
                <a:latin typeface="Perpetua"/>
              </a:rPr>
              <a:t>Historia del desarroll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mbarazo- part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Temperamento-Vincul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Desarrollo psicomot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Desarrollo evolutivo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72560" indent="-2145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Lactant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772560" indent="-2145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Preescola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772560" indent="-2145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Escola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772560" indent="-2145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Adolescenci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ntecedentes médicos y psiquiátrico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72560" indent="-2145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Personales y familia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34817"/>
                </a:solidFill>
                <a:latin typeface="Franklin Gothic Book"/>
              </a:rPr>
              <a:t>Examen mental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28592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Apariencia gener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Contacto y actitu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Conciencia y orientación TE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Sensopercepció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sicomotricidad -conducta motor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enguaj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ensamiento –cognición- Estimación CI – juicio realida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60" name="4 Marcador de contenido" descr="examen mental.bmp"/>
          <p:cNvPicPr/>
          <p:nvPr/>
        </p:nvPicPr>
        <p:blipFill>
          <a:blip r:embed="rId1"/>
          <a:stretch/>
        </p:blipFill>
        <p:spPr>
          <a:xfrm>
            <a:off x="5643720" y="1071720"/>
            <a:ext cx="2185920" cy="21859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Afectivida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Conciencia enfermeda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lación consigo mism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lación con otr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Exploración Famili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Funcionalidad familiar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omueve desarrollo de todos sus miembr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dultos (padres) cuidan y protegen a niños (hijo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oporciona satisfacción de necesidades nutricias y normativa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64" name="4 Marcador de contenido" descr="familia.jpg"/>
          <p:cNvPicPr/>
          <p:nvPr/>
        </p:nvPicPr>
        <p:blipFill>
          <a:blip r:embed="rId1"/>
          <a:stretch/>
        </p:blipFill>
        <p:spPr>
          <a:xfrm>
            <a:off x="5397480" y="1743120"/>
            <a:ext cx="2540160" cy="19000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Subsistema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6120" indent="-273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Conyuga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6120" indent="-273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Parenta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6120" indent="-273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parento-filia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6120" indent="-273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Fratern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Exploración Familiar: rol parenta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467" name="Picture 4" descr="student_discipline_head_photo"/>
          <p:cNvPicPr/>
          <p:nvPr/>
        </p:nvPicPr>
        <p:blipFill>
          <a:blip r:embed="rId1"/>
          <a:stretch/>
        </p:blipFill>
        <p:spPr>
          <a:xfrm>
            <a:off x="4643280" y="2276640"/>
            <a:ext cx="4286520" cy="2828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5" descr="Our%20Family%20Love"/>
          <p:cNvPicPr/>
          <p:nvPr/>
        </p:nvPicPr>
        <p:blipFill>
          <a:blip r:embed="rId2"/>
          <a:stretch/>
        </p:blipFill>
        <p:spPr>
          <a:xfrm>
            <a:off x="1116000" y="1413000"/>
            <a:ext cx="2914560" cy="473364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6"/>
          <p:cNvSpPr/>
          <p:nvPr/>
        </p:nvSpPr>
        <p:spPr>
          <a:xfrm>
            <a:off x="1426320" y="628668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d34817"/>
                </a:solidFill>
                <a:latin typeface="Tahoma"/>
              </a:rPr>
              <a:t>Rol nutricio/afect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5594400" y="62056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d34817"/>
                </a:solidFill>
                <a:latin typeface="Tahoma"/>
              </a:rPr>
              <a:t>Rol normat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5716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Exploración familiar: crianz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914400" y="1447920"/>
            <a:ext cx="374976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oceso en que se logra que un bebé dependiente llegue a ser adulto independien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Familia debiera ser una plataforma de despegu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ero… lanzar un cohete al espacio (uno que funcione) implica realizar tareas muy demandant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73" name="4 Marcador de contenido" descr="cohete 3.jpg"/>
          <p:cNvPicPr/>
          <p:nvPr/>
        </p:nvPicPr>
        <p:blipFill>
          <a:blip r:embed="rId1"/>
          <a:stretch/>
        </p:blipFill>
        <p:spPr>
          <a:xfrm>
            <a:off x="5243400" y="1447920"/>
            <a:ext cx="3130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Exploración familiar: </a:t>
            </a:r>
            <a:br>
              <a:rPr sz="4000"/>
            </a:b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equilibrio crianza ¿dificil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22856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stilos de los pad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648320" y="2285640"/>
            <a:ext cx="40384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mperamento de los hij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77" name="7 Marcador de contenido" descr="niños equilibrio.jpg"/>
          <p:cNvPicPr/>
          <p:nvPr/>
        </p:nvPicPr>
        <p:blipFill>
          <a:blip r:embed="rId1"/>
          <a:stretch/>
        </p:blipFill>
        <p:spPr>
          <a:xfrm>
            <a:off x="1962000" y="3143160"/>
            <a:ext cx="4896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Procedimientos diagnóstico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ntrevista clínica al niño y a los padr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Historia dificultades actual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Historia del desarrollo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xamen ment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xamen neurológico y físic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xploración familia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Informe escola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valuación psicológic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valuación fonoaudiológica y T.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valuación por asistente social</a:t>
            </a: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Interconsulta a otros especialista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boratorio y radiología: hormonas tiroídeas, EEG, TAC, RNM; Spect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Psicopatología: interjuego entre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d34817"/>
                </a:solidFill>
                <a:latin typeface="Franklin Gothic Book"/>
              </a:rPr>
              <a:t>Factores de riesg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d34817"/>
                </a:solidFill>
                <a:latin typeface="Franklin Gothic Book"/>
              </a:rPr>
              <a:t>Factores protector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600ff"/>
                </a:solidFill>
                <a:latin typeface="Perpetua"/>
              </a:rPr>
              <a:t>Biológicos:</a:t>
            </a: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 Consumo sustancias tóxicas. Genética. Prematurez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600ff"/>
                </a:solidFill>
                <a:latin typeface="Perpetua"/>
              </a:rPr>
              <a:t>Psicológicos:</a:t>
            </a: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 Disfunción  familiar, enfermedad mental de un padre, duelos en la familia, abuso o maltrato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600ff"/>
                </a:solidFill>
                <a:latin typeface="Perpetua"/>
              </a:rPr>
              <a:t>Sociales:</a:t>
            </a: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 crianza en instituciones o en situación de aislamiento o peligro. Pobreza, marginalidad. Sufrir discriminación, persecución. Ser testigo de violencia social. Catástrofes.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Inteligencia normal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Temperamento “fácil”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Talento especi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elación significativa cálida y amorosa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ontar con red de apoyo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Tener oportunidad de experiencias positivas en un setting diferen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34817"/>
                </a:solidFill>
                <a:latin typeface="Franklin Gothic Book"/>
              </a:rPr>
              <a:t>Psicopatología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214200" y="2394000"/>
          <a:ext cx="8786880" cy="2820960"/>
        </p:xfrm>
        <a:graphic>
          <a:graphicData uri="http://schemas.openxmlformats.org/drawingml/2006/table">
            <a:tbl>
              <a:tblPr/>
              <a:tblGrid>
                <a:gridCol w="1928880"/>
                <a:gridCol w="1585800"/>
                <a:gridCol w="1757520"/>
                <a:gridCol w="1355760"/>
                <a:gridCol w="2158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ACT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iológ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sicológ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amili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ociocul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edispon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ecipit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erpetu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tect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543800" cy="1052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34817"/>
                </a:solidFill>
                <a:latin typeface="Franklin Gothic Book"/>
              </a:rPr>
              <a:t>Docentes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4572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PEC: Dra. Margarita Maida (sede Oriente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Coordinadores Sede Norte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Dra. Marcela Abufhel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siquiatra Infantil CPU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marceabufhele@gmail.co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Dra. Marcela Matamal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siquiatra Infant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CL" sz="2400" spc="-1" strike="noStrike" u="sng">
                <a:solidFill>
                  <a:srgbClr val="cc9900"/>
                </a:solidFill>
                <a:uFillTx/>
                <a:latin typeface="Perpetua"/>
              </a:rPr>
              <a:t>mxmbcl@yahoo.co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8" name="Picture 5" descr="escuela"/>
          <p:cNvPicPr/>
          <p:nvPr/>
        </p:nvPicPr>
        <p:blipFill>
          <a:blip r:embed="rId2"/>
          <a:stretch/>
        </p:blipFill>
        <p:spPr>
          <a:xfrm>
            <a:off x="4941720" y="1571760"/>
            <a:ext cx="3773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Diagnósticos en psiquiatría infanti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Cuadros clínicos difíciles de delimita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56320">
              <a:lnSpc>
                <a:spcPct val="90000"/>
              </a:lnSpc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… </a:t>
            </a: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y de encontrar un caso “puro”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Síntomas se superponen de un cuadro a otro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56320">
              <a:lnSpc>
                <a:spcPct val="90000"/>
              </a:lnSpc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Alta comorbilidad (46.7%)”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Diagnóstico es clínico, basado en la historia y en exámenes psicológico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No hay exámenes de laboratorio que nos permitan definir el diagnóstic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Diagnósticos han variado con el tiempo y cultur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91" name="8 Marcador de contenido" descr="psiquiatria.jpg"/>
          <p:cNvPicPr/>
          <p:nvPr/>
        </p:nvPicPr>
        <p:blipFill>
          <a:blip r:embed="rId1"/>
          <a:stretch/>
        </p:blipFill>
        <p:spPr>
          <a:xfrm>
            <a:off x="4933800" y="2214720"/>
            <a:ext cx="397044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70920"/>
            <a:ext cx="7772400" cy="939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Diagnóstico Multiaxial CIE-10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42960" y="1143000"/>
            <a:ext cx="77724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d34817"/>
                </a:solidFill>
                <a:latin typeface="Perpetua"/>
              </a:rPr>
              <a:t>Eje I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Sd psiquiátrico clínic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d34817"/>
                </a:solidFill>
                <a:latin typeface="Perpetua"/>
              </a:rPr>
              <a:t>Eje II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r. Específicos del desarrollo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d34817"/>
                </a:solidFill>
                <a:latin typeface="Perpetua"/>
              </a:rPr>
              <a:t>Eje III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Nivel intelectu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d34817"/>
                </a:solidFill>
                <a:latin typeface="Perpetua"/>
              </a:rPr>
              <a:t>Eje IV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nfermedad médica asociad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d34817"/>
                </a:solidFill>
                <a:latin typeface="Perpetua"/>
              </a:rPr>
              <a:t>Eje V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stresores psicosoci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d34817"/>
                </a:solidFill>
                <a:latin typeface="Perpetua"/>
              </a:rPr>
              <a:t>Eje VI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Discapacidad soci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Elementos de tratamiento en Psiquiatría Infanti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571680" y="1643040"/>
            <a:ext cx="4092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Psicoeducación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Manejo conductual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Psicoterapia individual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Psicoterapia de grupo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Terapia de familia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Hospitalizacione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Psicofarmacoterapia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25800" indent="-3258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Rehabilitación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96" name="Picture 9" descr="tzun203l"/>
          <p:cNvPicPr/>
          <p:nvPr/>
        </p:nvPicPr>
        <p:blipFill>
          <a:blip r:embed="rId1"/>
          <a:stretch/>
        </p:blipFill>
        <p:spPr>
          <a:xfrm>
            <a:off x="4929120" y="1714680"/>
            <a:ext cx="38451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7128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Epidemiología psiquiátric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71424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evalencia trastornos psiquiátricos: 24,2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atologías más frecuentes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Trastornos adaptativos y déficit atenciona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Diferencias por géner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Varones: trastornos del desarrollo y de conducta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Mujeres: emocionales e intentos suicida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965480" y="1447920"/>
            <a:ext cx="374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Diferencias según período evolutiv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Preescolares: madurez SNC y proceso de individuació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Escolares: inserción al sistema escolar, integración a nuevos grupos, rendimiento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Disfunción familiar: 53% ambulatorio y 67% hospitalizad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0" name="6 CuadroTexto"/>
          <p:cNvSpPr/>
          <p:nvPr/>
        </p:nvSpPr>
        <p:spPr>
          <a:xfrm>
            <a:off x="3000240" y="6181560"/>
            <a:ext cx="592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Psicopatología Infantil y de la Adolescencia de Almonte C., Montt M.E., Correa A. Editorial Mediterráneo. 200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Conducta ética con el pacient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4296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Nuestro paciente es el niño….pero depende de adultos que lo cuida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spetar sus derechos y cuidar su bienest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Dilemas éticos que surgen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consentimient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confidencialida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03" name="Picture 5" descr="FamilyStudies"/>
          <p:cNvPicPr/>
          <p:nvPr/>
        </p:nvPicPr>
        <p:blipFill>
          <a:blip r:embed="rId1"/>
          <a:stretch/>
        </p:blipFill>
        <p:spPr>
          <a:xfrm>
            <a:off x="4859280" y="1989000"/>
            <a:ext cx="36496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Consentimiento en psiquiatría infantil y de la adolescenc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42960" y="164304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Debido a las limitaciones de la experiencia y del desarrollo cognitivo y moral, el consentimiento, desde el punto de vista legal, es concedido por los padres….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Sin embargo, el médico,  desde la perspectiva bioética, debiera promover la participación del niño y del adolescente en la medida que su desarrollo y su capacidad lo permit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933800" y="164304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¿Qué pasa en el caso que los padres a cargo del niño no actúen en pos del bienestar del menor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No se puede permitir que un paciente sufra daño porque sus padres rechazan el tratamiento o insisten en tratamiento innecesari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Confidencialidad en psiquiatría de niños y adolescent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914400" y="16430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Respetar siempre autonomía del paciente y derecho a su confidencialida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Límites confidencialidad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Contenidos revelados constituyen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Amenaza a la integridad física propia o ajena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Suicidalidad – homicidi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Conductas de riesg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Se refieren a hechos delictuales (maltratos y abusos sexuales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38160">
            <a:solidFill>
              <a:srgbClr val="d34817"/>
            </a:solidFill>
            <a:miter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34817"/>
                </a:solidFill>
                <a:latin typeface="Franklin Gothic Book"/>
              </a:rPr>
              <a:t>RECAPITULAND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914400" y="16430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ara abordar la salud mental de niños y adolescentes es importante diferenciar las conductas normales de las patológica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72880">
              <a:lnSpc>
                <a:spcPct val="90000"/>
              </a:lnSpc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Para ello, hay que conocer muy bien el desarrollo normal: qué se espera a qué edad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ara poder analizar las conductas necesitamos varios observadores en distintos contexto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Y… en psiquiatría infantil, los diagnósticos son fundamentalmente clínic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Se requiere especialmente una actitud ética y profesional, siempre pensando en beneficio del niñ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6"/>
          <p:cNvSpPr/>
          <p:nvPr/>
        </p:nvSpPr>
        <p:spPr>
          <a:xfrm>
            <a:off x="4192560" y="549360"/>
            <a:ext cx="3403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4011480" y="754200"/>
            <a:ext cx="19288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3" name="Picture 11" descr="Mafalda2"/>
          <p:cNvPicPr/>
          <p:nvPr/>
        </p:nvPicPr>
        <p:blipFill>
          <a:blip r:embed="rId1"/>
          <a:stretch/>
        </p:blipFill>
        <p:spPr>
          <a:xfrm>
            <a:off x="2411280" y="1557360"/>
            <a:ext cx="4248360" cy="287640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15"/>
          <p:cNvSpPr/>
          <p:nvPr/>
        </p:nvSpPr>
        <p:spPr>
          <a:xfrm>
            <a:off x="2214720" y="4941720"/>
            <a:ext cx="38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d34817"/>
                </a:solidFill>
                <a:latin typeface="Tahoma"/>
              </a:rPr>
              <a:t>Muchas Gracias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213840"/>
            <a:ext cx="7543800" cy="1094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34817"/>
                </a:solidFill>
                <a:latin typeface="Franklin Gothic Book"/>
              </a:rPr>
              <a:t>Docentes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56760" y="1428840"/>
            <a:ext cx="4800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Dr. Ricardo García (Jefe Unidad de psiquiatría del niño y adolescente CPU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Dr. Carlos Almon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Ps. Karla Alvarez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Dr. Elías Arab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Dra. Muriel Halper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Dra. Ma José Villa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Dra.  </a:t>
            </a: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Marcela Larraguibe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Ps. María Elena Mont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Perpetua"/>
              </a:rPr>
              <a:t>Dr. Juan Enrique Sepúlved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Perpetua"/>
              </a:rPr>
              <a:t>Becados psiquiatría infantil y de la adolescencia CPU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1" name="Picture 21" descr="doctor-cartoon"/>
          <p:cNvPicPr/>
          <p:nvPr/>
        </p:nvPicPr>
        <p:blipFill>
          <a:blip r:embed="rId1"/>
          <a:stretch/>
        </p:blipFill>
        <p:spPr>
          <a:xfrm>
            <a:off x="5468760" y="1643040"/>
            <a:ext cx="3143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34817"/>
                </a:solidFill>
                <a:latin typeface="Franklin Gothic Book"/>
              </a:rPr>
              <a:t>Modalidad de trabajo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42960" y="1447560"/>
            <a:ext cx="37497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2 módulos paralelo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Tardes: 29 Julio al 21 de Octub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Módulo teórico- práctic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Miércoles 14:00hrs a 17:00h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90000"/>
              </a:lnSpc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Clase expositiva: en auditorio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90000"/>
              </a:lnSpc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erpetua"/>
              </a:rPr>
              <a:t>Taller práctico: en grupos pequeños: discusión casos clínicos, videos, etc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933800" y="1785960"/>
            <a:ext cx="37497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Semana Práctic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Una semana 7-11 de Septiembr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Mañanas (8:30-12:30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90000"/>
              </a:lnSpc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Actividad práctica con pacient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lnSpc>
                <a:spcPct val="90000"/>
              </a:lnSpc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Realización de entrevistas, discusión casos clínicos, et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5" name="Picture 4" descr="opera"/>
          <p:cNvPicPr/>
          <p:nvPr/>
        </p:nvPicPr>
        <p:blipFill>
          <a:blip r:embed="rId1"/>
          <a:stretch/>
        </p:blipFill>
        <p:spPr>
          <a:xfrm>
            <a:off x="3786120" y="4714920"/>
            <a:ext cx="235908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52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34817"/>
                </a:solidFill>
                <a:latin typeface="Franklin Gothic Book"/>
              </a:rPr>
              <a:t>Evaluación del curso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77" name="Picture 6" descr="mafalda_pacifista"/>
          <p:cNvPicPr/>
          <p:nvPr/>
        </p:nvPicPr>
        <p:blipFill>
          <a:blip r:embed="rId1"/>
          <a:stretch/>
        </p:blipFill>
        <p:spPr>
          <a:xfrm>
            <a:off x="900000" y="1928880"/>
            <a:ext cx="2943360" cy="4114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071960" y="1642680"/>
            <a:ext cx="48592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ueba I elección múltiple 50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ueba I desarrollo corto   25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ueba II desarrollo corto  25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esentación a examen     70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xamen (E.M)                    30%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9" name="Oval 8"/>
          <p:cNvSpPr/>
          <p:nvPr/>
        </p:nvSpPr>
        <p:spPr>
          <a:xfrm>
            <a:off x="1403280" y="2278080"/>
            <a:ext cx="1656000" cy="934920"/>
          </a:xfrm>
          <a:prstGeom prst="ellipse">
            <a:avLst/>
          </a:prstGeom>
          <a:solidFill>
            <a:srgbClr val="d0ce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¡ay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Line 9"/>
          <p:cNvSpPr/>
          <p:nvPr/>
        </p:nvSpPr>
        <p:spPr>
          <a:xfrm>
            <a:off x="7358040" y="3071880"/>
            <a:ext cx="14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7715160" y="328608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34817"/>
                </a:solidFill>
                <a:latin typeface="Franklin Gothic Book"/>
              </a:rPr>
              <a:t>Comunicación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39765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Clara y fluida entre docentes y alumn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Coordinadoras y encargados de grupo a su disposición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Dudas o consultas: en persona o vía mail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Delegado curso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Perpetua"/>
              </a:rPr>
              <a:t>Puente entre profesores y alumnos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Perpetua"/>
              </a:rPr>
              <a:t>Que tenga correo electrónico y lo lea todos los días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Delegado grupo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84" name="Picture 9" descr="principito"/>
          <p:cNvPicPr/>
          <p:nvPr/>
        </p:nvPicPr>
        <p:blipFill>
          <a:blip r:embed="rId1"/>
          <a:stretch/>
        </p:blipFill>
        <p:spPr>
          <a:xfrm>
            <a:off x="4915080" y="1928880"/>
            <a:ext cx="39574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34817"/>
                </a:solidFill>
                <a:latin typeface="Franklin Gothic Book"/>
              </a:rPr>
              <a:t>Algunos “límites”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14240" y="1428840"/>
            <a:ext cx="78962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Asistencia 100% obligatoria a actividades práctica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Inasistencias (2) justificadas a sus docentes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Recuperación en la semana de las olimpiadas de la facultad y vacaciones septiembre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Recuperación pruebas: Modalidad oral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rueba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Contenidos: clases, talleres, </a:t>
            </a:r>
            <a:r>
              <a:rPr b="1" lang="es-CL" sz="2200" spc="-1" strike="noStrike">
                <a:solidFill>
                  <a:srgbClr val="000000"/>
                </a:solidFill>
                <a:latin typeface="Perpetua"/>
              </a:rPr>
              <a:t>estudio personal</a:t>
            </a: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, apunte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Desarrollo normal: responsabilidad individual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Contenido ES acumulativo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Actitud ética y profesion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Con compañeros, docentes y paciente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3T21:01:15Z</dcterms:created>
  <dc:creator>marcela</dc:creator>
  <dc:description/>
  <dc:language>en-US</dc:language>
  <cp:lastModifiedBy>usuario</cp:lastModifiedBy>
  <dcterms:modified xsi:type="dcterms:W3CDTF">2009-07-29T17:38:24Z</dcterms:modified>
  <cp:revision>54</cp:revision>
  <dc:subject/>
  <dc:title>Introducción Curso Psiquiatría Infantil y de la Adolescencia</dc:title>
</cp:coreProperties>
</file>