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2.jpeg" ContentType="image/jpeg"/>
  <Override PartName="/ppt/media/image20.jpeg" ContentType="image/jpeg"/>
  <Override PartName="/ppt/media/image19.jpeg" ContentType="image/jpeg"/>
  <Override PartName="/ppt/media/image17.jpeg" ContentType="image/jpeg"/>
  <Override PartName="/ppt/media/image16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5.jpeg" ContentType="image/jpeg"/>
  <Override PartName="/ppt/media/image10.jpeg" ContentType="image/jpeg"/>
  <Override PartName="/ppt/media/image8.gif" ContentType="image/gif"/>
  <Override PartName="/ppt/media/image1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E6ED-2D94-4146-A39D-11F3FD657ADF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1DDED-3182-4F38-93BE-C981E50DBCB2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BE263-B4DF-4C97-B5C8-5FBE068557AA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8B249-9336-4F8E-AE75-C641D38C271B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85F5-2B94-4967-9D5F-2D98BB39B2CA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EBA58-3CF2-4AB6-B9C8-47DD48C81714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D25F9-5552-4E27-9C08-414C77B6F1B7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13C15-837E-4E9C-849A-A7C1B43FAAF3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19AD9-A098-4C4B-83B5-5237EDDC6152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0BA23-0118-481F-902F-77A3FD67CAB4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1DB62-1490-4506-9597-413863D72065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1B7E2-0D02-4DB6-A2B2-1B5B1A1FD3FF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E5BFD-8C86-4E46-A84C-327C6F25E61A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E69D2-330C-4657-9E22-D3E3A48DF24E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5D573-FD4A-4997-BC33-74A47F48B76C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E83ED-C501-4ECE-8D35-75BA28D7553A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5D027-E476-458A-96B3-907FE550FD02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22C6E-17A4-4BE7-8CB6-4C165202469B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51182-D0B2-4FED-9F2D-96AFA7DE8083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2EB7-C495-405F-AAD0-3FD7CC2845DA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1D3A1-3C63-4EBF-8711-AED8973DAE0B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783C4-F69B-4708-8A85-B4B2F492CB21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80C51-4484-47A4-BBAF-D3685463B27F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90A9D-9288-491F-9881-A951930CE2EB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CF563-723F-4CC6-BFDE-5AA02405F0EE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88D21-ADC7-46F0-8835-25C0709FC62F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FD87D-B150-4C65-B7F3-EC80731A4D9D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E5BFD-7858-4EEA-A421-73F57CE39BBB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0F964-9580-4196-A64F-CDEF2D648AA8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0A77C-ADB8-4822-9898-C7A19B323659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7976C-4C6E-45C4-9F2C-9A923F6558D5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E23A1-B2E5-455E-971C-F2AA7A596CF4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439E9-32AF-4206-B087-A3C10461628C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F97F1-EA48-4370-BC59-2DE350EE2D69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C72AD-C72D-4F08-958E-FB2221C7ABCE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DDC11-3F87-4A51-B6A1-8E8ABC2A1076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0113-037B-4DE9-8623-633EEF78C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69A3-D65A-44DF-915D-279DC4F89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0B7A-906B-4BFA-9689-152923254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91B6-2D52-4CB8-8E1C-F5E96E378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6B2AE-F3FD-4D35-9344-3A3136178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FE242-4AD6-4D12-8D4D-7A442D640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3397F-F76E-48CD-B0AC-37E3BC1F4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00A8E-DF03-47E8-906D-0C7E3935F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E05AB-08E5-4842-9280-7380EB4C8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2C348-0BC7-47E4-91BC-EA40DF5E7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089B0-D08C-40C2-8439-7A08ECA7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DC52-C3B9-43A8-A71F-C39BE7094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B78CA-30A0-4274-9F69-7F5DA559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E6EA9-E1FA-4E42-AD85-8C785647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1110E-D633-45C4-91CB-F3480024C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AC300-0D23-490C-8DFE-EA9A6386D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2A4C2-7380-455F-A622-50CB232AF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337A-D492-49B6-B53B-FFE11BBE7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E0F3-985C-4632-8D2A-3998FBCC4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85D9-9F0F-4AB0-BBDE-02FA70837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8C66-53A1-4A29-9A0E-AA7AC8262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DD9B-3EAC-4B74-AAB0-5B8E1446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FBAF-5D1E-41C5-B318-1146FD40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B15D-128B-4C89-A9E1-31B48F13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D999F-0D6D-4F13-9F62-0D09C49F9713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7073E-C82A-418F-A7C3-4D7DD2A64215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5"/>
          <p:cNvSpPr/>
          <p:nvPr/>
        </p:nvSpPr>
        <p:spPr>
          <a:xfrm>
            <a:off x="4286160" y="5657760"/>
            <a:ext cx="46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Black"/>
              </a:rPr>
              <a:t>Dra. Marcela Matamala Bast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Black"/>
              </a:rPr>
              <a:t>Psiquiatra de Niños y Adolesc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Black"/>
              </a:rPr>
              <a:t>Universidad de Chil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0" y="500040"/>
            <a:ext cx="91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 Black"/>
              </a:rPr>
              <a:t>Trastorno  Adaptativ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 Black"/>
              </a:rPr>
              <a:t>En niños y adolesce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4" descr="logo-u3"/>
          <p:cNvPicPr/>
          <p:nvPr/>
        </p:nvPicPr>
        <p:blipFill>
          <a:blip r:embed="rId1"/>
          <a:stretch/>
        </p:blipFill>
        <p:spPr>
          <a:xfrm>
            <a:off x="571680" y="138240"/>
            <a:ext cx="671400" cy="1218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http://th01.deviantart.com/fs10/300W/i/2006/101/4/4/Antiseptic_by_DivineError.jpg"/>
          <p:cNvPicPr/>
          <p:nvPr/>
        </p:nvPicPr>
        <p:blipFill>
          <a:blip r:embed="rId2"/>
          <a:stretch/>
        </p:blipFill>
        <p:spPr>
          <a:xfrm>
            <a:off x="714240" y="4143240"/>
            <a:ext cx="3286440" cy="235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  <a:ea typeface="Arial"/>
              </a:rPr>
              <a:t>Tipos de trastornos adaptativo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14040" y="1428840"/>
            <a:ext cx="45147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Con estado de ánimo depresivo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411120" indent="-34272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411120" indent="-34272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Con estado de ánimo ansioso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411120" indent="-34272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411120" indent="-34272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Con alteración mixta de estado de ánimo depresivo y ansioso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411120" indent="-34272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411120" indent="-342720">
              <a:lnSpc>
                <a:spcPct val="7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Con alteración de la conducta </a:t>
            </a:r>
            <a:r>
              <a:rPr b="0" lang="es-CL" sz="1300" spc="-1" strike="noStrike">
                <a:solidFill>
                  <a:srgbClr val="000000"/>
                </a:solidFill>
                <a:latin typeface="Arial"/>
                <a:ea typeface="Arial"/>
              </a:rPr>
              <a:t>(violación de los derechos de los demás o de las normas y reglas sociales apropiadas para la edad)</a:t>
            </a:r>
            <a:endParaRPr b="0" lang="en-US" sz="1300" spc="-1" strike="noStrike">
              <a:solidFill>
                <a:srgbClr val="000000"/>
              </a:solidFill>
              <a:latin typeface="Arial Black"/>
            </a:endParaRPr>
          </a:p>
          <a:p>
            <a:pPr marL="411120" indent="-342720">
              <a:lnSpc>
                <a:spcPct val="7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 Black"/>
            </a:endParaRPr>
          </a:p>
          <a:p>
            <a:pPr marL="411120" indent="-34272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Con alteración mixta de la conducta y las emociones.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411120" indent="-34272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411120" indent="-34272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No especificado </a:t>
            </a:r>
            <a:r>
              <a:rPr b="0" lang="es-CL" sz="1500" spc="-1" strike="noStrike">
                <a:solidFill>
                  <a:srgbClr val="000000"/>
                </a:solidFill>
                <a:latin typeface="Arial"/>
                <a:ea typeface="Arial"/>
              </a:rPr>
              <a:t>(quejas somáticas, aislamiento social e inhibición  académica o social)</a:t>
            </a:r>
            <a:endParaRPr b="0" lang="en-US" sz="1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4" name="3 Imagen" descr="faces[1]_0.tmp"/>
          <p:cNvPicPr/>
          <p:nvPr/>
        </p:nvPicPr>
        <p:blipFill>
          <a:blip r:embed="rId1"/>
          <a:stretch/>
        </p:blipFill>
        <p:spPr>
          <a:xfrm>
            <a:off x="5715000" y="1428840"/>
            <a:ext cx="2928960" cy="464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Arial"/>
              </a:rPr>
              <a:t>Respuesta al estres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4686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Características del event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 estresor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Características constitucionales, biológicas y psicológicas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Respuesta familiar, escolar y socia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Evento inocuo para algunos, genera patología en otro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Ante un mismo evento se puede responder con síntomas depresivos, somáticos, ansiosos y conductuale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Picture 2" descr="http://www.juniorpadres.com/n7/hospitalizacion.jpg"/>
          <p:cNvPicPr/>
          <p:nvPr/>
        </p:nvPicPr>
        <p:blipFill>
          <a:blip r:embed="rId1"/>
          <a:stretch/>
        </p:blipFill>
        <p:spPr>
          <a:xfrm>
            <a:off x="5429160" y="1500120"/>
            <a:ext cx="3071880" cy="4857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cerca del estresor…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13880" y="1571760"/>
            <a:ext cx="40719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411120" indent="-34272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Único o múltipl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411120" indent="-34272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411120" indent="-34272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Agudo, persistente o recurrent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411120" indent="-34272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411120" indent="-34272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Personal, familiar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411120" indent="-342720">
              <a:lnSpc>
                <a:spcPct val="6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411120" indent="-342720">
              <a:lnSpc>
                <a:spcPct val="6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Normativo: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CL" sz="1500" spc="-1" strike="noStrike">
                <a:solidFill>
                  <a:srgbClr val="000000"/>
                </a:solidFill>
                <a:latin typeface="Arial"/>
                <a:ea typeface="Arial"/>
              </a:rPr>
              <a:t>experiencias comunes a todos los niños por el desarrollo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411120" indent="-342720">
              <a:lnSpc>
                <a:spcPct val="6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411120" indent="-342720">
              <a:lnSpc>
                <a:spcPct val="6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No normativas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s-CL" sz="1500" spc="-1" strike="noStrike">
                <a:solidFill>
                  <a:srgbClr val="000000"/>
                </a:solidFill>
                <a:latin typeface="Arial"/>
                <a:ea typeface="Arial"/>
              </a:rPr>
              <a:t>particular  para cada individuo</a:t>
            </a:r>
            <a:endParaRPr b="0" lang="en-US" sz="1500" spc="-1" strike="noStrike">
              <a:solidFill>
                <a:srgbClr val="000000"/>
              </a:solidFill>
              <a:latin typeface="Arial Black"/>
            </a:endParaRPr>
          </a:p>
          <a:p>
            <a:pPr lvl="1" marL="739800" indent="-285840">
              <a:lnSpc>
                <a:spcPct val="6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Arial"/>
                <a:ea typeface="Arial"/>
              </a:rPr>
              <a:t>Agudo </a:t>
            </a:r>
            <a:endParaRPr b="0" lang="en-US" sz="1500" spc="-1" strike="noStrike">
              <a:solidFill>
                <a:srgbClr val="000000"/>
              </a:solidFill>
              <a:latin typeface="Arial Black"/>
            </a:endParaRPr>
          </a:p>
          <a:p>
            <a:pPr lvl="1" marL="739800" indent="-285840">
              <a:lnSpc>
                <a:spcPct val="6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Arial"/>
                <a:ea typeface="Arial"/>
              </a:rPr>
              <a:t>Crónico</a:t>
            </a:r>
            <a:endParaRPr b="0" lang="en-US" sz="1500" spc="-1" strike="noStrike">
              <a:solidFill>
                <a:srgbClr val="000000"/>
              </a:solidFill>
              <a:latin typeface="Arial Black"/>
            </a:endParaRPr>
          </a:p>
          <a:p>
            <a:pPr lvl="1" marL="739800" indent="-28584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 Black"/>
            </a:endParaRPr>
          </a:p>
          <a:p>
            <a:pPr lvl="1" marL="739800" indent="-28584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* La red de apoyo social (familia), puede ser factor protector, mantenedor o agravante del trastorno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39800" indent="-285840">
              <a:lnSpc>
                <a:spcPct val="6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0" name="Picture 2" descr="http://estaticos02.cache.el-mundo.net/elmundo/imagenes/2007/09/07/1189172642_0.jpg"/>
          <p:cNvPicPr/>
          <p:nvPr/>
        </p:nvPicPr>
        <p:blipFill>
          <a:blip r:embed="rId1"/>
          <a:stretch/>
        </p:blipFill>
        <p:spPr>
          <a:xfrm>
            <a:off x="5643720" y="2000160"/>
            <a:ext cx="2857320" cy="3929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6 Rectángulo"/>
          <p:cNvSpPr/>
          <p:nvPr/>
        </p:nvSpPr>
        <p:spPr>
          <a:xfrm>
            <a:off x="4857840" y="1500120"/>
            <a:ext cx="3500280" cy="5143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5 Rectángulo"/>
          <p:cNvSpPr/>
          <p:nvPr/>
        </p:nvSpPr>
        <p:spPr>
          <a:xfrm>
            <a:off x="571680" y="1500120"/>
            <a:ext cx="3571560" cy="5143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cerca del estresor…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56760" y="1642680"/>
            <a:ext cx="34290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0" lang="es-CL" sz="2800" spc="-1" strike="noStrike">
                <a:solidFill>
                  <a:srgbClr val="000000"/>
                </a:solidFill>
                <a:latin typeface="Arial Black"/>
              </a:rPr>
              <a:t>Crisis      normativas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Ingreso al colegio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Nacimiento de un hermano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Fallecimiento de un abuelo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00720" y="1500120"/>
            <a:ext cx="371448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05600" indent="-271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s-CL" sz="2800" spc="-1" strike="noStrike">
                <a:solidFill>
                  <a:srgbClr val="000000"/>
                </a:solidFill>
                <a:latin typeface="Arial Black"/>
              </a:rPr>
              <a:t>Crisis No normativas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Separación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Enfermedad crónica o Muerte de uno o ambos padre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Maltrato infanti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Abuso sexual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Disfunción familiar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Enfermedad crónica del niño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Accidente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Hospitalizacione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Problemas escolares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  <a:ea typeface="Arial"/>
              </a:rPr>
              <a:t>Diagnóstico diferencia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914040" y="1784520"/>
            <a:ext cx="3800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Reacción normal a situaciones estresante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Duelo norma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Trastorno por estrés agudo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Trastorno por estrés post traumático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Descompensaciones de pacientes con desarrollo anormal de personalidad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Trastorno Ansioso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Trastorno Depresivo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Trastorno de conducta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Picture 5" descr="http://www.psicodiagnosis.es/images/depre_460.jpg"/>
          <p:cNvPicPr/>
          <p:nvPr/>
        </p:nvPicPr>
        <p:blipFill>
          <a:blip r:embed="rId1"/>
          <a:stretch/>
        </p:blipFill>
        <p:spPr>
          <a:xfrm>
            <a:off x="4857840" y="1857240"/>
            <a:ext cx="3666960" cy="4071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  <a:ea typeface="Arial"/>
              </a:rPr>
              <a:t>Tratamiento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00720" y="1784520"/>
            <a:ext cx="418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Realizado por el profesional que realiza la 1ª atención (médico general, pediatra, psicolólogo, etc.)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411120" indent="-342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411120" indent="-342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Educación de los padre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411120" indent="-342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411120" indent="-342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Fomentar expresión emocional en el niño o adolescent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411120" indent="-342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411120" indent="-342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Trastorno de gran intensidad, persistente o se agrava, derivar a psiquiatría infantil y de la adolescencia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411120" indent="-34272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411120" indent="-34272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Picture 5" descr="http://www.kindsein.com/cgi-bin/get_img?NrImage=2&amp;NrArticle=605"/>
          <p:cNvPicPr/>
          <p:nvPr/>
        </p:nvPicPr>
        <p:blipFill>
          <a:blip r:embed="rId1"/>
          <a:stretch/>
        </p:blipFill>
        <p:spPr>
          <a:xfrm>
            <a:off x="642960" y="2143080"/>
            <a:ext cx="3143160" cy="3429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  <a:ea typeface="Arial"/>
              </a:rPr>
              <a:t>Tratamiento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8520" indent="-3322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Psicoterapia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98520" indent="-3322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Relación médico paciente cálida y acogedora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98520" indent="-3322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Tomar en cuenta los síntomas y edad del pacient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98520" indent="-332280" algn="just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Preescolares predominio de técnicas no verbales (dibujo y juego), a otras edades técnicas verbale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98520" indent="-3322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Postura activa ,directiva y empática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98520" indent="-332280" algn="just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Facilitar, contener y respetar las expresión emocional del niño o adolescente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98520" indent="-3322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Legitimar sentimientos como rabia, temor y tristeza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98520" indent="-332280" algn="just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Establecer relación temporal entre la situación de estrés y la expresión emocional actual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98520" indent="-3322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Evitar sobreprotección –sobre involucración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98520" indent="-3322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98520" indent="-3322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98520" indent="-332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4" name="Picture 6" descr="http://tbn0.google.com/images?q=tbn:j-7e1zVDbpkL4M:http://www.andreacarrillo.com/wp-content/uploads/2008/05/duelo21.jpg"/>
          <p:cNvPicPr/>
          <p:nvPr/>
        </p:nvPicPr>
        <p:blipFill>
          <a:blip r:embed="rId1"/>
          <a:stretch/>
        </p:blipFill>
        <p:spPr>
          <a:xfrm>
            <a:off x="7358040" y="642960"/>
            <a:ext cx="1428840" cy="1800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  <a:ea typeface="Arial"/>
              </a:rPr>
              <a:t>Tratamiento sintomático…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785840" y="1571400"/>
            <a:ext cx="3900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En caso de síntomas que impidan el funcionamiento del niño se indicarán ansiolíticos. Por tiempo breve (1 semana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411120" indent="-34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411120" indent="-34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Antidepresivos tienen indicación limitada , por latencia en acción y duración breve de la mayoría de los trastornos adaptativo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Picture 5" descr="http://www.douglastilley.com/IMAGES/AA018255-4.JPG"/>
          <p:cNvPicPr/>
          <p:nvPr/>
        </p:nvPicPr>
        <p:blipFill>
          <a:blip r:embed="rId1"/>
          <a:stretch/>
        </p:blipFill>
        <p:spPr>
          <a:xfrm>
            <a:off x="1214280" y="1857240"/>
            <a:ext cx="2714760" cy="3786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  <a:ea typeface="Arial"/>
              </a:rPr>
              <a:t>Con los padres…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5280" y="1428480"/>
            <a:ext cx="44625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Ayudar a entender lo que le pasa al niño: sentimientos de angustia, temor tristeza y rabia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Favorecer y estimular respuestas sana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Minimizar respuestas problemáticas o desadaptativa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Papel protector de situaciones estresantes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Picture 8" descr="http://www.elprogresohispano.com/noticias/243_educacion.jpg"/>
          <p:cNvPicPr/>
          <p:nvPr/>
        </p:nvPicPr>
        <p:blipFill>
          <a:blip r:embed="rId1"/>
          <a:stretch/>
        </p:blipFill>
        <p:spPr>
          <a:xfrm>
            <a:off x="5000760" y="2071800"/>
            <a:ext cx="3214440" cy="3809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Arial"/>
              </a:rPr>
              <a:t>Pronóstico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214280"/>
            <a:ext cx="447192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Oportunidad de tratamiento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Reversibilidad de los síntoma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Apoyo familiar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Gravedad de la sintomatología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Persistencia de factores estresante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Presencia de comorbilidad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*Generalmente resolución   completa continuando desarrollo norma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Picture 2" descr="http://clearsantodomingo.files.wordpress.com/2008/05/sun.jpg"/>
          <p:cNvPicPr/>
          <p:nvPr/>
        </p:nvPicPr>
        <p:blipFill>
          <a:blip r:embed="rId1"/>
          <a:stretch/>
        </p:blipFill>
        <p:spPr>
          <a:xfrm>
            <a:off x="4929120" y="1357200"/>
            <a:ext cx="4000680" cy="4857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Arial"/>
              </a:rPr>
              <a:t>¿Qué es un Trastorno Adaptativo?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28400" y="1571400"/>
            <a:ext cx="46861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Trastornos de adaptación o trastornos reactivos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Uno de los diagnósticos más frecuentes en Psiquiatría de niños y adolescentes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Respuestas de intensidad patológica frente a un acontecimiento estresante identificabl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Sobrepasa la capacidad del individuo para su edad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Experiencias potencialmente perturbadoras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Picture 6" descr="http://2.bp.blogspot.com/_59isc3X5Ehk/R-Z-lYTsbII/AAAAAAAAAuE/RnLgXP9mDCI/s400/ni%C3%B1o+bu.jpg"/>
          <p:cNvPicPr/>
          <p:nvPr/>
        </p:nvPicPr>
        <p:blipFill>
          <a:blip r:embed="rId1"/>
          <a:stretch/>
        </p:blipFill>
        <p:spPr>
          <a:xfrm>
            <a:off x="5286240" y="1643040"/>
            <a:ext cx="3429000" cy="4929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1714680"/>
            <a:ext cx="9144000" cy="19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Arial Black"/>
                <a:ea typeface="Arial"/>
              </a:rPr>
              <a:t>Duelo</a:t>
            </a:r>
            <a:br>
              <a:rPr sz="4800"/>
            </a:br>
            <a:r>
              <a:rPr b="0" lang="es-ES_tradnl" sz="4800" spc="-1" strike="noStrike">
                <a:solidFill>
                  <a:srgbClr val="000000"/>
                </a:solidFill>
                <a:latin typeface="Arial Black"/>
                <a:ea typeface="Arial"/>
              </a:rPr>
              <a:t>En niños y adolescentes</a:t>
            </a:r>
            <a:br>
              <a:rPr sz="4300"/>
            </a:br>
            <a:br>
              <a:rPr sz="4300"/>
            </a:br>
            <a:r>
              <a:rPr b="0" lang="es-CL" sz="4300" spc="-1" strike="noStrike">
                <a:solidFill>
                  <a:srgbClr val="0044ac"/>
                </a:solidFill>
                <a:latin typeface="Arial Black"/>
                <a:ea typeface="Arial"/>
              </a:rPr>
              <a:t> </a:t>
            </a:r>
            <a:endParaRPr b="0" lang="en-US" sz="43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Picture 4" descr="logo-u3"/>
          <p:cNvPicPr/>
          <p:nvPr/>
        </p:nvPicPr>
        <p:blipFill>
          <a:blip r:embed="rId1"/>
          <a:stretch/>
        </p:blipFill>
        <p:spPr>
          <a:xfrm>
            <a:off x="571680" y="138240"/>
            <a:ext cx="671400" cy="1218960"/>
          </a:xfrm>
          <a:prstGeom prst="rect">
            <a:avLst/>
          </a:prstGeom>
          <a:ln w="0">
            <a:noFill/>
          </a:ln>
        </p:spPr>
      </p:pic>
      <p:sp>
        <p:nvSpPr>
          <p:cNvPr id="156" name="4 Rectángulo"/>
          <p:cNvSpPr/>
          <p:nvPr/>
        </p:nvSpPr>
        <p:spPr>
          <a:xfrm>
            <a:off x="4214880" y="5657760"/>
            <a:ext cx="585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Black"/>
              </a:rPr>
              <a:t>Dra. Marcela Matamala Bast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Black"/>
              </a:rPr>
              <a:t>Psiquiatra de Niños y Adolesc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Black"/>
              </a:rPr>
              <a:t>Universidad de Chil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6" descr="http://static.guim.co.uk/sys-images/Guardian/Pix/pictures/2008/12/16/1229440558030/Gallery-kennedy-family-Me-012.jpg"/>
          <p:cNvPicPr/>
          <p:nvPr/>
        </p:nvPicPr>
        <p:blipFill>
          <a:blip r:embed="rId2"/>
          <a:stretch/>
        </p:blipFill>
        <p:spPr>
          <a:xfrm>
            <a:off x="785880" y="3429000"/>
            <a:ext cx="2857320" cy="321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  <a:ea typeface="Arial"/>
              </a:rPr>
              <a:t>Concepto de duel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914400" y="1571760"/>
            <a:ext cx="437184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Pérdida irreversibl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411120" indent="-342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Muerte de personas significativas conectadas por vínculos afectivos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411120" indent="-342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Extendido  a otras pérdidas: de funciones y órganos, del ciclo vital, trabajo y la propia muert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411120" indent="-342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Duelo normal: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411120" indent="-342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Todas las personas que sufren pérdidas tienen procesos de duelo.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411120" indent="-342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El duelo tiene períodos de angustia y depresión.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411120" indent="-342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Influencia cultural en su manifestación.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411120" indent="-342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Picture 5" descr="http://usuarios.lycos.es/vivirlaperdida/IMAGES/cementerio.jpg"/>
          <p:cNvPicPr/>
          <p:nvPr/>
        </p:nvPicPr>
        <p:blipFill>
          <a:blip r:embed="rId1"/>
          <a:stretch/>
        </p:blipFill>
        <p:spPr>
          <a:xfrm>
            <a:off x="5500800" y="1571760"/>
            <a:ext cx="3214440" cy="471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  <a:ea typeface="Arial"/>
              </a:rPr>
              <a:t>Manifestaciones del duelo normal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6840" y="1213920"/>
            <a:ext cx="53290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Sentimientos, sensaciones físicas, cogniciones, percepciones y conductas, después de una pérdida significativa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No hay cambios significativos en la autoestima de la persona que vive el duelo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Funcionamiento social y ocupacional puede alterarse en forma leve y transitoria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Evaluación realista de la persona perdida, sin idealizaciones patológicas ni irreales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Alteraciones neurovegetativas transitorias y alteraciones de la sensopercepción breves.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Malestar intenso disminuye en 6-12 semanas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La ideación suicida es rara o transitoria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Picture 7" descr="http://img.xatakafoto.com/2008/05/20080524_Duelo2.jpg"/>
          <p:cNvPicPr/>
          <p:nvPr/>
        </p:nvPicPr>
        <p:blipFill>
          <a:blip r:embed="rId1"/>
          <a:stretch/>
        </p:blipFill>
        <p:spPr>
          <a:xfrm>
            <a:off x="6000840" y="1643040"/>
            <a:ext cx="3000240" cy="4405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76212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  <a:ea typeface="Arial"/>
              </a:rPr>
              <a:t>Etapas del duelo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Kubler Ross </a:t>
            </a:r>
            <a:br>
              <a:rPr sz="40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611280" y="1557360"/>
            <a:ext cx="302256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Neg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Rab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Negoci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Depre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Acep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11" descr="http://mikel.agirregabiria.net/2005/anger.jpg"/>
          <p:cNvPicPr/>
          <p:nvPr/>
        </p:nvPicPr>
        <p:blipFill>
          <a:blip r:embed="rId1"/>
          <a:stretch/>
        </p:blipFill>
        <p:spPr>
          <a:xfrm>
            <a:off x="6500880" y="2000160"/>
            <a:ext cx="1928880" cy="1548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3" descr="http://www.defence.gov.au/defencemagazine/editions/011104/images/Depression_horiz3.jpg"/>
          <p:cNvPicPr/>
          <p:nvPr/>
        </p:nvPicPr>
        <p:blipFill>
          <a:blip r:embed="rId2"/>
          <a:stretch/>
        </p:blipFill>
        <p:spPr>
          <a:xfrm>
            <a:off x="4714920" y="3000240"/>
            <a:ext cx="1785960" cy="1866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4"/>
          <p:cNvSpPr/>
          <p:nvPr/>
        </p:nvSpPr>
        <p:spPr>
          <a:xfrm>
            <a:off x="76212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  <a:ea typeface="Arial"/>
              </a:rPr>
              <a:t>Tareas del due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4643280" y="1523880"/>
            <a:ext cx="41436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Aceptar la realidad de la pérd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Elaborar las emociones y el dolor de la pérd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Adaptarse a un ambiente en que la persona fallecida está aus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Reubicar emocionalmente al fallecido y continuar vivie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6" descr="http://www.conelpapa.com/seriesdetelevision/hab_clip_image002_0000.jpg"/>
          <p:cNvPicPr/>
          <p:nvPr/>
        </p:nvPicPr>
        <p:blipFill>
          <a:blip r:embed="rId1"/>
          <a:stretch/>
        </p:blipFill>
        <p:spPr>
          <a:xfrm>
            <a:off x="785880" y="1643040"/>
            <a:ext cx="3552840" cy="4848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4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  <a:ea typeface="Arial"/>
              </a:rPr>
              <a:t>Duelo patológ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857160" y="1341360"/>
            <a:ext cx="7840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6617160" y="582840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7" descr="http://www.agencianova.com/data/fotos2/48596_DUELO_Y_DEPRESIÓN.jpg"/>
          <p:cNvPicPr/>
          <p:nvPr/>
        </p:nvPicPr>
        <p:blipFill>
          <a:blip r:embed="rId1"/>
          <a:stretch/>
        </p:blipFill>
        <p:spPr>
          <a:xfrm>
            <a:off x="2214720" y="1571760"/>
            <a:ext cx="4714560" cy="328608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28760" y="4857480"/>
            <a:ext cx="8229600" cy="26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Definición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: “Intensificación del duelo al nivel en que la persona está desbordada, recurre a conductas desadaptativas, o permanece inacabablemente en este estado sin avanzar en el proceso de duelo hacia su resolución”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No existe como diagnóstico en DSM IV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"/>
          <p:cNvSpPr/>
          <p:nvPr/>
        </p:nvSpPr>
        <p:spPr>
          <a:xfrm>
            <a:off x="285840" y="1000080"/>
            <a:ext cx="6572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Puede no estar relacionado temporalmente a la pérd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La persona en duelo puede desarrollar sentimientos de  auto devaluación o culpa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inten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Hay alteración funcional signific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La persona muerta es idealizada o distorsion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Pueden presentarse molestias vegetativas persist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Ideación suicida comú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Variedad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Duelo cró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Duelo retras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Duelo exage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Duelo enmasca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Mix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428760" y="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  <a:ea typeface="Arial"/>
              </a:rPr>
              <a:t>Duelo patológ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6" descr="http://tbn0.google.com/images?q=tbn:254xzZKYnxvm0M:http://www.boloncol.com/images/stories/boletin23/imag05/tristeza.jpg"/>
          <p:cNvPicPr/>
          <p:nvPr/>
        </p:nvPicPr>
        <p:blipFill>
          <a:blip r:embed="rId1"/>
          <a:stretch/>
        </p:blipFill>
        <p:spPr>
          <a:xfrm>
            <a:off x="6715080" y="4357800"/>
            <a:ext cx="2143080" cy="2500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"/>
          <p:cNvSpPr/>
          <p:nvPr/>
        </p:nvSpPr>
        <p:spPr>
          <a:xfrm>
            <a:off x="76212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Duelo en niñ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684360" y="1700280"/>
            <a:ext cx="5459400" cy="47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El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concepto de muerte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 evoluciona con el desarrollo, desde punto de vista cognitivo y emocio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Niños pequeños poseen pensamiento animístico y mág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El desarrollo del Concepto de Muerte requiere el entendimiento e integración de los siguientes  concepto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- Irreversibilidad: entender la muerte como fenómeno perman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- Implica cese total de las func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- Universalidad: es un fenómeno natural, parte del ciclo vit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- Causalidad: Producida por uno o más fact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5" descr="http://groups.msn.com/_Secure/0TgAAAIAXRpq5Mb6DokTWw2yqX9qDaEMHeAdZIn4hKJjblpj*ETDZBU8p*mkdOVHwSSzAFaLZbBFKs0lVqDli2qL!UH*8QHV1*m7mzbrNJqKAU91O05wcTQ/NiñoyMuerte27.jpg"/>
          <p:cNvPicPr/>
          <p:nvPr/>
        </p:nvPicPr>
        <p:blipFill>
          <a:blip r:embed="rId1"/>
          <a:stretch/>
        </p:blipFill>
        <p:spPr>
          <a:xfrm>
            <a:off x="6286680" y="2500200"/>
            <a:ext cx="2571480" cy="2714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Duelo en niño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28400" y="1428480"/>
            <a:ext cx="5257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Se describen 3 etapas en su desarrollo: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Hasta los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 años los niños viven la muerte como una separación, como dormir, no es un acontecimiento final irreversible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Entre los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5 - 8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 años se produce una “personificación” de la muerte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Alrededor de los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 años se consolida concepto de irreversibilidad, con lo cual se desarrolla concepto realista de la muerte.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uerte es universal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odas las funciones de la vida terminan al morir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s permanente e irreversible 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El desarrollo emocional continúa durante toda la vida y la significación de la muerte depende de etapa del ciclo vital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Picture 5" descr="http://img189.echo.cx/img189/1720/ninos9pq.png"/>
          <p:cNvPicPr/>
          <p:nvPr/>
        </p:nvPicPr>
        <p:blipFill>
          <a:blip r:embed="rId1"/>
          <a:stretch/>
        </p:blipFill>
        <p:spPr>
          <a:xfrm>
            <a:off x="6072120" y="3571920"/>
            <a:ext cx="2786040" cy="2857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  <a:ea typeface="Arial"/>
              </a:rPr>
              <a:t>Factores determinantes del duelo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611496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Quién era la persona fallecida y el rol que cumplía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La naturaleza del apego o tipo de vínculo que poseían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Tipo de muerte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Variables de personalidad.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Variables sociales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Otros tipos de estrés simultáneos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8" name="Picture 5" descr="http://us.123rf.com/400wm/400/400/sarahann/sarahann0706/sarahann070600025/1118946.jpg"/>
          <p:cNvPicPr/>
          <p:nvPr/>
        </p:nvPicPr>
        <p:blipFill>
          <a:blip r:embed="rId1"/>
          <a:stretch/>
        </p:blipFill>
        <p:spPr>
          <a:xfrm>
            <a:off x="5072040" y="3357720"/>
            <a:ext cx="3809880" cy="2923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Arial"/>
              </a:rPr>
              <a:t>¿Qué es un Trastorno Adaptativo?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857760" y="1856880"/>
            <a:ext cx="482904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Factores estresantes: Únicos-múltipl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Curso: breve recurrente o persistent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Intensidad : leve o severa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Deterioro significativo en actividad familiar, social y escolar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Relación temporal entre evento estresor y la respuesta     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8" name="Picture 2" descr="http://www.institutosantateresadejesus.org/retard1.jpg"/>
          <p:cNvPicPr/>
          <p:nvPr/>
        </p:nvPicPr>
        <p:blipFill>
          <a:blip r:embed="rId1"/>
          <a:stretch/>
        </p:blipFill>
        <p:spPr>
          <a:xfrm>
            <a:off x="428760" y="1857240"/>
            <a:ext cx="3143160" cy="4071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Arial"/>
              </a:rPr>
              <a:t>Consideraciones especial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6840" y="1356840"/>
            <a:ext cx="497196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La muerte en los niños activa numerosas ansiedade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Los niños son muy susceptibles a la alteración de la dinámica familiar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Pueden sentirse responsables de la muert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Se resienten por el tiempo dedicado a la persona moribunda, luego sienten culpa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Se irritan con sus figuras cercanas por no haber impedido que ocurriera la muert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1" name="Picture 6" descr="http://farm4.static.flickr.com/3270/2318024073_ff0e03dcb9.jpg?v=0"/>
          <p:cNvPicPr/>
          <p:nvPr/>
        </p:nvPicPr>
        <p:blipFill>
          <a:blip r:embed="rId1"/>
          <a:stretch/>
        </p:blipFill>
        <p:spPr>
          <a:xfrm>
            <a:off x="5857920" y="1285920"/>
            <a:ext cx="2857320" cy="471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Arial"/>
              </a:rPr>
              <a:t>¿Qué Hacer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42920" y="1071360"/>
            <a:ext cx="540072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Los niños pueden presentar gran ansiedad, aún sin un concepto total de muerte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No tratar de explicar un concepto que está fuera del nivel de comprensión para la edad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No intentar la tarea de ahorrar el dolor de la pérdida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Ayudar a expresar el dolor de una manera apropiada al nivel de desarrollo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Compartir el dolor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Tranquilizar al niño sobre la continuidad de sus relaciones con las otras personas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Dejarlos participar en los rituales de despedida.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4" name="Picture 5" descr="http://www.vivirlaperdida.com/IMAGES/cementerio2.jpg"/>
          <p:cNvPicPr/>
          <p:nvPr/>
        </p:nvPicPr>
        <p:blipFill>
          <a:blip r:embed="rId1"/>
          <a:stretch/>
        </p:blipFill>
        <p:spPr>
          <a:xfrm>
            <a:off x="5786280" y="3500280"/>
            <a:ext cx="3143520" cy="2819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  <a:ea typeface="Arial"/>
              </a:rPr>
              <a:t>Terapia en el duel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142640"/>
            <a:ext cx="5043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Su objetivo es identificar y resolver los conflictos que imposibilitan la realización de las tareas correspondiente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Implica experimentar pensamientos y sentimientos que el paciente ha estado evitando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El terapeuta proporciona el apoyo y da permiso para elaborar el duelo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Picture 5" descr="http://www.funecanarias.es/garbage/72/728379/big_6583712_0_306-397.jpg"/>
          <p:cNvPicPr/>
          <p:nvPr/>
        </p:nvPicPr>
        <p:blipFill>
          <a:blip r:embed="rId1"/>
          <a:stretch/>
        </p:blipFill>
        <p:spPr>
          <a:xfrm>
            <a:off x="5643720" y="2357280"/>
            <a:ext cx="2914560" cy="3781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  <a:ea typeface="Arial"/>
              </a:rPr>
              <a:t>¿Qué evitar decir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-360" y="1285920"/>
            <a:ext cx="5900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    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ra la voluntad de Dios” o “Dios tiene su plan”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     “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Ahora está en un lugar mejor”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    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Dios necesitaba un ángel”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    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Todo sucede por una razón”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“Eres joven, puedes tener más hijos”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“¿No estás agradecida de tener otros hijos más?”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“El tiempo lo cura todo”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    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Tienes que ser fuerte por tu (esposa, marido, hijos, padre, madre)”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“A tu hijo/esposo/padre no le gustaría que estuvieras triste”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“¿Todavía no lo superas?”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“Por lo menos no fue tu hijo mayor”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“Por lo menos ya no está sufriendo”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“No deberías estar triste, fue para mejor”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“Puedes intentar de nuevo”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“Por lo menos tuvo una vida buena”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0" name="Picture 5" descr="http://www.psicodiagnosis.es/images/9_460.jpg"/>
          <p:cNvPicPr/>
          <p:nvPr/>
        </p:nvPicPr>
        <p:blipFill>
          <a:blip r:embed="rId1"/>
          <a:stretch/>
        </p:blipFill>
        <p:spPr>
          <a:xfrm>
            <a:off x="5857920" y="4286160"/>
            <a:ext cx="3071880" cy="2400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  <a:ea typeface="Arial"/>
              </a:rPr>
              <a:t>¿Cuándo ha acabado el duelo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504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Cuando la persona es capaz de pensar en el fallecido sin dolor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Cuando la persona recupera el interés en la vida propia, la sensación de esperanza, siente gratificación y elabora planes para su futuro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Picture 7" descr="escanear0086oc3.jpg"/>
          <p:cNvPicPr/>
          <p:nvPr/>
        </p:nvPicPr>
        <p:blipFill>
          <a:blip r:embed="rId1"/>
          <a:stretch/>
        </p:blipFill>
        <p:spPr>
          <a:xfrm>
            <a:off x="5500800" y="1714680"/>
            <a:ext cx="3357360" cy="4429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 Black"/>
              </a:rPr>
              <a:t>Gracias……Preguntas?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5" name="Picture 4" descr="http://farm4.static.flickr.com/3554/3593791605_d794b10871_o.jpg"/>
          <p:cNvPicPr/>
          <p:nvPr/>
        </p:nvPicPr>
        <p:blipFill>
          <a:blip r:embed="rId1"/>
          <a:stretch/>
        </p:blipFill>
        <p:spPr>
          <a:xfrm>
            <a:off x="1643040" y="1643040"/>
            <a:ext cx="6019920" cy="4476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  <a:ea typeface="Arial"/>
              </a:rPr>
              <a:t>Epidemiología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714560" y="1500120"/>
            <a:ext cx="39718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  <a:ea typeface="Arial"/>
              </a:rPr>
              <a:t>Se presentan a cualquier edad y en ambos sexos</a:t>
            </a:r>
            <a:endParaRPr b="0" lang="en-US" sz="2500" spc="-1" strike="noStrike">
              <a:solidFill>
                <a:srgbClr val="000000"/>
              </a:solidFill>
              <a:latin typeface="Arial Black"/>
            </a:endParaRPr>
          </a:p>
          <a:p>
            <a:pPr marL="411120" indent="-34272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Black"/>
            </a:endParaRPr>
          </a:p>
          <a:p>
            <a:pPr marL="411120" indent="-34272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Arial"/>
                <a:ea typeface="Arial"/>
              </a:rPr>
              <a:t>Prevalencia:</a:t>
            </a:r>
            <a:endParaRPr b="0" lang="en-US" sz="2500" spc="-1" strike="noStrike">
              <a:solidFill>
                <a:srgbClr val="000000"/>
              </a:solidFill>
              <a:latin typeface="Arial Black"/>
            </a:endParaRPr>
          </a:p>
          <a:p>
            <a:pPr marL="411120" indent="-34272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s-CL" sz="2500" spc="-1" strike="noStrike">
                <a:solidFill>
                  <a:srgbClr val="000000"/>
                </a:solidFill>
                <a:latin typeface="Arial"/>
                <a:ea typeface="Arial"/>
              </a:rPr>
              <a:t>Hospital Roberto del Río 1998:</a:t>
            </a:r>
            <a:endParaRPr b="0" lang="en-US" sz="2500" spc="-1" strike="noStrike">
              <a:solidFill>
                <a:srgbClr val="000000"/>
              </a:solidFill>
              <a:latin typeface="Arial Black"/>
            </a:endParaRPr>
          </a:p>
          <a:p>
            <a:pPr marL="411120" indent="-34272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Black"/>
            </a:endParaRPr>
          </a:p>
          <a:p>
            <a:pPr marL="411120" indent="-34272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s-CL" sz="2500" spc="-1" strike="noStrike">
                <a:solidFill>
                  <a:srgbClr val="000000"/>
                </a:solidFill>
                <a:latin typeface="Arial"/>
                <a:ea typeface="Arial"/>
              </a:rPr>
              <a:t>-Motivo de consulta más frecuente en Servicio de Psiquiatría Infantil: </a:t>
            </a:r>
            <a:endParaRPr b="0" lang="en-US" sz="2500" spc="-1" strike="noStrike">
              <a:solidFill>
                <a:srgbClr val="000000"/>
              </a:solidFill>
              <a:latin typeface="Arial Black"/>
            </a:endParaRPr>
          </a:p>
          <a:p>
            <a:pPr marL="411120" indent="-342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Arial"/>
                <a:ea typeface="Arial"/>
              </a:rPr>
              <a:t>     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  <a:ea typeface="Arial"/>
              </a:rPr>
              <a:t>33%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 del total de consultas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3980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Arial"/>
                <a:ea typeface="Arial"/>
              </a:rPr>
              <a:t>25,6%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 en hombres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3980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Arial"/>
                <a:ea typeface="Arial"/>
              </a:rPr>
              <a:t>27,5%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 en mujeres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3980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Arial"/>
                <a:ea typeface="Arial"/>
              </a:rPr>
              <a:t>6,7%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 comorbilidad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Picture 2" descr="http://fundacionannavazquez.files.wordpress.com/2007/08/330.jpg"/>
          <p:cNvPicPr/>
          <p:nvPr/>
        </p:nvPicPr>
        <p:blipFill>
          <a:blip r:embed="rId1"/>
          <a:stretch/>
        </p:blipFill>
        <p:spPr>
          <a:xfrm>
            <a:off x="1000080" y="1643040"/>
            <a:ext cx="3500640" cy="46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  <a:ea typeface="Arial"/>
              </a:rPr>
              <a:t>¿En qué momento se presenta 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85520" y="1285920"/>
            <a:ext cx="38574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06800" indent="-339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406800" indent="-339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Entre los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3 meses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posterior a la exposición al estresor , hasta los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6 meses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posterior a la desaparición de este o sus consecuencia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406800" indent="-339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406800" indent="-339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Si persiste por mas de 6 meses debe reevaluarse y podría ser un Trastorno adaptativo crónico (puede afectar el desarrollo psicológico del niño/adolescente)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406800" indent="-339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4" name="Picture 5" descr="http://2.bp.blogspot.com/_iVIFaTzqvV0/R1w7gT1ilwI/AAAAAAAAAAs/ZNgjMroeksI/s320/_42641561_estresspl.jpg"/>
          <p:cNvPicPr/>
          <p:nvPr/>
        </p:nvPicPr>
        <p:blipFill>
          <a:blip r:embed="rId1"/>
          <a:stretch/>
        </p:blipFill>
        <p:spPr>
          <a:xfrm>
            <a:off x="5072040" y="1714680"/>
            <a:ext cx="3286080" cy="471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  <a:ea typeface="Arial"/>
              </a:rPr>
              <a:t>Características del trastorno adaptativ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14040" y="1784520"/>
            <a:ext cx="3871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Arial"/>
              </a:rPr>
              <a:t>Formas de expresión variadas.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  <a:p>
            <a:pPr marL="411120" indent="-3427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  <a:p>
            <a:pPr marL="411120" indent="-3427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Arial"/>
              </a:rPr>
              <a:t>Con frecuencia coexiste sintomatología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Arial"/>
              </a:rPr>
              <a:t>depresiva, ansiosa, conductual somática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  <a:p>
            <a:pPr marL="411120" indent="-3427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  <a:p>
            <a:pPr marL="411120" indent="-3427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Arial"/>
              </a:rPr>
              <a:t>Generalmente desarrollo normal previo.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Picture 6" descr="http://2.bp.blogspot.com/_Ti_EM1H5nCo/SNS4cLW7HLI/AAAAAAAAD5M/CUg0kkdeiXU/s400/21224.jpg"/>
          <p:cNvPicPr/>
          <p:nvPr/>
        </p:nvPicPr>
        <p:blipFill>
          <a:blip r:embed="rId1"/>
          <a:stretch/>
        </p:blipFill>
        <p:spPr>
          <a:xfrm>
            <a:off x="5143680" y="228600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7772400" cy="100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0044ac"/>
                </a:solidFill>
                <a:latin typeface="Arial Black"/>
              </a:rPr>
              <a:t>       </a:t>
            </a:r>
            <a:r>
              <a:rPr b="0" lang="es-CL" sz="5400" spc="-1" strike="noStrike">
                <a:solidFill>
                  <a:srgbClr val="000000"/>
                </a:solidFill>
                <a:latin typeface="Arial"/>
                <a:ea typeface="Arial"/>
              </a:rPr>
              <a:t>Etiología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Rectangle 4"/>
          <p:cNvSpPr/>
          <p:nvPr/>
        </p:nvSpPr>
        <p:spPr>
          <a:xfrm flipV="1" rot="10807200">
            <a:off x="999720" y="1429920"/>
            <a:ext cx="2714760" cy="20001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Estres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especí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5429160" y="1428840"/>
            <a:ext cx="2857680" cy="20001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Vulnerab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individ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11 Rectángulo"/>
          <p:cNvSpPr/>
          <p:nvPr/>
        </p:nvSpPr>
        <p:spPr>
          <a:xfrm>
            <a:off x="1143000" y="4000680"/>
            <a:ext cx="214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Ti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Du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12 Rectángulo"/>
          <p:cNvSpPr/>
          <p:nvPr/>
        </p:nvSpPr>
        <p:spPr>
          <a:xfrm>
            <a:off x="5929200" y="3429000"/>
            <a:ext cx="2571840" cy="28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Intrínseca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Temperamento -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xperiencias tempran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Extrínse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Disfunción familiar- Red de apoyo Insuficiente-Tipo de crian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4" descr="http://www.sld.cu/galerias/imagen/saludvida/jovenes/ninoproblema.gif"/>
          <p:cNvPicPr/>
          <p:nvPr/>
        </p:nvPicPr>
        <p:blipFill>
          <a:blip r:embed="rId1"/>
          <a:stretch/>
        </p:blipFill>
        <p:spPr>
          <a:xfrm>
            <a:off x="3214800" y="3500280"/>
            <a:ext cx="2714400" cy="2786400"/>
          </a:xfrm>
          <a:prstGeom prst="rect">
            <a:avLst/>
          </a:prstGeom>
          <a:ln w="0">
            <a:noFill/>
          </a:ln>
        </p:spPr>
      </p:pic>
      <p:sp>
        <p:nvSpPr>
          <p:cNvPr id="114" name="15 Cruz"/>
          <p:cNvSpPr/>
          <p:nvPr/>
        </p:nvSpPr>
        <p:spPr>
          <a:xfrm>
            <a:off x="4214880" y="2071800"/>
            <a:ext cx="628560" cy="557280"/>
          </a:xfrm>
          <a:prstGeom prst="plus">
            <a:avLst>
              <a:gd name="adj" fmla="val 25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  <a:ea typeface="Arial"/>
              </a:rPr>
              <a:t>Trastorno adaptativo DSM IV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85520" y="1356840"/>
            <a:ext cx="4429080" cy="52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Se habla de “trastorno” ya que hay  una respuesta </a:t>
            </a:r>
            <a:r>
              <a:rPr b="1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de más intensidad 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a la esperada por la naturaleza del estresor, o </a:t>
            </a:r>
            <a:r>
              <a:rPr b="1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mayor incapacidad 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social, educacional o laboral que la esperada.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411120" indent="-342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 se emplea esta categoría si el trastorno reúne los criterios de una patología específica.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411120" indent="-342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 se hace este diagnóstico si los síntomas representan una reacción de duelo.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411120" indent="-342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  <a:ea typeface="Arial"/>
              </a:rPr>
              <a:t>La severidad de la </a:t>
            </a:r>
            <a:r>
              <a:rPr b="1" lang="es-MX" sz="2200" spc="-1" strike="noStrike">
                <a:solidFill>
                  <a:srgbClr val="000000"/>
                </a:solidFill>
                <a:latin typeface="Arial"/>
                <a:ea typeface="Arial"/>
              </a:rPr>
              <a:t>reacción no puede predecirse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  <a:ea typeface="Arial"/>
              </a:rPr>
              <a:t> por la intensidad del estresor (variable individual).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411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411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786280" y="1981080"/>
            <a:ext cx="2671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8" name="Picture 6" descr="http://www.pediatradefamilia.com.ar/imagenes/hermanitas.jpg"/>
          <p:cNvPicPr/>
          <p:nvPr/>
        </p:nvPicPr>
        <p:blipFill>
          <a:blip r:embed="rId1"/>
          <a:stretch/>
        </p:blipFill>
        <p:spPr>
          <a:xfrm>
            <a:off x="5715000" y="2286000"/>
            <a:ext cx="3214800" cy="321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072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  <a:ea typeface="Arial"/>
              </a:rPr>
              <a:t>Trastorno adaptativo DSM IV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-360" y="1785600"/>
            <a:ext cx="44290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Entre el evento desencadenante y la respuesta del individuo hay una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relación temporal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Los síntomas se desarrollan hasta 3 meses después de producido el evento estresante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Se espera que los síntomas se resuelvan a los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6 meses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de terminado este evento (a menos que se trate de estresor crónico)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Los eventos desencadenantes pueden ser de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muy variada naturaleza,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 únicos o múltiples, aislados o crónicos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El evento desencadenante puede ser la respuesta a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crisis del desarrollo o a eventos inesperados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Picture 7" descr="http://2.bp.blogspot.com/_JP5FKTWpbQY/SgeNqqK-nxI/AAAAAAAABMc/iPrSadJTMdA/s400/secondaryImage_52.jpg"/>
          <p:cNvPicPr/>
          <p:nvPr/>
        </p:nvPicPr>
        <p:blipFill>
          <a:blip r:embed="rId1"/>
          <a:stretch/>
        </p:blipFill>
        <p:spPr>
          <a:xfrm>
            <a:off x="5000760" y="2143080"/>
            <a:ext cx="3809880" cy="3286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5T23:39:08Z</dcterms:created>
  <dc:creator>MARCELA</dc:creator>
  <dc:description/>
  <dc:language>en-US</dc:language>
  <cp:lastModifiedBy>MARCELA</cp:lastModifiedBy>
  <dcterms:modified xsi:type="dcterms:W3CDTF">2009-08-10T02:39:17Z</dcterms:modified>
  <cp:revision>98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321033</vt:lpwstr>
  </property>
</Properties>
</file>