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0736-0A73-4160-AEB5-0EA57A2E205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3709-4560-4D0A-ADE0-3EF4AB4AD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E4B7-4595-4A4A-8DA7-6946BAADD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67D6-E5CD-4EDE-BE60-332686B5D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043F-AAB6-4A3D-A223-0B817EB54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E854-85DF-4DEE-9F78-87BD72202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2F02-BD54-4F6B-A02E-042764216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B6B9-E209-4B2C-830E-5559FAF3A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5A1D-DF55-4537-BD76-59016875F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772D-6A67-4A55-8FF4-3BB061F8A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F161-C8E3-4460-A82C-DC9F8508B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DCE1-6686-443F-8EFC-FF0529D63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FDC0-20F1-4081-8C54-B20B46A52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300B-7EB5-4CD1-B3AC-22DC4B448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2E44-CD2A-4587-8778-2EC45A6C9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AB60-5708-4991-9E73-BDDF4B880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9EBF-D361-45F4-A4C2-8BFC850ED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BF79-9CD4-4396-ACE1-C227220D9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1A7-473C-4DC4-B3D8-218C3146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B58-D9E9-4C62-BA98-EE5BCD05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007-D2C2-4D78-8797-DF803EF7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B1E-09F3-44EA-84C1-73993943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A6E0-F18A-4D7E-BDCF-AA5DEF86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63A0-5A50-4458-ACF9-9FC99396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7762-7172-4D1A-AFD6-C58EEA74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D1F2-6DD9-46A6-A435-8D825E9A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592C-E578-4EED-B560-8E342A14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F657-BE4B-4165-8DE1-A685132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F3DE-3313-4F7D-933C-0C58BF41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7C2-ACE0-417C-BC22-0B1C912F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1EC5-5604-45C5-96BC-03639ECC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FEAF-CC8F-4AB8-90B2-0C915586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6001-F195-481E-8AD8-AF739B9B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1F2C-FD58-4502-9EA6-8A953082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E0A4-E180-4BBC-8CBF-66FE93C9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7160-417F-4E73-B77D-2C283E4F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C1B5-8562-451C-8F07-8964C918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2279-3408-4BDE-B6C2-E69716EB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71CD-D536-4744-A3B8-36D6581F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F60C6-8151-4975-9C73-B870923E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B9C-1854-4037-BD61-C90204D2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615C-A921-4772-932E-0BB02B49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FDB1-86DE-4675-8EA0-D3206F8B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188B-1CE5-407E-B53B-5EF1EAD5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3AB1-AEBF-4B52-AB3B-3BD4DE0A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FB27-3FF4-4310-A523-3A3845C4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5CE2-D802-4AAA-98A9-DFEB7B51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3AFF-E461-450E-9622-4337FDE0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C9FAC-3EC2-44DE-B11B-3057C00A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587F0-B658-4CCE-9391-21F0C6C1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AA2B-FD72-4F36-9351-EEAB490D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726-A7DB-46A4-92D5-A1C263E4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A3682-943E-4E78-87EE-2A0083E2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C1711-F831-4C1D-AA9A-135B81BC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17B7-8E55-4C0F-A789-34466E7B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85FD9-BD14-4043-9082-A42B0F48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DD95F-D042-4D02-B36B-563FAD57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5570-AEDC-441B-90F3-2C69B5B9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F017-762F-41E5-B4AD-B7F76CAE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408D4-BC93-4CEA-863B-B2358426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1E90-926B-4637-B274-CD6A8632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338-A70B-4F50-AD3C-82321AEF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F7C-4C50-4EC3-8255-0A3449F9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9B2-4C50-42E2-9E1B-E4BFCDEA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E90-D9E1-4859-BFFD-CEC86DF8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270-30CD-4DEF-95CB-E650161E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3BAB-A8D4-4FB0-A566-571A3DEE6350}" type="slidenum">
              <a:rPr b="0" lang="es-MX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6A87-357D-411A-8DDE-D6B8E4B86CF0}" type="slidenum">
              <a:rPr b="0" lang="es-MX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0E3E-E526-4C79-933B-E752E10328FF}" type="slidenum">
              <a:rPr b="0" lang="es-MX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9A91-FD62-4D9E-8B5B-32244A17EA6B}" type="slidenum">
              <a:rPr b="0" lang="es-MX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523800"/>
            <a:ext cx="79246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60040" y="5286240"/>
            <a:ext cx="78548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nstantia"/>
              </a:rPr>
              <a:t>Dra. Marcela Abufhe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nstantia"/>
              </a:rPr>
              <a:t>Curso Psiquitaría Infantil y de la Adolescenci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nstantia"/>
              </a:rPr>
              <a:t>V año Medicina 200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http://bp3.blogger.com/_JP5FKTWpbQY/SI0uKsCqtiI/AAAAAAAAAbg/aiArrKys-fs/s400/Nueva+imagen+(1).png"/>
          <p:cNvPicPr/>
          <p:nvPr/>
        </p:nvPicPr>
        <p:blipFill>
          <a:blip r:embed="rId2"/>
          <a:stretch/>
        </p:blipFill>
        <p:spPr>
          <a:xfrm>
            <a:off x="1571760" y="2714760"/>
            <a:ext cx="3357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MX" sz="4500" spc="-1" strike="noStrike">
                <a:solidFill>
                  <a:srgbClr val="464646"/>
                </a:solidFill>
                <a:latin typeface="Calibri"/>
              </a:rPr>
              <a:t>   “</a:t>
            </a:r>
            <a:r>
              <a:rPr b="0" lang="es-MX" sz="4500" spc="-1" strike="noStrike">
                <a:solidFill>
                  <a:srgbClr val="464646"/>
                </a:solidFill>
                <a:latin typeface="Calibri"/>
              </a:rPr>
              <a:t>Participación”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Vict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iños desprotegidos son los 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s vulner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mie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seducción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no comprender que es anorm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no tener quien la proteja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víctima particip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o… NO es respons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raicionfinal3.wmv" descr=""/>
          <p:cNvPicPr/>
          <p:nvPr/>
        </p:nvPicPr>
        <p:blipFill>
          <a:blip r:embed="rId1"/>
          <a:stretch/>
        </p:blipFill>
        <p:spPr>
          <a:xfrm>
            <a:off x="208080" y="101520"/>
            <a:ext cx="872172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468360" y="1628640"/>
            <a:ext cx="46195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Por lo tanto…..victi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No consult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Hay que detectarl0 y detene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Para detenerla se requiere recurrir al control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domesticviolence"/>
          <p:cNvPicPr/>
          <p:nvPr/>
        </p:nvPicPr>
        <p:blipFill>
          <a:blip r:embed="rId1"/>
          <a:stretch/>
        </p:blipFill>
        <p:spPr>
          <a:xfrm>
            <a:off x="5286240" y="1071720"/>
            <a:ext cx="3337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Isosceles Triangle 4"/>
          <p:cNvSpPr/>
          <p:nvPr/>
        </p:nvSpPr>
        <p:spPr>
          <a:xfrm>
            <a:off x="2286000" y="1428840"/>
            <a:ext cx="3357720" cy="3714840"/>
          </a:xfrm>
          <a:prstGeom prst="triangle">
            <a:avLst>
              <a:gd name="adj" fmla="val 50000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357280" y="9288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GRE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500040" y="51436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VICTIMA</a:t>
            </a: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5786280" y="5143680"/>
            <a:ext cx="32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STIGOS SILENCI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RCERO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3214800" y="350028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inámic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b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14">
            <a:hlinkClick r:id="rId1" action="ppaction://hlinksldjump"/>
          </p:cNvPr>
          <p:cNvSpPr/>
          <p:nvPr/>
        </p:nvSpPr>
        <p:spPr>
          <a:xfrm>
            <a:off x="7143840" y="5857920"/>
            <a:ext cx="571320" cy="357120"/>
          </a:xfrm>
          <a:prstGeom prst="roundRect">
            <a:avLst>
              <a:gd name="adj" fmla="val 16667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“</a:t>
            </a: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Participación”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ercer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entral para desrigidizar creencias que avalan abus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amiliar, educador, médico, juez/a, vecin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Negar, minimizar o justificar  los actos con creencias rígidas, o bien responsabiliza al niño….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VS reconocer la posibilidad del abuso, indicadores y utilizar adecuadamente su papel…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ctr">
              <a:spcBef>
                <a:spcPts val="7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cortar el círculo abusiv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Isosceles Triangle 4"/>
          <p:cNvSpPr/>
          <p:nvPr/>
        </p:nvSpPr>
        <p:spPr>
          <a:xfrm>
            <a:off x="2286000" y="2143080"/>
            <a:ext cx="3357720" cy="3714840"/>
          </a:xfrm>
          <a:prstGeom prst="triangle">
            <a:avLst>
              <a:gd name="adj" fmla="val 50000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2357280" y="14670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GRE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500040" y="59673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VICTIMA</a:t>
            </a: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5786280" y="5864400"/>
            <a:ext cx="32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STIGOS SILENCI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RCERO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3214800" y="350028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inámic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b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0">
            <a:hlinkClick r:id="rId1" action="ppaction://hlinksldjump"/>
          </p:cNvPr>
          <p:cNvSpPr/>
          <p:nvPr/>
        </p:nvSpPr>
        <p:spPr>
          <a:xfrm>
            <a:off x="3571920" y="85716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Perfil del Agresor 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Los agresores no tienen un perfil definible, ni manifiestan conductas bizarras fuera de la situación de maltrato o abuso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gresor suele elegir víctimas que sienten que no pueden pedir ayu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íctima tiene relación cercana al agresor (85%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iene ascendiente o poder sobre él o ell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 mayor cercanía afectiva y dependencia entre agresor y víctima….mayor confusión (“quien me ama, me daña”), sentimientos de ambivalencia y culpa, y, mayor secuela sobre el desarrollo del niño/adolescente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464646"/>
                </a:solidFill>
                <a:latin typeface="Calibri"/>
              </a:rPr>
              <a:t>Fases del proceso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duc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teracción sexual abus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cr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 algn="ctr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e mantiene homeostasis familiar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ivulgación/devel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pres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s-CL" sz="3000" spc="-1" strike="noStrike">
                <a:solidFill>
                  <a:srgbClr val="000000"/>
                </a:solidFill>
                <a:latin typeface="Constantia"/>
              </a:rPr>
              <a:t>Crisis familiar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1619280" y="350028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1547640" y="5589720"/>
            <a:ext cx="505080" cy="360360"/>
          </a:xfrm>
          <a:prstGeom prst="rightArrow">
            <a:avLst>
              <a:gd name="adj1" fmla="val 50000"/>
              <a:gd name="adj2" fmla="val 35040"/>
            </a:avLst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http://constanzac.files.wordpress.com/2007/08/ninita-blog.jpg"/>
          <p:cNvPicPr/>
          <p:nvPr/>
        </p:nvPicPr>
        <p:blipFill>
          <a:blip r:embed="rId1"/>
          <a:stretch/>
        </p:blipFill>
        <p:spPr>
          <a:xfrm>
            <a:off x="6149880" y="4143240"/>
            <a:ext cx="2637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Sintomas y efectos del ASI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Son variados y dependen de múltiples factor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dad y etapa evolutiva del ni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ersonalida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Nivel cogni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lación con el abusad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uración y frecuencia e intensidad del abus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ipo de develamiento, reacción de la madre (figura protectora) y del entorn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Sintomas y efectos del ASI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64646"/>
                </a:solidFill>
                <a:latin typeface="Constantia"/>
              </a:rPr>
              <a:t>Preescola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714680"/>
            <a:ext cx="404172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64646"/>
                </a:solidFill>
                <a:latin typeface="Constantia"/>
              </a:rPr>
              <a:t>Escola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2357280"/>
            <a:ext cx="4040280" cy="4003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Conducta hipersexualizada e inapropiada para la eda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Ansiedad y trastorno por estrés agu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TEPT – disociac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Conductas regresivas y somatizaci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Trastornos de conduc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Trastornos ansiosos (fobias, TAS, mied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Depres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4720" y="2286000"/>
            <a:ext cx="4041720" cy="4075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Preocupación sexual excesiv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Agresión sexu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Ansiedad y trastornos del sueñ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Tr.  estrés agudo y TEP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Conductas regresivas y dificultades escola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E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Trastornos de conduc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Depres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as intrafamiliar.wmv" descr=""/>
          <p:cNvPicPr/>
          <p:nvPr/>
        </p:nvPicPr>
        <p:blipFill>
          <a:blip r:embed="rId1"/>
          <a:stretch/>
        </p:blipFill>
        <p:spPr>
          <a:xfrm>
            <a:off x="285840" y="303120"/>
            <a:ext cx="84582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Sintomas y efectos del ASI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64646"/>
                </a:solidFill>
                <a:latin typeface="Constantia"/>
              </a:rPr>
              <a:t>Adolesce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64646"/>
                </a:solidFill>
                <a:latin typeface="Constantia"/>
              </a:rPr>
              <a:t>Adul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Conductas autodestructuvas y de riesg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Ansiedad, depresión y TEP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ntomas  y enfermedades psicosomáticas (TCA, sueño, cefalea, DAR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uicidalida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Aislamiento social, dificultades en vínculos relaciones intepersona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Trastornos de personalidad borderline o antisoci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Problemas en los vincul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Revictimización: agresión en las relaci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Depresión, conductas suicidas y autoagresiv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Depresión y trastornos ansios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Constantia"/>
              </a:rPr>
              <a:t>Relato del niñ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Constantia"/>
              </a:rPr>
              <a:t>Evidencia médica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10 a 30% (max) lesiones en área genital o enfermedades de transmisión sex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esiones genitales en niños sanan 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pidamente y pocas veces dejan cicatrices . 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(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Adams,2008  y Pillai,2008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Si hay heridas graves y no ha habido accidente grave, pensar en abuso sex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Indicadores específicos de ASI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mbios en la conducta habitual del niñ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íntomas y secuelas  en su desarrol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ductas hipersexualizadas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sturbación compuls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eocupación excesiva por temas sexuales e imitación de coi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enguaje o gestos que no corresponden a su edad o nivel de desarrol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Juegos sexuales inapropiado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Indicadores inespecíficos de ASI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6" name="Rounded Rectangle 4">
            <a:hlinkClick r:id="rId1" action="ppaction://hlinksldjump"/>
          </p:cNvPr>
          <p:cNvSpPr/>
          <p:nvPr/>
        </p:nvSpPr>
        <p:spPr>
          <a:xfrm>
            <a:off x="5429160" y="5715000"/>
            <a:ext cx="500040" cy="285840"/>
          </a:xfrm>
          <a:prstGeom prst="roundRect">
            <a:avLst>
              <a:gd name="adj" fmla="val 16667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464646"/>
                </a:solidFill>
                <a:latin typeface="Calibri"/>
              </a:rPr>
              <a:t>Juegos sexuales </a:t>
            </a:r>
            <a:br>
              <a:rPr sz="6600"/>
            </a:br>
            <a:r>
              <a:rPr b="0" lang="es-CL" sz="3200" spc="-1" strike="noStrike">
                <a:solidFill>
                  <a:srgbClr val="464646"/>
                </a:solidFill>
                <a:latin typeface="Calibri"/>
              </a:rPr>
              <a:t>(Dra. Danya Glaser)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3624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Lo normal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Juegan mirando y tocando el cuerpo. No introducen objetos en genit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svisten a las muñecas, pero no introducen objetos ni imitan sexo or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hay coer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 juego consensual, entre pa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213624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Anormal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troducen objetos en genit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itan sexo or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 muñecas anatómicas, introducen objetos en genitales o realiza acciones de sexo or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erción y amenaz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ás de 3-5 años entre participa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jesusabigail7.wmv" descr=""/>
          <p:cNvPicPr/>
          <p:nvPr/>
        </p:nvPicPr>
        <p:blipFill>
          <a:blip r:embed="rId1"/>
          <a:stretch/>
        </p:blipFill>
        <p:spPr>
          <a:xfrm>
            <a:off x="857160" y="928800"/>
            <a:ext cx="76075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9216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3" descr=""/>
          <p:cNvPicPr/>
          <p:nvPr/>
        </p:nvPicPr>
        <p:blipFill>
          <a:blip r:embed="rId1"/>
          <a:stretch/>
        </p:blipFill>
        <p:spPr>
          <a:xfrm>
            <a:off x="92160" y="1133640"/>
            <a:ext cx="8717040" cy="1433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ttp://www.logosdictionary.org/bimbi/images/pediatra.jpg"/>
          <p:cNvPicPr/>
          <p:nvPr/>
        </p:nvPicPr>
        <p:blipFill>
          <a:blip r:embed="rId2"/>
          <a:stretch/>
        </p:blipFill>
        <p:spPr>
          <a:xfrm>
            <a:off x="2571840" y="3244680"/>
            <a:ext cx="3500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Objetivos del tratamiento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Reintroducir la normativa social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segurar protección del niñ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nu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Intervenciones terapéuticas con madre y/o adulto protec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Reparación daño/secuelas del niño/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Postura ética frente a conductas abusivas: alentar o realizar denunc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Comprender la interacción y dinámica comple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dentificar conductas abusivas y nunca alentarl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dentificar conductas sanas y reforzarl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dentificar, fortalecer y apoyar a figura protectora. No dejarla sol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Alentar respeto en equipos de trabaj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ocer el campo de acción de otros profesio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Acción del médico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464646"/>
                </a:solidFill>
                <a:latin typeface="Calibri"/>
              </a:rPr>
              <a:t>EN CASOS DE ASI…..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1280" y="232524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firmado 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ospecha fund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6156360" y="2286000"/>
            <a:ext cx="2630520" cy="2143080"/>
          </a:xfrm>
          <a:prstGeom prst="wedgeRoundRectCallout">
            <a:avLst>
              <a:gd name="adj1" fmla="val -165861"/>
              <a:gd name="adj2" fmla="val 106064"/>
              <a:gd name="adj3" fmla="val 16667"/>
            </a:avLst>
          </a:prstGeom>
          <a:solidFill>
            <a:srgbClr val="2da2b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nunciar o Alentar denuncia por parte de figura protect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http://www.elporvenir.com.mx/upload/foto/19/6/3/full-abuso_sexual1.jpg"/>
          <p:cNvPicPr/>
          <p:nvPr/>
        </p:nvPicPr>
        <p:blipFill>
          <a:blip r:embed="rId1"/>
          <a:stretch/>
        </p:blipFill>
        <p:spPr>
          <a:xfrm>
            <a:off x="857160" y="1928880"/>
            <a:ext cx="2657520" cy="29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68360" y="2260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onsultar con equipo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  <a:ea typeface="Arial"/>
              </a:rPr>
              <a:t>Coordinan equipo sociopsico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Asegurar protección al niñ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  <a:ea typeface="Arial"/>
              </a:rPr>
              <a:t>Decidir hospitalización en caso de no haber figura protec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enunciar a fiscal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Hacer informe de lo observado o escuc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464646"/>
                </a:solidFill>
                <a:latin typeface="Calibri"/>
              </a:rPr>
              <a:t>Caso confirmado o de sospecha fundada</a:t>
            </a:r>
            <a:endParaRPr b="0" lang="en-US" sz="48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agresor es su pad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buso de po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raición”:  quien proteje hace d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Su madre no es protectora. No sospecha del abu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Es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enojada por malas notas y por cambios en su conduct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Padre instiga a separación entre madre e hij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Él es el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buen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No tiene lesiones visi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Presenta 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ntomas y éstos son los signos de alerta…esta es su forma de pedir ayu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¿Pediría ayuda esta niña?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464646"/>
                </a:solidFill>
                <a:latin typeface="Calibri"/>
              </a:rPr>
              <a:t>EN CASOS DE ASI…..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28400" y="2325600"/>
            <a:ext cx="84294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ospech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6357960" y="3857760"/>
            <a:ext cx="2305080" cy="1214280"/>
          </a:xfrm>
          <a:prstGeom prst="wedgeRoundRectCallout">
            <a:avLst>
              <a:gd name="adj1" fmla="val -167356"/>
              <a:gd name="adj2" fmla="val -107175"/>
              <a:gd name="adj3" fmla="val 16667"/>
            </a:avLst>
          </a:prstGeom>
          <a:solidFill>
            <a:srgbClr val="2da2b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vestigar o reunir evid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://1.bp.blogspot.com/_fEUQdDmnMrw/Rz4OXa0bEoI/AAAAAAAAABs/XRqJ39Yvja4/s400/violencia%5B1%5D.jpg"/>
          <p:cNvPicPr/>
          <p:nvPr/>
        </p:nvPicPr>
        <p:blipFill>
          <a:blip r:embed="rId1"/>
          <a:stretch/>
        </p:blipFill>
        <p:spPr>
          <a:xfrm>
            <a:off x="428760" y="3857760"/>
            <a:ext cx="3309840" cy="27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324000" y="1928880"/>
            <a:ext cx="82296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ltar con equipo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Arial"/>
              </a:rPr>
              <a:t>Coordinan equipo sociopsico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Arial"/>
              </a:rPr>
              <a:t>¡Nunca actuar solo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Arial"/>
              </a:rPr>
              <a:t>Recurrir a Asistent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Arial"/>
              </a:rPr>
              <a:t>Realizar evaluación al niño por profesionales entrenados: psicólogos, psiquiatra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 sospecha persiste: denunciar entregando todos los antecedentes a fiscal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alertar a familia antes de tiempo y sin asegurar protección del ni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Caso sospechoso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Los niños inventan aquello que está en su universo familiar, y siempre en relación a su edad.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Los niños pequeños se expresan también a través de juegos, mímica y dibuj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Un relato aprendido se puede detect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s posible que el niño hable una vez y luego se retracte al anticipar las consecuencias de sus palabr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Relato del niño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posición acogedora y tranqui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interrumpir el relato espontáne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alarmarse frente al rela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cuestionar su veracidad. Creerle al niñ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culpar al niñ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egurar discreción y respeto, pero no confidencial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unca guardarse la información, minimizarla o ignorarl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luir preguntas abiertas que inviten al niño a explicar lo que le pasa: ¿Dónde lo viste?    ¿dónde lo aprendiste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istrar su relato en forma textua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Actitud del profesional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segurarle que lo va a proteger, pero sin prometer cosas que no se cumplirá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plicitarle que no es su culpa, 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 la responsabilidad es siempre del adult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No preguntarle porqué no contó antes o porqué permitió que pasara, ya que eso es culparlo indirectame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Darle todo el apoyo afectivo que se pueda. Reforzando su valentía por haberlo conta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Si el niño/a devela abuso, intentar saber (sin forzarlo) cuándo y quien cometió el abuso y si había otra persona prese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Encontrar un lugar de protección o ayuda y/o denunciar el hech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Nunca entrevistar al niño frente a posible agres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Actitud del profesional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Evaluación psicológica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13624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trevistas a solas con el niño por profesionales entrenad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est de verac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so de tests proyectiv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siones de juego libre, muñecos anatómicos, sesiones de dibujo y ar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Content Placeholder 6" descr="http://www.eltiempo.com/colombia/oriente/2008-07-07/IMAGEN/IMAGEN-4364734-1.jpg"/>
          <p:cNvPicPr/>
          <p:nvPr/>
        </p:nvPicPr>
        <p:blipFill>
          <a:blip r:embed="rId1"/>
          <a:stretch/>
        </p:blipFill>
        <p:spPr>
          <a:xfrm>
            <a:off x="4857840" y="2803680"/>
            <a:ext cx="4038480" cy="20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2039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tentar promover denuncia por familiar protect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 lo anterior no es posible: equipo de salu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nuncia a la fiscalía correspondi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nuncia a Carabineros de Chile e Investiga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 los llama o se concurre directament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e llama a unidades especializadas: brigada de Delitos Sex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médico tiene el deber de realizar un informe comprensible y veraz para el tribu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Denuncia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s difícil para todos los actore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Para el niño víctima: es quien sustenta el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agresor se  va a defender y no va a admitir/confesar el ab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protector va a dudar si está haciendo lo corr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Retractación de la víctima es muy frecuente y no implica que el abuso no ex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Recordar siempre que no hay reparación sin protec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itle 3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Denunci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://homepages.mty.itesm.mx/al223263/imgs/familia.gif"/>
          <p:cNvPicPr/>
          <p:nvPr/>
        </p:nvPicPr>
        <p:blipFill>
          <a:blip r:embed="rId1"/>
          <a:stretch/>
        </p:blipFill>
        <p:spPr>
          <a:xfrm>
            <a:off x="1928880" y="1214280"/>
            <a:ext cx="4762440" cy="43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2182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conoce lo que pa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ija ha cambiado: no lo entien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niña parece más cercana al padre, quien es alcohólico y cruel con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dre siente que actitud de niña es una deslealtad hacia ell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dre es victimizada por el espos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dre se ha encargado de alejarl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464646"/>
                </a:solidFill>
                <a:latin typeface="Calibri"/>
              </a:rPr>
              <a:t>¿Por qué la figura protectora no protege?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Definición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quel delito, que ocurre en un proceso que va desde la seducción a la interacción de contenido sexual y la instalación del secreto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motivado consciente o inconscientemente por el adulto o adolescente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que usa su poder y/o autoridad, y/o abusa de su confianza para involucrar al niño/niña en actividades sex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l agresor puede utilizar diversos trucos y manipulaciones (regalos, amenazas, engaños o fuerza física) para conseguir la participación sexual del niñ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33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464646"/>
                </a:solidFill>
                <a:latin typeface="Calibri"/>
              </a:rPr>
              <a:t>Características del ASI</a:t>
            </a:r>
            <a:endParaRPr b="0" lang="en-US" sz="4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752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Forma de maltrato infanti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Énfasis en el “abuso”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implica un desequilibrio de po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Puede darse sin contacto físico y/o con contacto físic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empre se considera delit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uede ser intrafamiliar (o de conocidos) o extra familiar: tiene diferencias en expresión y secue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roceso: puede prolongarse por año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70% más de 1 añ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Va aumentando en frecuencia y complejidad de las conductas abusivas del agreso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agnifica sus efec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464646"/>
                </a:solidFill>
                <a:latin typeface="Calibri"/>
              </a:rPr>
              <a:t>Epidemiología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ificultades para cuantifica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lenciamiento de las propias victim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ecanismos de negación de la familia y equi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casas evidencias físicas (SML: 11, 49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Chi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ERNAM: 20 mil AS/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udios: alrededor de un 10% de adolescentes reporta haber sufrido 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Niños/niñas: ¼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Puede comenzar a cualquier edad: Mayor riesgo 5 a 12 añ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464646"/>
                </a:solidFill>
                <a:latin typeface="Calibri"/>
              </a:rPr>
              <a:t>Dinámica del ASI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s una enfermedad es un problema socia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VIOL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mo toda experiencia de violenci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manifestación interacci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odos los involucrados en la interacción violenta participan de ella, pero no son igualmente “responsables” de la interac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… si nosotros miramos a otro lado, tamb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n participam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Isosceles Triangle 4"/>
          <p:cNvSpPr/>
          <p:nvPr/>
        </p:nvSpPr>
        <p:spPr>
          <a:xfrm>
            <a:off x="2286000" y="1428840"/>
            <a:ext cx="3357720" cy="3714840"/>
          </a:xfrm>
          <a:prstGeom prst="triangle">
            <a:avLst>
              <a:gd name="adj" fmla="val 50000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2357280" y="9288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GRE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500040" y="51436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VICTIMA</a:t>
            </a: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5786280" y="5143680"/>
            <a:ext cx="32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STIGOS SILENCI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RCERO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3214800" y="350028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inámic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b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13"/>
          <p:cNvSpPr/>
          <p:nvPr/>
        </p:nvSpPr>
        <p:spPr>
          <a:xfrm>
            <a:off x="857160" y="5715000"/>
            <a:ext cx="571680" cy="357120"/>
          </a:xfrm>
          <a:prstGeom prst="roundRect">
            <a:avLst>
              <a:gd name="adj" fmla="val 16667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9:46:18Z</dcterms:created>
  <dc:creator>Marcela</dc:creator>
  <dc:description/>
  <dc:language>en-US</dc:language>
  <cp:lastModifiedBy>Marcela</cp:lastModifiedBy>
  <dcterms:modified xsi:type="dcterms:W3CDTF">2009-08-23T22:19:35Z</dcterms:modified>
  <cp:revision>40</cp:revision>
  <dc:subject/>
  <dc:title>Abuso Sexual en la infancia y adolescencia</dc:title>
</cp:coreProperties>
</file>