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EE96-340C-4F05-9477-F878AF407C9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64A2-CE94-4FAA-B102-B52D27748E9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8D37-9E1A-4B3C-BD15-A56F2F352CC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E733-8610-4317-8045-9D134EEE240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DB67-3D5A-4765-AD07-DF645C58780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768-42AD-4CA2-BECF-26E59149083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260F-AE5A-4405-80AE-AFB853FAEE0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991F-4FCE-4C95-B52A-F46119CDE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6C2-3738-450D-B2AB-9B2592E99AC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FE37-12BD-466E-8A18-4D7CF6FCAA3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E04A-186F-4998-B689-573CDD0E3E2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1C26-4B3C-4051-82F4-A1ABD1BC3C2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1289-ECE2-4975-B406-CD86A7B40D9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9A6D-5870-41A8-8464-867E84B969A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D24-1AF2-4290-B6E3-74C33BAB812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482A-D973-444C-A862-D2E746FF3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A1E7-FABC-4516-9560-EA52B107BC6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4B6D-FCF3-4297-9047-015233BA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1A65-4BCD-430E-8048-59351AC48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9FD2-68C3-4D4D-9F9A-E632BC6F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5E9-3215-46C5-BE11-52948BB6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1A8A-ABDB-42F4-8B8F-BEDBC6888B8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B423-2D83-4FF3-A103-EDDDAD6A5D1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28C0-8AE1-4A94-B4B8-1B87F22839C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3A69-917D-4A9C-96EF-335C578D245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4581-AFB5-443D-B831-C3C7AF4934B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BC44-288E-4378-9D6D-5754FB161CA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EE1F-E066-4348-B321-C82FBC31633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D82B-60A1-42A1-9CE9-966A7C59585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99DD-16F5-4D37-9978-4F47E095F91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5316-009A-4563-84DC-9186760A6DB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5771-D3F1-4355-8A0E-2E820F7363B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533-6715-4416-986A-7513FEF2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DF8-7F44-44E7-98D2-978D7AD8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B9F-FD9B-406B-9592-C674D8EE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990-C004-4F66-9D41-A6E80F6B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A86-3389-49CF-BCA7-E0656FF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EEF-84F6-40C5-BDE4-78541CA7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65E-4AEA-4A99-BCE7-38C83D7E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917-8FA0-4A09-9CD4-83E64B81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443-A427-4292-BA94-39E4449F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D99-288C-432D-843D-FD49E28C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A43-E8D7-4721-8475-384177EB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CC6-3E01-46C0-8DE2-7908F5E1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2D6C-37C0-4645-9F63-AFCD70104C7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28684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Times New Roman"/>
              </a:rPr>
              <a:t>Maltrato Infanti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9280" y="5444640"/>
            <a:ext cx="608472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a. Marcela Matamala Basti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siquiatra Infantil y de la adolesce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línica Psiquiátrica Universit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fotoansiedada2"/>
          <p:cNvPicPr/>
          <p:nvPr/>
        </p:nvPicPr>
        <p:blipFill>
          <a:blip r:embed="rId1"/>
          <a:stretch/>
        </p:blipFill>
        <p:spPr>
          <a:xfrm>
            <a:off x="428760" y="3857760"/>
            <a:ext cx="292896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7120" y="1071360"/>
            <a:ext cx="438624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mil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noparen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 padrastro o madrast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uidador principal con inestabilidad de pare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risis normativas y no norma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iolencia conyugal, parentalización, chivoemisarismo o triangulación de los hij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islamiento 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lto número de hijos preesco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l ento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ceptación cultural e la viol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usencia o insuficiencia de redes comunitarias de apoy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usencia o insuficiencia de instituciones de control al maltr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diciones de vida difíc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16a"/>
          <p:cNvPicPr/>
          <p:nvPr/>
        </p:nvPicPr>
        <p:blipFill>
          <a:blip r:embed="rId1"/>
          <a:stretch/>
        </p:blipFill>
        <p:spPr>
          <a:xfrm>
            <a:off x="5500800" y="2000160"/>
            <a:ext cx="3000240" cy="36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etección del Maltrato Fís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ferencia directa del niñ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lato de los padres inconsistente contradictorio, heteroculpabiliz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siones múltiples descontextualiza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pos de lesiones variadas en distinto grado de evolución y en diferentes zonas del cuerp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uemaduras, mordeduras, fracturas, niño sacudid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iño pasivo, sumiso o inquieto y agres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yor tolerancia al dol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46"/>
          <p:cNvPicPr/>
          <p:nvPr/>
        </p:nvPicPr>
        <p:blipFill>
          <a:blip r:embed="rId1"/>
          <a:stretch/>
        </p:blipFill>
        <p:spPr>
          <a:xfrm>
            <a:off x="6357960" y="2500200"/>
            <a:ext cx="257184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Signos de abandono fís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42960" y="1356840"/>
            <a:ext cx="4643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scuido en alimentación, higiene y vestime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icatrices de accidentes cas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lta de atención cuando enferman, ausencia de C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n vacun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Queda sólo en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ajo pe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ndiciones de peligro o fuego en 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ugares para dormir sucios y frí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http://www.gobiernodecanarias.org/bienestarsocial/eventos/Images/Fondos/2FA5BC75-55A8-4f5e-B8A5-5A7DC6395AEE.jpg"/>
          <p:cNvPicPr/>
          <p:nvPr/>
        </p:nvPicPr>
        <p:blipFill>
          <a:blip r:embed="rId1"/>
          <a:stretch/>
        </p:blipFill>
        <p:spPr>
          <a:xfrm>
            <a:off x="4929120" y="4143240"/>
            <a:ext cx="397692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Signos de maltrato emoc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71560" y="1643040"/>
            <a:ext cx="50022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iño aislado, apático, depresiv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umiso o muy rebel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mentarios: “soy tonto” o “soy malo”, profecía autocumpl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adres exigen por sobre las capacidades del niñ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tilizado para satisfacer las necesidades del ego de los pad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iño utilizado como “campo de batalla” de lo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http://1.bp.blogspot.com/_GRs-k7mXYa8/SUpeozyNz2I/AAAAAAAAEN4/fawUd1Fy4gg/s320/Maltrato_infantil.jpg"/>
          <p:cNvPicPr/>
          <p:nvPr/>
        </p:nvPicPr>
        <p:blipFill>
          <a:blip r:embed="rId1"/>
          <a:stretch/>
        </p:blipFill>
        <p:spPr>
          <a:xfrm>
            <a:off x="571680" y="2500200"/>
            <a:ext cx="25146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Signos de deprivación emo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28720" y="1500120"/>
            <a:ext cx="47149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Rechazo a com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ajo desarrollo pondoestatu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usca llamar la atención de otros adul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iedos exager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Retraso desarrollo psicomo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http://padre-familia.com/wp-content/uploads/2008/12/maltratosepia.jpg"/>
          <p:cNvPicPr/>
          <p:nvPr/>
        </p:nvPicPr>
        <p:blipFill>
          <a:blip r:embed="rId1"/>
          <a:stretch/>
        </p:blipFill>
        <p:spPr>
          <a:xfrm>
            <a:off x="500040" y="2143080"/>
            <a:ext cx="34290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ir la participación activa del niño en situaciones de violencia cotidiana, sin preocuparse de su protección ni del efecto que la violencia pueda ejercer en él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avés del modelaje y exposición a la violencia de padres, hermanos o pa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 la tolerancia a la agres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aprenden a utilizar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dejar secuelas emocionales, al igual que otros tipos de maltra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violencia"/>
          <p:cNvPicPr/>
          <p:nvPr/>
        </p:nvPicPr>
        <p:blipFill>
          <a:blip r:embed="rId1"/>
          <a:stretch/>
        </p:blipFill>
        <p:spPr>
          <a:xfrm>
            <a:off x="5791320" y="3214800"/>
            <a:ext cx="2995560" cy="3297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gos de viol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fectos del 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56840"/>
            <a:ext cx="5114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lemas psicológicos y psiquiátricos asociados a maltrato físico y negligencia son muy vari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umento en la utilización de servicios de salud mental por parte de los niños maltra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pende de las características individuales, el contexto social y familiar y el tipo de maltrato recib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bligoo.com/media/users/1/80425/images/maltrato%20fisico%20y%20emocional.jpg"/>
          <p:cNvPicPr/>
          <p:nvPr/>
        </p:nvPicPr>
        <p:blipFill>
          <a:blip r:embed="rId1"/>
          <a:stretch/>
        </p:blipFill>
        <p:spPr>
          <a:xfrm>
            <a:off x="5786280" y="1928880"/>
            <a:ext cx="30006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fectos del 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213920"/>
            <a:ext cx="4038480" cy="56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trices o deformidades fís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so y alteración del lengu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icultades de aprendi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ción motora po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a autoestima o insegur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dez o problemas de condu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caso en el cre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285920"/>
            <a:ext cx="4038480" cy="557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to de suic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es parano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órdenes de ansie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icultades en el control de impul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 en conductas de autocuid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uso de sustancias en adolesc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a agresiva o anti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l 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00200"/>
            <a:ext cx="5257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lgunos casos inmediata , según tipo de les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compleja y difí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ilidad suficiente para no dejarse “seducir” por las justificaciones y minimizaciones de los agresores de su conduc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ra ética que no acepte o valide este tipo de conduc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ón por separado de padres y ni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en físico en búsqueda de lesiones no visi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ordial protección del niño y en segundo lugar la identificación del agres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perspectivaciudadana.com/images/080607/bebesitomal2.jpg"/>
          <p:cNvPicPr/>
          <p:nvPr/>
        </p:nvPicPr>
        <p:blipFill>
          <a:blip r:embed="rId1"/>
          <a:stretch/>
        </p:blipFill>
        <p:spPr>
          <a:xfrm>
            <a:off x="5952960" y="1928880"/>
            <a:ext cx="319104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Evaluación del ni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7320" y="1214280"/>
            <a:ext cx="591156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 En un niño que hab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r un entorno que parezca seguro y le dé seguridad a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la oportunidad, a través de mensajes verbales y no verbales , para la entrega de información  espontá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n un niño que no hab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es de dramatizar sus preocupaciones a través del ju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ductas externas o persistentes (golpear las muñecas u otro material de juego, temas de violencia o muerte en juegos o dibuj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abuso__"/>
          <p:cNvPicPr/>
          <p:nvPr/>
        </p:nvPicPr>
        <p:blipFill>
          <a:blip r:embed="rId1"/>
          <a:stretch/>
        </p:blipFill>
        <p:spPr>
          <a:xfrm>
            <a:off x="0" y="4143240"/>
            <a:ext cx="304164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71800" y="35676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960" y="1500120"/>
            <a:ext cx="53150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Times New Roman"/>
              </a:rPr>
              <a:t>Cualquier acción u omisión, no accidental, que tenga un alto potencial de causar daño al niño, sea en su integridad corporal, desarrollo físico, afectivo, psicológico, intelectual y/o mor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Times New Roman"/>
              </a:rPr>
              <a:t>De parte de los  padres o cuidadores, no respetándose los derechos del niño, ni el bienestar del sistema familia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poverty"/>
          <p:cNvPicPr/>
          <p:nvPr/>
        </p:nvPicPr>
        <p:blipFill>
          <a:blip r:embed="rId1"/>
          <a:stretch/>
        </p:blipFill>
        <p:spPr>
          <a:xfrm>
            <a:off x="6143760" y="1785960"/>
            <a:ext cx="28573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iagnóstico de 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nalizar los factores que pueden estar provocando la aparición y mantención del maltrato infant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terminar el riesgo para el niño y otros miembros de la fami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terminar la necesidad de separar al agres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terminar el pronóstico e intervenciones necesar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http://www.lacoctelera.com/myfiles/derechos/violencia.JPG"/>
          <p:cNvPicPr/>
          <p:nvPr/>
        </p:nvPicPr>
        <p:blipFill>
          <a:blip r:embed="rId1"/>
          <a:stretch/>
        </p:blipFill>
        <p:spPr>
          <a:xfrm>
            <a:off x="5715000" y="3571920"/>
            <a:ext cx="321480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s de inform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mbros individuales de la familia, subsistemas familiares, familia nu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es: escuela, policía, servicios judiciales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tención primaria de salud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rvicios de salud 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rofesionales: vecinos, conocidos de la familia, ot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usuarios.lycos.es/mobbingacosomoral/img/maltrato-infantil.jpg"/>
          <p:cNvPicPr/>
          <p:nvPr/>
        </p:nvPicPr>
        <p:blipFill>
          <a:blip r:embed="rId1"/>
          <a:stretch/>
        </p:blipFill>
        <p:spPr>
          <a:xfrm>
            <a:off x="6357960" y="4000680"/>
            <a:ext cx="2643120" cy="23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gación puede compr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ITALIZAR AL NI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ión de ficha méd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r examen físico completo incluyendo la zona genital (y el cuero cabellud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ar evaluación psicológica del niño, por profesionales entren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a domicilia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gar si el niño tiene figura protectora y cuál es su compromiso con el niñ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ratamiento - 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http://img.bebesymas.com/2008/06/unicefpeque.jpg"/>
          <p:cNvPicPr/>
          <p:nvPr/>
        </p:nvPicPr>
        <p:blipFill>
          <a:blip r:embed="rId1"/>
          <a:stretch/>
        </p:blipFill>
        <p:spPr>
          <a:xfrm>
            <a:off x="6762600" y="3686040"/>
            <a:ext cx="2381400" cy="3171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85480" y="1571760"/>
            <a:ext cx="628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stablecer seguridad física y emo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acilitar proceso de internalización de relaciones íntimas no violentas y de respe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Protección de futuros maltra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ortalecer a la familia en su capacidad de crianz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mejorar capacidad de enfrentar etapas del ciclo v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mejorar calidad de rel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disminuir factores ambi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reforzar sistemas de apoy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 tratar patología asoci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080" indent="-469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maltrato NO GRAVE, en que de buena fe creamos que es disciplina inapropiada en personas con buenas inten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995640" y="3429000"/>
            <a:ext cx="703440" cy="1839960"/>
          </a:xfrm>
          <a:prstGeom prst="downArrow">
            <a:avLst>
              <a:gd name="adj1" fmla="val 50000"/>
              <a:gd name="adj2" fmla="val 65392"/>
            </a:avLst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8880" y="5300640"/>
            <a:ext cx="44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OEDU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OTERA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S DE MALTRATO G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rmado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pecha fund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pecha va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6156360" y="1916280"/>
            <a:ext cx="2232000" cy="863280"/>
          </a:xfrm>
          <a:prstGeom prst="wedgeRoundRectCallout">
            <a:avLst>
              <a:gd name="adj1" fmla="val -165861"/>
              <a:gd name="adj2" fmla="val 106064"/>
              <a:gd name="adj3" fmla="val 16667"/>
            </a:avLst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nunci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372360" y="5229360"/>
            <a:ext cx="2305080" cy="718920"/>
          </a:xfrm>
          <a:prstGeom prst="wedgeRoundRectCallout">
            <a:avLst>
              <a:gd name="adj1" fmla="val -167356"/>
              <a:gd name="adj2" fmla="val -107175"/>
              <a:gd name="adj3" fmla="val 16667"/>
            </a:avLst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vesti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r con equipo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gurar protección al niño: hospita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unciar a fiscal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er informe cl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a de informe con conocimiento y autorización de autoridad correspo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Rectángulo"/>
          <p:cNvSpPr/>
          <p:nvPr/>
        </p:nvSpPr>
        <p:spPr>
          <a:xfrm>
            <a:off x="1000080" y="285840"/>
            <a:ext cx="63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confirmado o de sospecha fund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TIR CON EQUIPO DE TRABAJO ¡Nunca actuar solo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 alertar a la familia antes de tiemp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ir a Asistente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r evaluación al niño por profesionales entre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specha persiste: denunciar entregando todos los antecedentes a fiscal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specha es muy vaga: mantener al niño e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 Rectángulo"/>
          <p:cNvSpPr/>
          <p:nvPr/>
        </p:nvSpPr>
        <p:spPr>
          <a:xfrm>
            <a:off x="2801160" y="500040"/>
            <a:ext cx="365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pecha va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Se denuncia a Carabineros de Chile e Investigacio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Se llama a unidades especializadas: 48° Comisaría, Brigada de Delitos Sexu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Se concurre directamente a Juzg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l médico tiene el deber de realizar un informe comprensible para el tribu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n la reforma procesal penal existe el deber de denunci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Cómo se denunc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Pronó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Tanto para la víctima como para el agresor depende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17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La cronici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- Grave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1900" spc="-1" strike="noStrike">
                <a:solidFill>
                  <a:srgbClr val="000000"/>
                </a:solidFill>
                <a:latin typeface="Times New Roman"/>
              </a:rPr>
              <a:t>- Intensidad del maltrat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 mayor cronicidad e intensidad peor pronóst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La aceptación del problema por parte del maltratador y su motivación al cambio favorece su pronóst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ara el niño depende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- La acogida y comprensión del entor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- De la seguridad que se le brin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- De la posibilidad de experiencias correctiv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- De rehabilitación de secuelas físicas y neuropsicológic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2960" y="1856880"/>
            <a:ext cx="467208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Times New Roman"/>
              </a:rPr>
              <a:t>Activo: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el daño ejercido es perpetuado a través de la acció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Times New Roman"/>
              </a:rPr>
              <a:t>Pasivo: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en que el daño es perpetuado a través de la omisión, negligencia y descuido hacia el men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cluye: maltrato físico, psicológico, negligencia, testigos de violencia y abuso sexu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116000" y="549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Maltrato infant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212.170.236.112/ANavegar9/2008an24_102/wp-content/blogs.dir/98/files/2008/03/maltrato.jpg"/>
          <p:cNvPicPr/>
          <p:nvPr/>
        </p:nvPicPr>
        <p:blipFill>
          <a:blip r:embed="rId1"/>
          <a:stretch/>
        </p:blipFill>
        <p:spPr>
          <a:xfrm>
            <a:off x="5572080" y="1928880"/>
            <a:ext cx="333396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la responsabilidad par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ir al desarrollo integral de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ir los estresores intra y extrafamilia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pueden precipitar los episodios de mal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ación continua de los agentes comunitarios y sociales que están en contacto con ni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bilizar a la comunidad en torno al 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http://2.bp.blogspot.com/_FdX9pb0kF6g/Sn7wAGoB1yI/AAAAAAAAANM/PoTdDXjpsCE/s320/ni%C3%B1os.jpg"/>
          <p:cNvPicPr/>
          <p:nvPr/>
        </p:nvPicPr>
        <p:blipFill>
          <a:blip r:embed="rId1"/>
          <a:stretch/>
        </p:blipFill>
        <p:spPr>
          <a:xfrm>
            <a:off x="5572080" y="2286000"/>
            <a:ext cx="3048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Autism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pidemi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9680" y="142848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an variabilidad dada  por definiciones, métodos de registro, legislaciones, diferencias cultur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E.UU: 6 mil niños víctimas de homicid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glaterra: 25/ 1000 &lt; 18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cidencia mayor en los &lt; 6 años, sexo masculino y estratos SE baj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http://www.asociacionrana.org/web/es/images/stories/maltrato/maltrato-infantil-g.jpg"/>
          <p:cNvPicPr/>
          <p:nvPr/>
        </p:nvPicPr>
        <p:blipFill>
          <a:blip r:embed="rId1"/>
          <a:stretch/>
        </p:blipFill>
        <p:spPr>
          <a:xfrm>
            <a:off x="6572160" y="3714840"/>
            <a:ext cx="2571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684360" y="2133720"/>
            <a:ext cx="77724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1994: U. Chile para Unicef encuesta a muestra representativa de alumnos de 8° bás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/10 niños son víctima de violencia física por sus pad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4% de ellos sufre de agresiones gr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valencia en población general: 5% de las familias reconoce malt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619280" y="692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gamon"/>
          <p:cNvPicPr/>
          <p:nvPr/>
        </p:nvPicPr>
        <p:blipFill>
          <a:blip r:embed="rId1"/>
          <a:stretch/>
        </p:blipFill>
        <p:spPr>
          <a:xfrm>
            <a:off x="6929280" y="0"/>
            <a:ext cx="19288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Epidemiologí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213920"/>
            <a:ext cx="5614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Distribución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Negligencia física: 49,1%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Maltrato físico: 20.6%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Abandono emocional: 4.2%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000000"/>
                </a:solidFill>
                <a:latin typeface="Times New Roman"/>
              </a:rPr>
              <a:t>Abuso sexual: 1.3%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ak de incidencia de abuso físico desde los 4 a 8 añ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ak del maltrato emocional desde los 6 a 8 añ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38"/>
          <p:cNvPicPr/>
          <p:nvPr/>
        </p:nvPicPr>
        <p:blipFill>
          <a:blip r:embed="rId1"/>
          <a:stretch/>
        </p:blipFill>
        <p:spPr>
          <a:xfrm>
            <a:off x="6143760" y="3714840"/>
            <a:ext cx="250020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4680" y="0"/>
            <a:ext cx="5937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ltrato infant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6072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ultideterminado por variables  culturales, macro y microsociales y factores individ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ctores individua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-Factores de ries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-Factores desencadenantes: crisis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ormativas y no normativas que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umentan la tensión famili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11280" y="220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maltrato_infantil"/>
          <p:cNvPicPr/>
          <p:nvPr/>
        </p:nvPicPr>
        <p:blipFill>
          <a:blip r:embed="rId1"/>
          <a:stretch/>
        </p:blipFill>
        <p:spPr>
          <a:xfrm>
            <a:off x="6500880" y="4357800"/>
            <a:ext cx="264312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actores de riesg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1920" y="1499760"/>
            <a:ext cx="5214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los P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dres maltratadores o institucionalizados durante su infa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tología  psiquiátrica, psicopatía, historia de conducta violenta o delictiva , depresión, alcoholismo, adicción, CI baj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tolerancia al stress, rigidez, baja autoesti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o nivel educac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sconocimiento de las necesidades de estimulación afectiva y cognitiva del niñ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usencia de indicadores de apego entre el cuidador y el niñ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cepción negativa del niñ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lta de conciencia de conductas maltratador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maltrato"/>
          <p:cNvPicPr/>
          <p:nvPr/>
        </p:nvPicPr>
        <p:blipFill>
          <a:blip r:embed="rId1"/>
          <a:stretch/>
        </p:blipFill>
        <p:spPr>
          <a:xfrm>
            <a:off x="642960" y="1785960"/>
            <a:ext cx="26812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actores de riesg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85760" y="1214280"/>
            <a:ext cx="5357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 embar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mbarazo no deseado, antecedentes de intento de aborto, falta de cuidado e inasistencia a los contro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mbarazo de alto ries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presión post par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N con malformaciones o prematur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eración del vínculo tempra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ospitalización prolong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rgo número de horas de separación post par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scapacidad física o psíquica, enfermedad cró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ducta difíc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escolarizado o con bajo rendimiento esco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61"/>
          <p:cNvPicPr/>
          <p:nvPr/>
        </p:nvPicPr>
        <p:blipFill>
          <a:blip r:embed="rId1"/>
          <a:stretch/>
        </p:blipFill>
        <p:spPr>
          <a:xfrm>
            <a:off x="285840" y="1928880"/>
            <a:ext cx="30002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0:02:10Z</dcterms:created>
  <dc:creator>MARCELA</dc:creator>
  <dc:description/>
  <dc:language>en-US</dc:language>
  <cp:lastModifiedBy>MARCELA</cp:lastModifiedBy>
  <dcterms:modified xsi:type="dcterms:W3CDTF">2009-08-23T00:32:30Z</dcterms:modified>
  <cp:revision>133</cp:revision>
  <dc:subject/>
  <dc:title>Maltrato Infantil y Negligencia</dc:title>
</cp:coreProperties>
</file>