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DE4EA-7D11-42C5-9934-3BE5974532B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613D2-5662-4F70-837D-BFE9A78551D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B137F-7604-48D6-8562-64D85186A74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79708-AC4A-440C-AFBA-8C209513126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C2979-CF1D-4096-A9D4-2DE6BA97DA6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46DAE-D25E-4E03-9608-56EBDA90FC6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6A6E9-32B5-4543-84AA-9A2770C7D14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A6F27-BB84-42F4-ACAB-7BFBC83EF13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os factores de riesgo son similares tanto para adolescentes suicidas como intentad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EC79A-2D17-498A-9B0C-62CC3EFE1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993E2-9649-47DF-8E3C-3386300D81A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xiste consenso que la psicopatolog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ía es el factor de riesgo más significativo tanto para suicidio como intentos de suicidio en adolesce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De los suicidios el 70 a 90% tuvieron al menos una enfermedad psiqu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átrica al momento de la muer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l comienzo de las dificultades frecuentemente precede al suicidio por varios añ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6F04D-8293-42B7-B344-23061DAF4E3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l riesgo de suicidio en adolescentes ha sido establecido que aumenta con el n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úmero de diagnósticos psiquiátricos, con comorbilidad entre Tr. Afectivos y abuso de sustanc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FFDFA-460F-48CB-B5DE-AE688E19F3D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estigmatiz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, victimización, aislamiento y rechazo parental han sido identificados como factores que influyen en la conducta suicida entre gay, lesbianas y jóvenes bisexu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F8FCA-0D0F-4C61-8002-EF39F4BE6AC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24663-AA05-40E9-9EE4-100DC658C0E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D85E9-165B-4D76-8920-5520BDC0371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interven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en crisis lo ideal es hacerla en la sala de emerge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C4127-785D-489D-BD4D-DCC844D5996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equiere educ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del sataff en riesgo de suicidio y necesidad de tratamiento de los intentos de suici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EA8BF-2643-4A4C-8AD3-66E8E5F38AB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 hospitalizaci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ón es altamente costosa y no siempre beneficio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B7E0D-5348-4A17-B332-6857A8A18E7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311-B0F5-4D40-A459-62C4E761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079-8E93-4DA0-8A96-470CAE6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CC9-2BDD-41EB-A9A4-429F8A6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901-460F-4820-84DF-574BDB57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C785-8039-44D3-8652-2E792371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2A54-F7D6-4F16-9C7E-41CF488F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C833-3A4D-4A04-BA5E-90E732A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FE82-C049-4334-B9DD-A64BD2B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3ECF-E23F-4463-B990-8442503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E91-ECD0-498C-AC58-828F543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32B-5600-4ADD-8083-23F0481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9B8-E62A-4F6D-A8AF-C14DD1D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C5E-A7C9-49FB-91D6-3CEDBBA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285-7A58-496E-AC49-EFB7FDA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1C3-1F2F-47EC-B29E-9C97571E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6D04-C4CD-4C28-8FFF-AC05BDB8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4AF-ABD9-484B-B4EE-5CF93FC2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3A42-467E-4E99-A7D9-DF33E8DC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EF47-FA1D-4DF9-B26B-061EA466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4054-7361-4014-AE0A-892E9CAF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A67C-01A7-47FF-9EC8-E86BA4D1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1A67-D31E-4097-9E85-F4AE68C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8C0-1E8F-4883-88F7-E83A7AC7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40FA-146E-4FFE-BBCB-0621836F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DFF7-B28B-4209-81CD-4BA8BA3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639C-90C8-4A9D-B2C5-D5C81C6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3D02-E296-4CF7-9D8D-0D7F402A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B573-66F0-4A01-BF17-A320CB15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836F-B7A5-443D-A8FB-AB683E3D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C76A-27C7-4559-913A-9FCB251B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9EF9-3F40-4C4F-BC6D-BA99507A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F0CC-33A3-4BB7-914A-1959BFE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7E0F-B266-44EA-B164-E703588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032-69FC-4AA7-8D07-BF167F3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499B-20CE-43D4-A3BF-2C8AFE81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320B-848A-4B87-BD7E-A76B0F37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8D47-4B55-48ED-9CED-8FB8BDEB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5563-87C4-465E-9326-DD61D06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EBFC-715C-41BE-B6A6-3A1A31F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2022-A0E5-4CA7-9ACD-30449FA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F8E4-9E1B-4B64-A905-A84E7129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AA1F-B914-4880-9D99-EA589DA6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6FE1-4DC1-455A-84BB-D899B13B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594-589C-4793-91E0-749A64F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168-6927-4C52-BFE8-C876E54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74D-8226-4042-8DF4-BD5F5BA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063-9A5B-45D6-AB8A-C75F361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B63-70E8-4FE5-881C-2A53F720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30F1C-DF2B-4E33-8ADA-61350D2A4833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DC3A5-514D-4D6B-8D58-45203128959B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D51A2-4D3C-4CE8-84D4-C58FA146A864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ortar y redondear rectángulo de esquina sencilla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ángulo rectángulo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bre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bre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C186E-0F72-4B17-AE29-BA2C1B68733E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rma lib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rma lib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4" name="Agrupar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orma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orma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48" name="Forma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orma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ítulo 1" descr=""/>
          <p:cNvPicPr/>
          <p:nvPr/>
        </p:nvPicPr>
        <p:blipFill>
          <a:blip r:embed="rId1"/>
          <a:stretch/>
        </p:blipFill>
        <p:spPr>
          <a:xfrm>
            <a:off x="530280" y="201132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3520" y="46483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Dra. Marcela Larraguib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Clínica Psiquiátrica de la Universidad de Chi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440" cy="1901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AGNOSTIC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ETAPA DEL DESARROLL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NIÑEZ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3123720"/>
            <a:ext cx="77724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íntomas ansiosos (fobias y ansiedad de separ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íntomas somát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lucinaciones audi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rritabilidad (pataletas, frustración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blemas condu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84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AGNOSTIC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ETAPA DEL DESARROLLO</a:t>
            </a:r>
            <a:br>
              <a:rPr sz="4500"/>
            </a:b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ADOLESCENC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peti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li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deación e intento de 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terioro del funcionami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roblemas conduct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VARIANTES CLINICA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psicó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melancól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catató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bipo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atíp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afectiva est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subsindromal o subclí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presión resistente a trat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682560" y="113976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nstantia"/>
              </a:rPr>
              <a:t>Presente en el 40% a 90% de los casos clín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morbilidad 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ti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rastornos ansio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rastornos disrrup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de alcohol y drog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Etioló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350496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dd9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dd9"/>
                </a:solidFill>
                <a:latin typeface="Constantia"/>
              </a:rPr>
              <a:t>Factores ambient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videncia Gené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te contribución gené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melos: Concordancia de desórdenes afectiv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l 76% de monocigotos criados junt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del 67% de monocigotos criados apar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19% de dicigot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os hijos de padres depresivos, hay un incremento en la ocurrencia de trastornos afectivos, comparados con otros desórdenes psiquiátr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sigue simples leyes mendeli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lantea modelo poligénico de herencia de la vulner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ctores Ambient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ventos vitales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érdidas, abuso, neg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aracterísticas psicológicas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racterísticas atribucionales, interpretación y manejo del estrés, resolución de problemas, habilidades soc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orbilidad:trastornos ansiosos, abuso de sustancias, trastorno por déficit atencional, trastornos de la al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fermedades médicas crónicas, factores sociales  y cultural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26665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valuación médica y descartar patologías orgánicas que pueden simular un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ar etapa del desarrollo del niño para determinar si un síntoma e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35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preescola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bus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Maltra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siedad de separ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daptativo con síntomas depres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escola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daptativo con síntomas depres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siedad de separ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ZQ incip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. de aprendiz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 adolesc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buso de alcohol y dro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astorno ansio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quizofrenia incip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S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Anorex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. disfórico premenstru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Tr de persona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* Duel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*T. de conduc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Índ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5146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storno Depresivo y Disti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storno Bipo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ducta Sui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1337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usas med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nfecciosas: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cefalitis, endocarditis, TBC, SIDA, sífilis tercia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eurológicas: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pilepsia, TEC, 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docrinas: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Hipo e hipertiroidismo, DM, sd. Cushing, Addi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48320" y="21337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: LES, anemia, sd de fatiga crónica, cáncer, alteraciones ELP, enfermedad de Wilson, ure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dicamentos: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psicoestimulantes, neurolepticos, corticoides, BDZ, A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stim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do de ánimo deprimido o disfórico de manera crónica, menos intenso que el TDM, pero en el que no hay periodos prolongados de bienestar (2 meses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uración es de al menos 1 año en los niñ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racterísticamente describen días buenos y malos (o mixtos), pero no tienen semanas bue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frecuente que presenten síntomas desde edad preescolar (“personalidad depresiva”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92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stim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 de la alteración ánimo deben presentar 2 o más 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érdida o aumento de apeti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somnio o hipersomn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ta de energía o fati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aja autoesti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ficultades para concentrarse o tomar decis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imientos de desesperan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n su desarrollo puede aparecer TDM: Depresión do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istimia 2aria: coexiste con anorexia, tr ansioso, tr somatización,o dependencia de sustanc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OR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timi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70% de los jóvenes presentan también trastorno depresivo mayor (depresión dobl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50% tiene otro trastorno psiquiátric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. ansiedad (4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. de conducta (3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DAH (24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uresis, encopresis (15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15% tiene 2 o más trastornos de comorbilidad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VOLUCIÓN CLIN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urrencia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20-60% de probabilidad durante 1 a 2 años luego de la remisión de los sínto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70% dentro de los primeros 5 años, lo que depende de la severidad de la depresión y el tiempo en que es controlad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estudio 45% de los adolescentes que presentaron TDM a los 17 años presentaron un nuevo episodio entre los 19 y 24 años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(Lewinsohn et al 1999)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DM con Intento de suicidio aumenta el riesgo de recurrencia hasta 10 veces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 (Pfeffer et al, 1992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ítulo 1" descr=""/>
          <p:cNvPicPr/>
          <p:nvPr/>
        </p:nvPicPr>
        <p:blipFill>
          <a:blip r:embed="rId1"/>
          <a:stretch/>
        </p:blipFill>
        <p:spPr>
          <a:xfrm>
            <a:off x="2286000" y="378000"/>
            <a:ext cx="6083280" cy="1054080"/>
          </a:xfrm>
          <a:prstGeom prst="rect">
            <a:avLst/>
          </a:prstGeom>
          <a:ln w="0">
            <a:noFill/>
          </a:ln>
        </p:spPr>
      </p:pic>
      <p:pic>
        <p:nvPicPr>
          <p:cNvPr id="348" name="Imagen 2" descr="borderline_hintergrund.jpg"/>
          <p:cNvPicPr/>
          <p:nvPr/>
        </p:nvPicPr>
        <p:blipFill>
          <a:blip r:embed="rId2"/>
          <a:stretch/>
        </p:blipFill>
        <p:spPr>
          <a:xfrm>
            <a:off x="24382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ítulo 1" descr=""/>
          <p:cNvPicPr/>
          <p:nvPr/>
        </p:nvPicPr>
        <p:blipFill>
          <a:blip r:embed="rId1"/>
          <a:stretch/>
        </p:blipFill>
        <p:spPr>
          <a:xfrm>
            <a:off x="682560" y="652320"/>
            <a:ext cx="8229600" cy="1541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El trastorno bipolar es una </a:t>
            </a:r>
            <a:r>
              <a:rPr b="1" lang="es-ES_tradnl" sz="2400" spc="-1" strike="noStrike">
                <a:solidFill>
                  <a:srgbClr val="ffffff"/>
                </a:solidFill>
                <a:latin typeface="Constantia"/>
              </a:rPr>
              <a:t>enfermedad mental</a:t>
            </a:r>
            <a:r>
              <a:rPr b="1" i="1" lang="es-ES_tradnl" sz="2400" spc="-1" strike="noStrike">
                <a:solidFill>
                  <a:srgbClr val="ffff00"/>
                </a:solidFill>
                <a:latin typeface="Constantia"/>
              </a:rPr>
              <a:t>severa, recurrente</a:t>
            </a: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, donde alcanzar la remisión funcional no es la regla, precisando de intervenciones terapéuticas que van más allá de la farmacoterapia, con un curso que muchas veces </a:t>
            </a:r>
            <a:r>
              <a:rPr b="1" i="1" lang="es-ES_tradnl" sz="2400" spc="-1" strike="noStrike">
                <a:solidFill>
                  <a:srgbClr val="ffffff"/>
                </a:solidFill>
                <a:latin typeface="Constantia"/>
              </a:rPr>
              <a:t>tiende a la</a:t>
            </a:r>
            <a:r>
              <a:rPr b="1" i="1" lang="es-ES_tradnl" sz="2400" spc="-1" strike="noStrike">
                <a:solidFill>
                  <a:srgbClr val="ffff00"/>
                </a:solidFill>
                <a:latin typeface="Constantia"/>
              </a:rPr>
              <a:t> cronicidad </a:t>
            </a:r>
            <a:r>
              <a:rPr b="1" i="1" lang="es-ES_tradnl" sz="2400" spc="-1" strike="noStrike">
                <a:solidFill>
                  <a:srgbClr val="ffffff"/>
                </a:solidFill>
                <a:latin typeface="Constantia"/>
              </a:rPr>
              <a:t>con residualidad anímica y cognitiv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CuadroTexto 3"/>
          <p:cNvSpPr/>
          <p:nvPr/>
        </p:nvSpPr>
        <p:spPr>
          <a:xfrm>
            <a:off x="228600" y="5410080"/>
            <a:ext cx="861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eller B, Zimmerman B, Williams M 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Bipolar disorder at prospective follow-up of adults who had prepubertal major depressive disorder. </a:t>
            </a:r>
            <a:r>
              <a:rPr b="0" lang="de-DE" sz="1400" spc="-1" strike="noStrike">
                <a:solidFill>
                  <a:srgbClr val="000000"/>
                </a:solidFill>
                <a:latin typeface="Constantia"/>
              </a:rPr>
              <a:t>Am J Psychiatry 2001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nstantia"/>
              </a:rPr>
              <a:t>Geller B, Zimmerman B, Williams M </a:t>
            </a:r>
            <a:r>
              <a:rPr b="0" i="1" lang="de-DE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SM-IV mania symptoms in a prepubertal and early adolescent bipolar disorder phenotype compared 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ttention-deficit hyperactive and normal controls. </a:t>
            </a:r>
            <a:r>
              <a:rPr b="0" lang="es-ES_tradnl" sz="1400" spc="-1" strike="noStrike">
                <a:solidFill>
                  <a:srgbClr val="000000"/>
                </a:solidFill>
                <a:latin typeface="Constantia"/>
              </a:rPr>
              <a:t>J ChildAdolescPsychopharmacol 2002; 12: 11-25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3" name="Picture 4" descr="slide005"/>
          <p:cNvPicPr/>
          <p:nvPr/>
        </p:nvPicPr>
        <p:blipFill>
          <a:blip r:embed="rId1"/>
          <a:stretch/>
        </p:blipFill>
        <p:spPr>
          <a:xfrm>
            <a:off x="-1476360" y="0"/>
            <a:ext cx="10620360" cy="68673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-504720" y="260280"/>
            <a:ext cx="9648720" cy="14770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ff3399"/>
                </a:solidFill>
                <a:latin typeface="Arial"/>
              </a:rPr>
              <a:t>EDAD INICIO DE SÍNTOMA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68360" y="1557360"/>
            <a:ext cx="7559640" cy="862560"/>
          </a:xfrm>
          <a:prstGeom prst="rect">
            <a:avLst/>
          </a:prstGeom>
          <a:solidFill>
            <a:srgbClr val="000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ESTUDIO RETROSPECTIVO DE 983 PACI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ítulo 1" descr=""/>
          <p:cNvPicPr/>
          <p:nvPr/>
        </p:nvPicPr>
        <p:blipFill>
          <a:blip r:embed="rId1"/>
          <a:stretch/>
        </p:blipFill>
        <p:spPr>
          <a:xfrm>
            <a:off x="225360" y="171360"/>
            <a:ext cx="8229600" cy="11937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Klaning et al yotrosautoresmuestranque la concordancia en gemelosunivitelinoscondiagnóstico de TB es elevada (50 %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ffff"/>
                </a:solidFill>
                <a:latin typeface="Constantia"/>
              </a:rPr>
              <a:t>La evidencia sugiere que los hijos de un padre con TB tienen más del doble de riesgo de desarrollar psicopatología en general y con el mayor riesgo diferencial, de desarrollar una enfermedad bipo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CuadroTexto 6"/>
          <p:cNvSpPr/>
          <p:nvPr/>
        </p:nvSpPr>
        <p:spPr>
          <a:xfrm>
            <a:off x="228600" y="5257800"/>
            <a:ext cx="8686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onstantia"/>
              </a:rPr>
              <a:t>Klaning U, Laursen TM, Licht RW </a:t>
            </a:r>
            <a:r>
              <a:rPr b="0" i="1" lang="nl-NL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s the risk of bipolar disorder in twins equal to the ris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singletons? A nationwide register-based study. </a:t>
            </a:r>
            <a:r>
              <a:rPr b="0" lang="fr-FR" sz="1400" spc="-1" strike="noStrike">
                <a:solidFill>
                  <a:srgbClr val="000000"/>
                </a:solidFill>
                <a:latin typeface="Constantia"/>
              </a:rPr>
              <a:t>J Affect Dis 2004; 81: 141-5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nstantia"/>
              </a:rPr>
              <a:t>Alexander JR, Benjamin J, Lerer B, </a:t>
            </a:r>
            <a:r>
              <a:rPr b="0" i="1" lang="fr-FR" sz="14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equency of Positive Family History in Bipolar Patien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 a Catchment Area Population. </a:t>
            </a:r>
            <a:r>
              <a:rPr b="0" lang="nl-NL" sz="1400" spc="-1" strike="noStrike">
                <a:solidFill>
                  <a:srgbClr val="000000"/>
                </a:solidFill>
                <a:latin typeface="Constantia"/>
              </a:rPr>
              <a:t>ProgressNeuropsychopharmBiolPsychiatry 1995; 19:367-73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Youngstrom EA, Birmaher B, Findling RL. Pediatric bipolar disorder: validity, phenomenology, and recommendations for diagnosis. Bipolar Disord 2008: 10: 194-214.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60480" y="4568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SODIO MANÍACO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1916280"/>
            <a:ext cx="76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eríodo diferenciado de ánimo anormal, persistentemente elevado, expansivo o irritable. Esto supone un cambio significativo en el estado mental basal y debe durar al menos 1 seman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te período debe presentar al menos 3 de los siguientes s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íntomas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(4/7 si el ánimo es sólo irritable)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Distractibil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Hiperactividad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o agi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Autoestima exagerada o grandios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Fuga de ideas o aceleraci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n del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ensa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Involucramiento en actividades riesgos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isminución de horas totales de sueñ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nstantia"/>
              </a:rPr>
              <a:t>Hablador o verborreic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8339040" cy="2048040"/>
          </a:xfrm>
          <a:prstGeom prst="rect">
            <a:avLst/>
          </a:prstGeom>
          <a:ln w="0">
            <a:noFill/>
          </a:ln>
        </p:spPr>
      </p:pic>
      <p:pic>
        <p:nvPicPr>
          <p:cNvPr id="302" name="Imagen 3" descr="depresion_van_gogh.jpg"/>
          <p:cNvPicPr/>
          <p:nvPr/>
        </p:nvPicPr>
        <p:blipFill>
          <a:blip r:embed="rId2"/>
          <a:stretch/>
        </p:blipFill>
        <p:spPr>
          <a:xfrm>
            <a:off x="2743200" y="2152800"/>
            <a:ext cx="3676680" cy="470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258920" y="907560"/>
            <a:ext cx="7634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SODIO MIX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diagnóstico de episodio mixto se hace cuando el paciente reúne criterios para un episodio m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ヒラギノ角ゴ Pro W3"/>
              </a:rPr>
              <a:t>íac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y uno depresivo al menos durante 1 sema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 debe excluir causa orgánica y debe presentar un deterioro significa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SODIO HIPOMANÍAC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íntomas similares al episodio maníaco, pero difiere en la severidad y duración del cuad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be durar al menos 4 días y experimentar un cambio significativo de ánimo, observable por otros. No requiere ser hospitalizado ni tiene síntomas psicótico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1692360" y="981000"/>
            <a:ext cx="691200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paciente debe haber experimentado al menos un episodio maníaco o mixto anteriorm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 paciente debe haber experimentado al menos un episodio de depresión y uno de hipomanía anteriorm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ASTORNO BIPOLAR NO ESPECIFIC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547640" y="838080"/>
            <a:ext cx="7166160" cy="57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RASTORNO CICLOTÍMIC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En niños se refiere a un período de al menos 1 año de síntomasdepresivosehipomaníacosque no cumplencriteriospara un episodiodepresivo, maníacoomixto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Los síntomasdebenpresentarse la mayor parte del tiempo (no más de 2 meses sin síntomas)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Debecausardeterioroomolestiassignificativas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ICLADOR RÁPIDO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Se diagnosticacuando el pacientepresenta al menos 4 episodios de alteraciones del ánimo (depresivo, maníaco,  mixtoohipomanía) en el plazo de 1 añ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ICLADOR ULTRARÁPIDO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LIN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PREPUBE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ADOLESC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90400" y="159984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Cuadro clínico diferente al del adolescente y adul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icultades en la regulación de las emo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ápidos cambios del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casa tolerancia a la frustr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705200" y="1599840"/>
            <a:ext cx="3657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tos niveles de irritabi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Hipervigila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minución de las horas de sue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nsiedad generalizad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ergía inten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ractibil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icultades del neurodesarroll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LINICA 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412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uforia: no apropiada al contex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randiosidad: “cree” ser grandioso, no “juega” a serl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ayase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Conducta explos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uga de ide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20412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obre juicio/conductas de riesg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Verborre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cremento en la actividad dirigida a una me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umento de la actividad motor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086240" y="6172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ller, AACAP 2003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RESENTACION TB PREPUB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480" y="3200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Manía mixta o ciclador ráp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urso contin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4617b"/>
                </a:solidFill>
                <a:latin typeface="Calibri"/>
              </a:rPr>
              <a:t>Comorbilidad TB en niñ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16" descr="bart"/>
          <p:cNvPicPr/>
          <p:nvPr/>
        </p:nvPicPr>
        <p:blipFill>
          <a:blip r:embed="rId1"/>
          <a:stretch/>
        </p:blipFill>
        <p:spPr>
          <a:xfrm>
            <a:off x="5508720" y="1989000"/>
            <a:ext cx="2943000" cy="33624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1"/>
          <p:cNvSpPr/>
          <p:nvPr/>
        </p:nvSpPr>
        <p:spPr>
          <a:xfrm>
            <a:off x="395280" y="1989000"/>
            <a:ext cx="6048360" cy="34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0 – 9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0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– 76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e2d7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buso de susta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0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s ansios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>
              <a:lnSpc>
                <a:spcPct val="55000"/>
              </a:lnSpc>
              <a:spcBef>
                <a:spcPts val="17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724360" y="61657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MX" sz="1800" spc="-1" strike="noStrike">
                <a:solidFill>
                  <a:srgbClr val="85dfd0"/>
                </a:solidFill>
                <a:latin typeface="Arial"/>
              </a:rPr>
              <a:t>Kafantaris 2001, Geller 2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aracterísticas clí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63640" y="2106720"/>
            <a:ext cx="66247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 todo adolescente que experimenta un deterioro importante de su funcionamiento, más síntomas emocionales o psicóticos, debe descartarse un T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268360" y="126828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 BIPOLAR EN ADOLESC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aracterísticas clín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68518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os adolescentes con TB generalmentetien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entacionescomplej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Ánimomuylábi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rritabilidadextre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terioroimportante del comportami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íntomaspsicótic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agnósticodiferencial con EQ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to riesgo de suicidio (20% un intento grav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ntomasmaníacosydepresiv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8" descr="Imagen46"/>
          <p:cNvPicPr/>
          <p:nvPr/>
        </p:nvPicPr>
        <p:blipFill>
          <a:blip r:embed="rId1"/>
          <a:stretch/>
        </p:blipFill>
        <p:spPr>
          <a:xfrm>
            <a:off x="6132600" y="3938760"/>
            <a:ext cx="2554200" cy="218736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2268360" y="141768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STORNO BIPOLAR EN ADOLESCE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Permanente estado de ánimobajo, presente la mayor parte del día, casicadadía, durante un período de al menos dos semana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PRESENTACION TB ADOLESCEN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B tipo 1 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pisód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COMORBILIDAD EN EL TB ADOLESCEN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200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sico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Diagnóstico diferen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916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quizofren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 Esquizoafec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presión con agi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SP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 de Personalidad Borderli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DA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ía debido a una causa orgán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Picture 6" descr="VALLE DE LA LUNA4"/>
          <p:cNvPicPr/>
          <p:nvPr/>
        </p:nvPicPr>
        <p:blipFill>
          <a:blip r:embed="rId1"/>
          <a:stretch/>
        </p:blipFill>
        <p:spPr>
          <a:xfrm>
            <a:off x="900000" y="1125360"/>
            <a:ext cx="1835280" cy="489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573120" y="-6480"/>
            <a:ext cx="8674200" cy="189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200160" y="0"/>
            <a:ext cx="666720" cy="116208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5" descr="4278063f-requiem_por_un_suicidio.jpg"/>
          <p:cNvPicPr/>
          <p:nvPr/>
        </p:nvPicPr>
        <p:blipFill>
          <a:blip r:embed="rId3"/>
          <a:stretch/>
        </p:blipFill>
        <p:spPr>
          <a:xfrm>
            <a:off x="259092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DUCTA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360" y="2971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OCUACIÓN, INTENTO O ACTO QUE INTENCIONALMENTE BUSCA CAUSARSE DAÑO A SÍ MISMO O LA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ACION SUICI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NTO DE 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IC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-228600" y="98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200" spc="-1" strike="noStrike">
                <a:solidFill>
                  <a:srgbClr val="04617b"/>
                </a:solidFill>
                <a:latin typeface="Arial Narrow"/>
              </a:rPr>
              <a:t>Prevalenc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205000"/>
            <a:ext cx="7940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La conducta suicida es un fenómeno muy poco frecuente pero no inexistente en la población de 10 años o me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 Narrow"/>
              </a:rPr>
              <a:t>En la adolescencia temprana (desde los 10 años) y en particular entre los 12 y 14 sufre un aumento en su frecuencia para constituirse en una importante causa de morbi-mortalidad en la adolesc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NTO DE SUICI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A 50 VECES MAS FRECUENTE QUE LOS SUICID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% SE SUICIDA DURANTE LOS 10 AÑOS SIGUI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% CONSULTA MED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549360" y="1262160"/>
            <a:ext cx="8234280" cy="14619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21932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 debe entender que la conducta suicida no es la consecuencia ante un problema, sino la acumulación de situaciones o eventos a lo largo de la vida del individuo, agotándolo y restándole su habilidad para manejar y tolerar la tensión, pérdidas, y frustracio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DE RIES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sicopatolo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Disfunción famili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inorías sexua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deación suici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tento de suicidio prev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biol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psicol</a:t>
            </a: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RASTORNO DEPRESIVO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PIDEMIOLOG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valencia: 2% en niños; 4% a 8% en adolescen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ción: hombre:mujer   1:1 en la niñezy 1:2 en la adolescenc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Incidencia acumulada a los 18 años: 2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SICOPATOLOG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nducta agresiva-i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conducta (hombr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p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ánico (mujer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 la al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bipo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sic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fermedad física crón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f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ísico y/o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x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UMENTA RIESGO AUTOLIT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nducta agresiva-impuls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rastorno depres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Abuso de susta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8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85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385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85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85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385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85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CTORES DE RIESG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Gén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sicopatolo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genét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Disfunción famili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inorías sexual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deación suici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Intento de suicidio prev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biol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Factores psicol</a:t>
            </a:r>
            <a:r>
              <a:rPr b="0" lang="es-ES_tradnl" sz="2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ógic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DEACION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2144520"/>
            <a:ext cx="761976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espera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ndencia al aisl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samientos suicidas persist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sicopatología gr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blemas de adapt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función familiar gr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NTO DE SUICIDIO PREV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menta 30 veces el riesgo de suicidio en hombres y 3 veces en muje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tre un cuarto y un tercio de adolescentes suicidas presenta el antecedente de un int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menta 3 a 17 veces el riesgo de un nuevo int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on eventos vitales estresantes que pueden gatillar la conducta suicida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a mayoría de ellos 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n eventos comunes a muchos adolescente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s factores precipitantes deben darse a la base de una vulnerabilidad dada por los factores de riesg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actores de riesg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23048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1198800" cy="1676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5"/>
          <p:cNvSpPr/>
          <p:nvPr/>
        </p:nvSpPr>
        <p:spPr>
          <a:xfrm>
            <a:off x="2136960" y="27576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o susceptib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886040" y="4254480"/>
            <a:ext cx="41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 precipitant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457200" y="4894200"/>
            <a:ext cx="1243080" cy="19638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1971360" y="5862600"/>
            <a:ext cx="36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ducta suicid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3014280"/>
            <a:ext cx="7619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tervención en cr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Psicoterapia y farmacoterap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426960" y="1365120"/>
            <a:ext cx="8406000" cy="1901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evalencia y Epidemi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rrelación entre depresión y mal funcionamiento famili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rrelación entre depresión de los padres y la de sus hij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in diferencias nivel S-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da generación tiene mayor riesgo de presentar TD leves a moderados y a edades más temprana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trastornos más severos tendrían mayor influencia genét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dea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012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y severidad de los factores de riesgo presen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nsidad de la ideación suici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probables factores precipit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er la historia de desarrollo y funcionamiento global actual del pac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factores potenciales individuales, familiares, o ambientales que puedan influir aminorando (factores protectores) o acentuando la ideación (factores mantenedores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xiste planificación o preparativos previos para un intento de suicid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ento de Suici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: determinar si el paciente es hospitalizado o se deriva a especialista para tratamiento ambulatorio y el riesgo que tiene de cometer un nuevo intento en un corto plaz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veridad de los factores de riesgo presen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sistencia de la ideación suicida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talidad del método emple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o ausencia de arrepentimiento de la conducta suici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es de contención y vigilancia de la fam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factores precipit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tud abierta, cálida, empática e interesad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la crítica de la conducta o buscar "culpables" tanto con el adolescente como con los padres, evitar los juicios valorativos y descalificacione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plicar al joven, que dada la gravedad del hecho, no se podrá aplicar la confidencialidad ofrecida, como medida de protección a su propi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ealizar un "contrato" escrito de no suicidio. Incluir teléfono de conta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omar una actitud de escuchar más que resolver, contener emociones intensas pero a la vez, ser firme y claro en las indica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empre contactar a la familia, solicitar su colaboración y evaluar la situación famili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adolescente concurre solo, se le debe explicar que es muy importante que su familia tenga conocimiento del intento, para lo cual es imperativo contactar a algún familiar o adulto, que se responsabilice del jove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r el interés real y la capacidad de compromiso familiar, pues cuando existe desinterés en la familia nuclear, deberá buscarse recursos en la familia extendida o la red social más amp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dolescente no se puede ir del servicio de salud si no hay un adulto que se haga responsable hasta el próximo control del paci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gar indicaciones específicas a la familia  para eliminar o poner a resguardo todas las armas de fuego, sogas o cuerdas, elementos corto-punzantes, medicamentos, insecticidas u otros tóxicos o cáust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er un sistema de vigilancia de tal manera que el adolescente no permanezca solo en el hogar o fuera de él y asegurarse que la indicación se cumpla hasta al menos el próximo control por especialis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245412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so de que exista un elevado nivel de ansiedad, se puede recurrir a tratamiento farmacológico paliativo, indicando ansiolíticos, por un período no mayor a una o dos sema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ilizar al adulto que acompaña al joven de recibir y administrar el medicamento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indicar fármacos antidepresivos previo a la evaluación por especialist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strategias de intervenci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lmente el adolescente se debe ir con su hora establecida en el Servicio de Salud Mental, de no ser así citarlo a control en forma frecuente hasta que sea atendido por el especialist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ganizar un sistema de seguimien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BAJA ADHERENCIA AL TRATAMIENT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3007800"/>
            <a:ext cx="761976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ul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Minimización del int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usencia de cuidador respons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ntecedente de enfermedad psiquiátrica prev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Abuso sexual y fís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Marcador de fech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Marcador de pie de pá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RITERIOS DE HOSPITALIZAC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énero masculi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función familiar severa o no se cuenta con adulto respons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fermedad psiquiátrica gr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sistente ideación suicida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lta de arrepentimiento después del int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nto de suicidio grav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actor precipitante persiste en forma inten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specha de que oculta información durante la entrevista para evitar ayud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 viol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DIAGNOS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nimo: ánimo depresivo o irritable y/o pérdida de interés y plac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peti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Pes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Sue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Concentr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Nivel de energí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Autoesti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Marcador de fecha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Marcador de pie de página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687680" y="333360"/>
            <a:ext cx="540540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04760" y="29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ª a 2ª se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os suscepti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egio - Medios de comuni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presentar el suicidio como un acto inexplicable de una persona salud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unicar que el suicidio es evi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es necesario que la gente sea informada de todos los suicid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ar atento a no glorificar la mu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3140640" y="167652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Foundation for the Prevention of Suic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itarexcesivayprominentecobertu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cabezadosdeben ser cla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pciónlimitada de los detalles del métodoparaevitarconductasmode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3085200" y="171468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Foundation for the Prevention of Suic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xplicar el evento de modo simplista. El evento final que ha precipitado el acto no es la única caus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ntregar la noticia de modo repetitivo, continuo o excesivo. Pues se tendería a promover la retención del suicidio, especialmente entre las personas con riesg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tratar el suicidio de modo sensacionalista. Tratar de evitar detalles morbosos y fotos dramátic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presentar el suicidio como instrumento para lograr determinados fi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concentrarse exclusivamente sobre las características positivas del suicida. Junto con las alabanzas es importante reconocer también los problemas del individu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CONTAGIO SUICI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Imagen 1" descr="gracias.jpg"/>
          <p:cNvPicPr/>
          <p:nvPr/>
        </p:nvPicPr>
        <p:blipFill>
          <a:blip r:embed="rId1"/>
          <a:stretch/>
        </p:blipFill>
        <p:spPr>
          <a:xfrm>
            <a:off x="2666880" y="819000"/>
            <a:ext cx="3810240" cy="522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DIAGNOS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2819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ambio en el funcionamiento prev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eterioro en las relaciones familiares y/o sociales o en el rendimiento de las activ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29600" cy="14446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nstantia"/>
              </a:rPr>
              <a:t>Los síntomas no deben ser atribuibles a abuso de sustancias, uso de medicamentos, otras enfermedades psiquiátricas, duelo, o enfermedades médica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2:39:19Z</dcterms:created>
  <dc:creator>Marcela Larraguibel</dc:creator>
  <dc:description/>
  <dc:language>en-US</dc:language>
  <cp:lastModifiedBy>Marcela</cp:lastModifiedBy>
  <dcterms:modified xsi:type="dcterms:W3CDTF">2009-09-02T19:46:46Z</dcterms:modified>
  <cp:revision>35</cp:revision>
  <dc:subject/>
  <dc:title>Trastornos del Ánimo y Conducta Suicida</dc:title>
</cp:coreProperties>
</file>