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68B9-E7E6-4688-97B9-F7A633B476F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565B-93FE-4AD4-819F-AB810AC4D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2F2C-4F25-4A95-8723-EF517964C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EA15-833D-4B1C-94A7-6DAC57106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59B2-8476-46EF-A415-81992AB19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B9DF-395E-44CA-97FE-9DB46B17A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E6AD-51D2-4D97-A57B-F6207AE97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64DF-80D8-4BC9-8A3F-00757B3F4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6209-8C4A-457C-9060-B3533A68A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FD88-3975-441F-A84B-94798D0ED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AB14-81B1-4173-BD45-DF602D782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96A8-5FB2-44F9-8742-2E5322629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5F27-0AD6-4BC8-BAA8-0288258FB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2BDD-6244-408B-813C-354310673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7E8-0563-4A69-BE43-D0C15A07E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1BDB-366B-474E-B455-05E533EAC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BC42-2431-460A-B578-698A16ECD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3948-3456-4397-A337-22B93B155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2AAC-9ED6-4126-93EC-BB040B7CD7A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323D-4CD8-4A85-B776-2ABE1A89B37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2AA1-9218-458A-AB64-9DBB00F0F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2100-9815-407A-AD0B-731C6C646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8F84-C676-4F6A-B93C-CDD70458F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0EF0-8B80-4F79-B468-A7B537352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686-DC9F-4226-833F-5C1376C7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509-FA0F-4E49-980C-34CC5DD6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459-4739-45A0-B2A3-E7EE784F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74B-7F56-45B8-93EE-4B838011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956-D1BC-4071-B6A7-CEEC9C70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5F7-100F-4857-97DE-147BDA5B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1C5-CE10-43CE-AE01-1CB8D517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B76-7326-4DAE-9E02-23C722CB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E4A-B759-46B9-83CA-C2E23D5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DC9-D853-4FF4-9128-6064A426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92B-9FD4-4584-97DC-D56A9246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34C-3535-479C-9844-E41D299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CCF4-7C41-43AC-9840-C14950888684}" type="slidenum">
              <a:rPr b="0" lang="es-C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venelogia.com/uploads/autismo.mundo.jpg&amp;imgrefurl=http://www.venelogia.com/archivos/2289/&amp;h=223&amp;w=300&amp;sz=31&amp;hl=es&amp;start=3&amp;tbnid=gt-CSdA1KCP5gM:&amp;tbnh=86&amp;tbnw=116&amp;prev=/images%3Fq%3DAUTISMO%26gbv%3D2%26hl%3Des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bp1.blogger.com/_Ql_pgJ-r2dY/SB329Z592_I/AAAAAAAAAMM/uE-gp_BoNR4/s400/autismo4.jpg&amp;imgrefurl=http://psicopedagogias.blogspot.com/2008/05/autismo-definicin-y-sintomatologia.html&amp;h=319&amp;w=319&amp;sz=14&amp;hl=es&amp;start=15&amp;tbnid=UAkdEYjqUrqWSM:&amp;tbnh=118&amp;tbnw=118&amp;prev=/images%3Fq%3Dautismo%26gbv%3D2%26hl%3Des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institutosantateresadejesus.org/asperger2.jpg&amp;imgrefurl=http://www.institutosantateresadejesus.org/asper.htm&amp;h=198&amp;w=180&amp;sz=17&amp;hl=es&amp;start=3&amp;tbnid=xihmbuTrYsYnaM:&amp;tbnh=104&amp;tbnw=95&amp;prev=/images%3Fq%3Dni%25C3%25B1os%2Bcon%2Bautismo%26gbv%3D2%26hl%3Des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ipsiquiatra.com/images/psiquiatria_adolecente_1.jpg&amp;imgrefurl=http://www.mipsiquiatra.com/contenido/infantil_adolecente.htm&amp;h=113&amp;w=170&amp;sz=5&amp;hl=es&amp;start=26&amp;tbnid=tmkl5p2-jyWAFM:&amp;tbnh=66&amp;tbnw=99&amp;prev=/images%3Fq%3Dtrastorno%2Bdesintegrativo%2Binfantil%26start%3D20%26gbv%3D2%26ndsp%3D20%26hl%3Des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psicopedagogia.com/articulos/aut24_archivos/image002.jpg&amp;imgrefurl=http://www.psicopedagogia.com/autismo/&amp;h=225&amp;w=300&amp;sz=12&amp;hl=es&amp;start=16&amp;tbnid=aWN_9XVZR14lkM:&amp;tbnh=87&amp;tbnw=116&amp;prev=/images%3Fq%3Dni%25C3%25B1os%2Bcon%2Bautismo%26gbv%3D2%26hl%3Des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bp1.blogger.com/_Ql_pgJ-r2dY/SB33oZ593CI/AAAAAAAAAMk/n2dREjqbiZc/s400/autismo1.jpg&amp;imgrefurl=http://psicopedagogias.blogspot.com/2008/05/autismo-definicin-y-sintomatologia.html&amp;h=138&amp;w=156&amp;sz=5&amp;hl=es&amp;start=36&amp;tbnid=3OT4axxwKWUQmM:&amp;tbnh=86&amp;tbnw=97&amp;prev=/images%3Fq%3Dtrastorno%2Bdesintegrativo%2Binfantil%26start%3D20%26gbv%3D2%26ndsp%3D20%26hl%3Des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atravesdevenezuela.com/imagen/autismo.jpg&amp;imgrefurl=http://www.atravesdevenezuela.com/html/modules.php%3Fname%3DNews%26min%3D270%26file%3Dtopics%26topic%3D9&amp;h=300&amp;w=401&amp;sz=37&amp;hl=es&amp;start=2&amp;tbnid=5gqnHqnVdMOdAM:&amp;tbnh=93&amp;tbnw=124&amp;prev=/images%3Fq%3DAUTISMO%26gbv%3D2%26hl%3Des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bp1.blogger.com/_hmqMcIawjTo/R2EYB1sXKRI/AAAAAAAAAAs/qSNkJBxeLTw/s320/autista.jpg&amp;imgrefurl=http://elautismoalalcancedetodos.blogspot.com/2007/12/el-autismo.html&amp;h=278&amp;w=264&amp;sz=14&amp;hl=es&amp;start=21&amp;tbnid=nIrlDw0j2AStoM:&amp;tbnh=114&amp;tbnw=108&amp;prev=/images%3Fq%3DAUTISMO%26start%3D20%26gbv%3D2%26ndsp%3D20%26hl%3Des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upload.wikimedia.org/wikipedia/commons/thumb/0/0b/SXF.png/120px-SXF.png&amp;imgrefurl=http://www.viviplanet.com.ar/%3Fenciclopedia%3DPortal:Biolog%25C3%25ADa/Destacado/Archivo&amp;h=143&amp;w=120&amp;sz=22&amp;hl=es&amp;start=29&amp;tbnid=W5yS_LMJaSMSSM:&amp;tbnh=94&amp;tbnw=79&amp;prev=/images%3Fq%3Dx%2Bfragil%26start%3D20%26gbv%3D2%26ndsp%3D20%26hl%3Des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1856880"/>
            <a:ext cx="8110440" cy="21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Trastornos Generalizados del Desarroll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00120" y="521496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Dra. Marcela Matamala Bast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siquiatra de Niños y Adolesc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logo-u3"/>
          <p:cNvPicPr/>
          <p:nvPr/>
        </p:nvPicPr>
        <p:blipFill>
          <a:blip r:embed="rId1"/>
          <a:stretch/>
        </p:blipFill>
        <p:spPr>
          <a:xfrm>
            <a:off x="7858080" y="0"/>
            <a:ext cx="814320" cy="1643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2840" y="50436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ti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6613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Neurotransmi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Aumento de Serotonin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9600"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Factores inmunológic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munodisregulación”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9600"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Secretina: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posible papel del aparato gastro-intestinal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144000" y="1785600"/>
            <a:ext cx="3571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7" descr="003.jpg image by ALEXGILMOUR2"/>
          <p:cNvPicPr/>
          <p:nvPr/>
        </p:nvPicPr>
        <p:blipFill>
          <a:blip r:embed="rId1"/>
          <a:stretch/>
        </p:blipFill>
        <p:spPr>
          <a:xfrm>
            <a:off x="5715000" y="1714680"/>
            <a:ext cx="3048120" cy="2619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tiología : Hallazgos neuroanatómic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teraciones sistema límbic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uronas Hipocampo: disminución complejidad y arborización dendr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mígdala:  disminución tamaño neur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erebelo y oliva inferio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minución significativa del número de células de purki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6" descr="http://fundacionannavazquez.files.wordpress.com/2007/08/frontal.jpg"/>
          <p:cNvPicPr/>
          <p:nvPr/>
        </p:nvPicPr>
        <p:blipFill>
          <a:blip r:embed="rId1"/>
          <a:stretch/>
        </p:blipFill>
        <p:spPr>
          <a:xfrm>
            <a:off x="6357960" y="5143680"/>
            <a:ext cx="2571840" cy="152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214560" y="571320"/>
            <a:ext cx="8800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tiología:Hallazgos electroencefalográfic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599840"/>
            <a:ext cx="68295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ás del 50% presenta alteraciones EEG aunque no presenten crisis convulsiv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idencia de convulsiones 25-30% en adultos jóve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íodos “peaks” de aparición de epileps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esco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pués de los 10 a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s mujeres autistas presentan más crisis epilépticas que los homb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tor de mayor riesgo RM severo, déficit motor e historia familiar de EP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HM00350_"/>
          <p:cNvPicPr/>
          <p:nvPr/>
        </p:nvPicPr>
        <p:blipFill>
          <a:blip r:embed="rId1"/>
          <a:stretch/>
        </p:blipFill>
        <p:spPr>
          <a:xfrm>
            <a:off x="7643880" y="285840"/>
            <a:ext cx="1271520" cy="1590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50436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3200" y="1571400"/>
            <a:ext cx="382752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iagnóstico es clín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o disponemos de marcadores biológ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uadro clínico diferente en cada caso, infinidad de varia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xisten claras bases genéticas y hered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9600" indent="0">
              <a:spcBef>
                <a:spcPts val="601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6" descr="http://tbn0.google.com/images?q=tbn:gt-CSdA1KCP5gM:http://www.venelogia.com/uploads/autismo.mund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4920" y="1714680"/>
            <a:ext cx="3786120" cy="4500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Clínica: Severa alteración en la reciprocidad de la interacción socia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13880" y="1357200"/>
            <a:ext cx="48992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acto visu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establecen, o es muy pobre y fug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rada que “traspasa” a las personas, incluso a las figuras vincul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rada de reo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toman la iniciativa de buscar la intera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alta de compartir gozos, intereses y logr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alta de “Atención conjunta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ficultad para desarrollar relaciones sociales con pares de la misma e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evidencian movimientos anticipator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gunos evitan el contacto físico, otros se cuelgan de los brazos de familiares o extrañ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http://tbn0.google.com/images?q=tbn:UAkdEYjqUrqWSM:http://bp1.blogger.com/_Ql_pgJ-r2dY/SB329Z592_I/AAAAAAAAAMM/uE-gp_BoNR4/s400/autismo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2000160"/>
            <a:ext cx="276696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línica: Severa alteración de la comun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71880" y="2142720"/>
            <a:ext cx="5643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ran dificultad  en la comprensión de gestos y lengu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scasa destrezas de comunicación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Intención comunicativa está ausente o es esporá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Imitación social es defic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l retraso en el desarrollo del lenguaje es la manifestación más común (expresivo-comprensiv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uchos niños no llegan a hablar 50%(no desarrolla lenguaje hablado funcional)l la gran mayoría presenta retardo 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5" descr="http://tbn0.google.com/images?q=tbn:xihmbuTrYsYnaM:http://www.institutosantateresadejesus.org/asperger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3080"/>
            <a:ext cx="2643480" cy="43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040" y="56844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ínica: Severa alteración de la comun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71040" y="1906560"/>
            <a:ext cx="78073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0% de los que sí desarrolla lenguaje expresivo, lo hace por una variante anormal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olal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piten textualmente lo que acaban de escuch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media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erid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versión pronomin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 refieren a ellos mismos usando “tú” o “él”, en vez de “Yo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040" y="56844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ínica: Severa alteración de la comun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71040" y="1906560"/>
            <a:ext cx="78073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teraciones en la prosod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ntonación plana, monótona, “mecánic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icultades en ajustar volumen de la vo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éficit en la comprensión pragmática del lengua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tención sobrefocalizada en aspectos particulares de la persona más que en los contenidos semántic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icultades en entender metáforas, chistes, ironí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teraciones de la comunicación no verb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icultades práxicas faci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7120" y="568440"/>
            <a:ext cx="68580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ínica: Severa alteración de la comun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72840" y="1906200"/>
            <a:ext cx="78087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teraciones de la comunicación no verb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ficultades para organizar e integrar los aspectos no verbales de la comunicación del lenguaje habla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Severas dificultades práxicas con llos gestos faci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Simbólico (representación mental de los objetos) ausente o rígido y restringido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eden no usar los juguetes según su función  y limitarse a manipularlos, tirarlos, llevárselos a la bo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eden llegar a ser capaces de realizar algún juego imaginativo, pero éste suele ser la repetición de un “escenario aprendido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icultad de ideación y planific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http://tbn0.google.com/images?q=tbn:tmkl5p2-jyWAFM:http://www.mipsiquiatra.com/images/psiquiatria_adolecente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214200"/>
            <a:ext cx="1571760" cy="1629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56844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ínica: Alteración Conduct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99680" y="1857240"/>
            <a:ext cx="7807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rtorio conductual, intereses y actividades restringidas, rígidas, repetitivas y estereotip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pegos anormales: apegos bizarros a objetos o partes de objetos. Seleccionan el objeto sobre la base del placer sensorial  que les produ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istencia al camb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istencia en lo mis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stereotipias moto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http://tbn0.google.com/images?q=tbn:aWN_9XVZR14lkM:http://www.psicopedagogia.com/articulos/aut24_archivos/image0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3840" y="5000760"/>
            <a:ext cx="2000160" cy="1857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Trastornos del espectro auti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riterios centra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Severa alteración de la reciprocidad  de la interacción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Severa alteración de la comunicación ( lenguaje expresivo y comprensi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Repertorio conductual rígido y restringi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os sistemas de clasificación DSM-IV y CIE-10 utilizan el término “Trastornos Generalizados o Penetrantes del Desarroll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rastorno “</a:t>
            </a: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generalizado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”: perturbación grave y generalizada de </a:t>
            </a: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varias áreas del desarrol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alibri"/>
              </a:rPr>
              <a:t>Interacción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alibri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alibri"/>
              </a:rPr>
              <a:t>Actividades e intereses estereotip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rastorno “</a:t>
            </a: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específico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”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volucrada sólo un área del desarrol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56844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ín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71040" y="1906560"/>
            <a:ext cx="78073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incluídos en los criterios diagnóstic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storno de la modulación sensorial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puesta anormal a los estímulos sensori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ipo y/o hiperreactividad a estímulos táctiles, propioceptivos, vestibulares, auditivos, gustativos, olfativ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fensibilidad Tácti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ispraxi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icultades de ideación y/o planeamiento mo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icultad de reproducir actos complej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teración de l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ordinación e imita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http://tbn0.google.com/images?q=tbn:3OT4axxwKWUQmM:http://bp1.blogger.com/_Ql_pgJ-r2dY/SB33oZ593CI/AAAAAAAAAMk/n2dREjqbiZc/s400/autismo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1357200" cy="1643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05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storno de Ret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72840" y="1906200"/>
            <a:ext cx="78073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scrito en 1966 por Ret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ólo en muje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sarrollo prenatal y perinatal norm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Hasta los 5 meses: DSM normal. Entre los 5 y 30 meses: pérdida de habilidades manuales intencion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C nacimiento: normal. Desde los 5 a 48 meses: desaceleración del crecimiento C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Movimientos manuales estereotipados en la linea media (escribir o lavarse las man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icio del trastorno: pérdida de interés en el ambiente. Posteriormente desarrollo de interacción social a través de un fuerte contacto vis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Mala coordinación de la marcha, movimientos tronco con RPM gr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lteración grave del desarrollo del lenguaje expresivo y comprens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http://tbn0.google.com/images?q=tbn:sk3-ZZZIQtmZuM:http://fundacionannavazquez.files.wordpress.com/2007/08/rett-syndrome-67456.jpg"/>
          <p:cNvPicPr/>
          <p:nvPr/>
        </p:nvPicPr>
        <p:blipFill>
          <a:blip r:embed="rId1"/>
          <a:stretch/>
        </p:blipFill>
        <p:spPr>
          <a:xfrm>
            <a:off x="0" y="0"/>
            <a:ext cx="1571760" cy="1857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Trastorno Desintegrativo Infant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índrome de Heller, Psicosis Desintegra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scrito en 1908 por Hel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100 casos descri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sarrollo normal durante los dos primeros años de v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ntre los 2 y 10 años hay una pérdida clínicamente significativas en 2 de las sigu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4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alibri"/>
              </a:rPr>
              <a:t>Lenguaje expresivo o receptiv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4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alibri"/>
              </a:rPr>
              <a:t>Habilidades sociales o comportamiento adaptativ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4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alibri"/>
              </a:rPr>
              <a:t>Control intestinal o vesic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4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alibri"/>
              </a:rPr>
              <a:t>Jueg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4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alibri"/>
              </a:rPr>
              <a:t>Habilidades mot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normalidades en 2 de las siguient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4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alibri"/>
              </a:rPr>
              <a:t>Alteración cualitativa interacción social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4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alibri"/>
              </a:rPr>
              <a:t>Alteración cualitativa comunicació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4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alibri"/>
              </a:rPr>
              <a:t>Patrones comportamiento, interés y actividades restrictivos, repetitivos y estereotipad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05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storno de Asper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lteración cualitativa de interacción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trones de comportamiento, interés y actividades restrictivos y estereotip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l trastorno causa deterioro clínicamente significativo de la actividad social, laboral y otras áreas importantes de la actividad del individu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usencia de retraso general del lenguaje clínicamente significa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usencia de retraso clínicamente significativo del desarrollo cognoscitivo, del desarrollo de habilidades de autoayuda propia de la edad, comportamiento adaptativo y curiosidad acerca del ambiente durante la infa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media.canada.com/idl/otct/20060304/306158-102636.jpg"/>
          <p:cNvPicPr/>
          <p:nvPr/>
        </p:nvPicPr>
        <p:blipFill>
          <a:blip r:embed="rId1"/>
          <a:stretch/>
        </p:blipFill>
        <p:spPr>
          <a:xfrm>
            <a:off x="0" y="0"/>
            <a:ext cx="1936800" cy="1125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rastorno Generalizado del Desarrollo no especific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sta categoría debe utilizarse cuando exis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lteración grave y generalizado del desarrollo de la interacción social recíproca o de las habilidades de comunicación no verb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 cuando hay comportamientos, intereses y actividades estereotip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o se cumplen los criterios de un trastorno generalizado del desarrollo específico, EQZ, trastorno esquizotípico de la personalidad o trastorno de la personalidad de evit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iagnóstic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4280"/>
            <a:ext cx="4829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l síndrome o algún indicio de desarrollo anormal ha estado presente antes de los 30-36 me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rupo de niños con desarrollo aparentemente normal hasta los 12-18 meses y después el desarrollo alcanza un platea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sencia de comunicación gestual compleja, organizada e intencionada  a los 18 meses puede ser un marcador precoz útil de menores funcionando en el espectro aut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HA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Detección precoz de niños en riesgo. Facilita derivación. No hace diagnóst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63360" y="-136440"/>
            <a:ext cx="3467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6 Imagen" descr="http://www.autismndi.com/clientimgs/chat.gif"/>
          <p:cNvPicPr/>
          <p:nvPr/>
        </p:nvPicPr>
        <p:blipFill>
          <a:blip r:embed="rId1"/>
          <a:stretch/>
        </p:blipFill>
        <p:spPr>
          <a:xfrm>
            <a:off x="5500800" y="1071720"/>
            <a:ext cx="3467160" cy="5162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2840" y="50436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valua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-30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oz - C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storia detallada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del desarrollo y d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ermedades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anteri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storia familiar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riantes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enores del autism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valu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ión médica completa, pediátrica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eurológica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genética, fonoaudiológica y terapia ocupa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valuación d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gudeza visual y audi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2840" y="50436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xáme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línicamente Justific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5543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-309600">
              <a:lnSpc>
                <a:spcPct val="80000"/>
              </a:lnSpc>
              <a:spcBef>
                <a:spcPts val="624"/>
              </a:spcBef>
              <a:buClr>
                <a:srgbClr val="6666ff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6666ff"/>
                </a:solidFill>
                <a:latin typeface="Calibri"/>
              </a:rPr>
              <a:t>Estudios genétic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Cariotipo y ADN para Fragilidad 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nálisis especiales en algunos cas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6666ff"/>
                </a:solidFill>
                <a:latin typeface="Calibri"/>
              </a:rPr>
              <a:t>Estudios metabólic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ausencia de detección perina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retraso mental, epileps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6666ff"/>
                </a:solidFill>
                <a:latin typeface="Calibri"/>
              </a:rPr>
              <a:t>Estudios electroencefalográfic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ospecha de convulsi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gresión social o comunica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6666ff"/>
                </a:solidFill>
                <a:latin typeface="Calibri"/>
              </a:rPr>
              <a:t>Estudios de neuroima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lteracción del examen neurológico, EEG u otros indicadores de lesión foc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6666ff"/>
                </a:solidFill>
                <a:latin typeface="Calibri"/>
              </a:rPr>
              <a:t>Estudios inmunológic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- 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ospecha de inmunodepresión o alergi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http://tbn0.google.com/images?q=tbn:UgPLY53yXcRYVM:http://www.tendencias21.net/photo/188977-255220.jpg"/>
          <p:cNvPicPr/>
          <p:nvPr/>
        </p:nvPicPr>
        <p:blipFill>
          <a:blip r:embed="rId1"/>
          <a:stretch/>
        </p:blipFill>
        <p:spPr>
          <a:xfrm>
            <a:off x="5429160" y="2071800"/>
            <a:ext cx="3276720" cy="4143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040" y="56844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agnóstico diferen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71040" y="1906560"/>
            <a:ext cx="780732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 otros trastornos del desarroll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índrome de Asper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stornos pervasivos no especifi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índrome de Ret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quizofrenia de inicio muy tempr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traso glo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tardo men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alta de esti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tros: disfasia, trastorno semántico pragmático, hipoacu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2840" y="50436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atamiento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752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-30960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Precocidad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de la interve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Intensidad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de la interve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Permanencia</a:t>
            </a:r>
            <a:r>
              <a:rPr b="0" lang="es-ES_tradnl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 la interacción 1: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Objetivos (retardo mental severo o profund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Logro de conductas adaptativas para funcionamiento lo más independiente po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sarrollo de habilidades de la vida di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isminuir conductas desadapt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ntrenamiento de padres para controlar conductas desadaptativas y solucionar proble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frutalsuelo230"/>
          <p:cNvPicPr/>
          <p:nvPr/>
        </p:nvPicPr>
        <p:blipFill>
          <a:blip r:embed="rId1"/>
          <a:stretch/>
        </p:blipFill>
        <p:spPr>
          <a:xfrm>
            <a:off x="6715080" y="1714680"/>
            <a:ext cx="1770120" cy="157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34-1-thumb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487692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sp>
        <p:nvSpPr>
          <p:cNvPr id="133" name="Rectangle 6"/>
          <p:cNvSpPr/>
          <p:nvPr/>
        </p:nvSpPr>
        <p:spPr>
          <a:xfrm>
            <a:off x="2064240" y="5568840"/>
            <a:ext cx="469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 Unicode MS"/>
              </a:rPr>
              <a:t>¿Qué es el autism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2840" y="50436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atamiento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-3096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Objetivos (retardo mental moderado hasta CI norm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provechar al máximo la plasticidad de los procesos neurológicos  y conductuales de los primeros años de vi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stimulación intensiv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Interacción 1: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Rehabilitación multidisciplinaria intens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Objetivo comú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El niño pase el menor tiempo posible ensimismado, jugando solo, autoestimulándose y dejando de interactu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spcBef>
                <a:spcPts val="4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Apoyo terapéutico a los padres, para aceptación del diagnóstico  y necesidad de tratamiento intensivo para rehabili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6" descr="http://tbn0.google.com/images?q=tbn:gtKzI8F7ENLhWM:http://www.incluyeme.org/Images/02-tratamiento.jpg"/>
          <p:cNvPicPr/>
          <p:nvPr/>
        </p:nvPicPr>
        <p:blipFill>
          <a:blip r:embed="rId1"/>
          <a:stretch/>
        </p:blipFill>
        <p:spPr>
          <a:xfrm>
            <a:off x="7572240" y="5715000"/>
            <a:ext cx="1357560" cy="928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56844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nóstico y evol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710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 nivel de logros es variab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rededor del 70% presenta una evolución “pobre” o “muy limitada”. Escaso progreso y severas discapacida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0% presenta una evolución “aceptable”, con progresos a pesar de dificultades significativas del desarroll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erca del 10% evolución considerada “buena”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ronóstico en autismo de buen niv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 variado pero en general más bajo que lo esperado en razón del nivel intelectu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ueden incluirse en actividades sociales pero con dificultad logran desarrollar amistades y relaciones de pare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Preguntas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1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9 Imagen" descr="http://imgs.sfgate.com/c/pictures/2005/05/25/ba_autism25_0087_kw.jpg"/>
          <p:cNvPicPr/>
          <p:nvPr/>
        </p:nvPicPr>
        <p:blipFill>
          <a:blip r:embed="rId1"/>
          <a:stretch/>
        </p:blipFill>
        <p:spPr>
          <a:xfrm>
            <a:off x="571680" y="2143080"/>
            <a:ext cx="8001000" cy="471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 Unicode MS"/>
              </a:rPr>
              <a:t>¿Qué es el autismo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stelación de síntomas conductuales que dan cuenta de una disfunción del sistema nervioso subya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presenta en forma diferente según cada caso, su expresión depende de múltiples fa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lasifica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SM IV: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Trastornos Generalizados del Desarro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storno Aut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storno de R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storno Desintegrativo Infant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storno de Asper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storno Generalizado del Desarrollo no especific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lasifica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72840" y="1500120"/>
            <a:ext cx="780732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IE-10: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sórdenes Penetrantes del Desarroll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utismo infant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utismo atíp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índrome de R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 desorden Desintegrativo infant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esorden hiperactivo asociado con retardo mental y movimientos estereotip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índrome de Asper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esorden penetrante del desarrollo no especifica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pidemi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studios inicial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Baja prevalencia 0.2-0.5/1.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evalencia en progresivo aumento en los últimos añ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ejor diagnós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Flexibilización crite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evalencia específica para el trastorno autista 5 por 10.000 (Volkmar 199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or cada 2 niños con trastorno autista hay 3 niños con autismo atíp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evalencia del Sd de Asperger 28.5% por 10.0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asa por sexo mayor en hombres 3.7: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http://tbn0.google.com/images?q=tbn:5gqnHqnVdMOdAM:http://www.atravesdevenezuela.com/imagen/autism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285840"/>
            <a:ext cx="1571760" cy="1428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600" y="14256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br>
              <a:rPr sz="4000"/>
            </a:br>
            <a:br>
              <a:rPr sz="4000"/>
            </a:br>
            <a:r>
              <a:rPr b="0" lang="es-ES_tradnl" sz="4800" spc="-1" strike="noStrike">
                <a:solidFill>
                  <a:srgbClr val="000000"/>
                </a:solidFill>
                <a:latin typeface="Calibri"/>
              </a:rPr>
              <a:t>Etiología</a:t>
            </a:r>
            <a:br>
              <a:rPr sz="4800"/>
            </a:br>
            <a:r>
              <a:rPr b="0" lang="es-ES_tradnl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42960" y="1143000"/>
            <a:ext cx="3827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-3096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_tradnl" sz="3100" spc="-1" strike="noStrike">
                <a:solidFill>
                  <a:srgbClr val="1f497d"/>
                </a:solidFill>
                <a:latin typeface="Calibri"/>
              </a:rPr>
              <a:t>Factores genético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Concordancia entre hermanos 2-9%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Tasa de autismo entre hermanos 50 veces mayor que en pobl.gener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Concordancia en gemelos monocigotos 92%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Concordancia en gemelos </a:t>
            </a:r>
            <a:r>
              <a:rPr b="0" lang="es-CL" sz="1900" spc="-1" strike="noStrike">
                <a:solidFill>
                  <a:srgbClr val="000000"/>
                </a:solidFill>
                <a:latin typeface="Calibri"/>
              </a:rPr>
              <a:t>dicigotos 10%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alibri"/>
              </a:rPr>
              <a:t>6-24% de los hermanos con algún trastorno del desarroll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alibri"/>
              </a:rPr>
              <a:t>Riesgo de un hermano de presentar un trastorno del espectro 3%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Riesgo de padres de tener otro hijo con trastorno autista 5%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53000" y="1906200"/>
            <a:ext cx="3827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-309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ttp://tbn0.google.com/images?q=tbn:nIrlDw0j2AStoM:http://bp1.blogger.com/_hmqMcIawjTo/R2EYB1sXKRI/AAAAAAAAAAs/qSNkJBxeLTw/s320/autis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285920"/>
            <a:ext cx="3857760" cy="5143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ti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3200" y="1906200"/>
            <a:ext cx="42256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f497d"/>
                </a:solidFill>
                <a:latin typeface="Calibri"/>
              </a:rPr>
              <a:t>Factores genét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0">
              <a:spcBef>
                <a:spcPts val="700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rededor del 10% de los casos se asocia a un trastorno genético conocid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índrome X frág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enilquetonu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eurofibromato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58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clerosis tuber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5080" y="1906200"/>
            <a:ext cx="383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6" descr="http://tbn0.google.com/images?q=tbn:W5yS_LMJaSMSSM:http://upload.wikimedia.org/wikipedia/commons/thumb/0/0b/SXF.png/120px-SXF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0800" y="1928880"/>
            <a:ext cx="2643120" cy="4286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20:38:54Z</dcterms:created>
  <dc:creator>MARCELA</dc:creator>
  <dc:description/>
  <dc:language>en-US</dc:language>
  <cp:lastModifiedBy>MARCELA</cp:lastModifiedBy>
  <dcterms:modified xsi:type="dcterms:W3CDTF">2009-09-15T00:36:36Z</dcterms:modified>
  <cp:revision>41</cp:revision>
  <dc:subject/>
  <dc:title>Trastornos Generalizados del Desarrollo</dc:title>
</cp:coreProperties>
</file>