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7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5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DE7F8-09E4-4BBC-B4E2-478318D5E1A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2AC0F-8B65-472B-93A0-81681ECCDDC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BF115-54EF-425D-A4E7-3FD9AD9450F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OF: Daño, asociado a elevada ansiedad, labilidad emocional, desinhibición social y agresivid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OF: corteza orbitofron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3EFC6-41ED-4905-B0A1-FE02FD02E67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 input sensorial ingresa a las vías superiores a través del TÁLAMO ANTERIOR anterior hacia el NÚCLEO LATERAL DE LA AMÍGDALA y de ahí al NÚCLEO CENTRAL DE LA AMÍGDALA. Este último, es el nodo desde donde se disemina la información y se coordina la respuesta autonómica y conductual al estímulo que originó la respuesta ansio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s eferencias del núcleo central de la amígala se dirigen a múltiples siti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NÚCLEO PARABRAQUIAL…………………………………………..produce </a:t>
            </a:r>
            <a:r>
              <a:rPr b="0" lang="es-ES" sz="1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frecuencia respirat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NÚCLEO LATERAL DEL HIPÓTALAMO…………………………..activa el SN SIMPÁTICO y causa el arousal autonóm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OCUS CERULEUS……………………………………………………. </a:t>
            </a:r>
            <a:r>
              <a:rPr b="0" lang="es-ES" sz="1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liberación de NA y contribuye a </a:t>
            </a:r>
            <a:r>
              <a:rPr b="0" lang="es-ES" sz="1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PA, FC y resp cond al mie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NÚCLEO PARAVENTRICULAR DEL HIPOTÁLAMO……………. </a:t>
            </a:r>
            <a:r>
              <a:rPr b="0" lang="es-ES" sz="1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liberación de adrenocortico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REGIÓN GRIS PERIACUEDUCTAL………………………………… </a:t>
            </a:r>
            <a:r>
              <a:rPr b="0" lang="es-ES" sz="1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resp cond accesorias (freezing postural y cond defensiva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B08B8-1B8F-488D-98F8-8AE15158EEC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BDNF (factor neurotrifico derivado del crebro) participa en la apoptosis y en la diferenciación neuronal. Además modula las interconecciones neuronales. Estimula la expresión de rp NMDA, el que a su vez determina cb en la fuerzas de las conexiones neuronales, regulando la plasticidad sinaptica a través de la potenciación a largo plazo (LPT) y la depresió a largo palzo (LT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606A9-C7A3-4C03-A1DA-96E0C9A005B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520FE-8642-419F-8A57-8EDAA8B8F60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C79D1-39C7-4A3B-BF43-E046F819995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Trabajos esco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. Interacciones soc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. Fami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. Sal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. Segur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. Eventos mund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. Catástrofes natur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. Asociado a un síntoma somá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0C7E0-5400-465F-8A83-753CFD8D570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Niños: 2,9%-4,6% (Anderson 198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. Adolescentes: 3,6%-7,3%(Bowen 1990, Kash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98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. Mujeres: hombres 6:1 (Nutter 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291EB-5E0A-4D27-958F-D28598FB057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menzar con dosis muy bajas y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↑ gradualmente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Sertralina 1-2 mgr./kgr./d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Fluoxetina 0,3-1 mgr./kgr./d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Paroxetina 0,2-0,5 mgr./Kgr/dí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enzodiacepin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*Mínimos efectos colater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*No se ha estudiado tolerancia ni dependenc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*Reacciones paradójicas: desinhibición conductu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*Dosis iniciales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*Principalmente clonazepam 0,01-0,03 mgr./Kgr./d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2D0DA-B224-4FC7-804A-9ADA4347AAF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94E42-1106-413C-B79D-73BCD5E4B48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77BE2-DBF5-4CD8-802F-E466FB6D934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ctantes: miedo a ruidos fuertes, imprevisto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xtrañ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. Preescolares: miedo a criaturas imaginaria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oscuridad y ansiedad de separación normat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. Escolares: miedo a daño físico y ev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natur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. Adolescentes: preocupación con rendi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colar, competencia social y problemas de sal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uris 1998, Vasey 19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A4F9C-D46E-491F-8E4F-88E7D9C6FD9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6EA6-1D76-49B4-8CB9-3F2AAF5E8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C489-57B3-45DB-8A79-05D74E554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CFE3-C161-4572-B02B-D98EA163E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8765-E52A-46D6-B4A3-6A9EFE297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9CC2D-008A-481D-B1D8-0C404CBE2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B6F17-A60D-425F-8DD7-8C23F0A0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BE085-59F9-441C-A614-E063ED941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209F6-E256-4233-BD81-E45F8B8AA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845E8-99D8-4FA8-9CF6-1F17F8C6A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9C096-58E2-41DD-8E26-A872608B9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B5C49-9D29-41A2-B23C-7EE6F7AE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1D7C-343D-472A-8D39-FF7DA9BD1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A6513-97CC-43D0-A1E0-1736D2B7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F151E-E7F8-4034-9E5C-9C3A4C84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9C9DB-24BC-496D-9ED9-72CF03A51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E5DEA-AE18-4A0E-BDEC-75575E776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7FDA1-B6AE-4333-8758-DBD92847B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D166-014A-43E0-859E-54E9EB2E7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3DF8-A458-4194-919C-C9FDA71C6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E23C-114B-41B8-8B59-BADE99212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A749-3EC3-403F-A7B7-1C8ED57EF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F3C5-53E9-4D84-A527-4AF8A04E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B799-D166-44E6-BE90-C11D5F02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78E6-6224-4F9E-B3CB-2B0477FF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9DD89-DE5C-40BE-A9CA-C57AAC8861A8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2D4EF-03EA-43F1-8C7D-1D994AA054E6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300" spc="-1" strike="noStrike">
                <a:solidFill>
                  <a:srgbClr val="006633"/>
                </a:solidFill>
                <a:latin typeface="Garamond"/>
              </a:rPr>
              <a:t>Trastornos Ansiosos</a:t>
            </a:r>
            <a:endParaRPr b="0" lang="en-US" sz="6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058920" y="4797000"/>
            <a:ext cx="5616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ra. María José  Vil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siquiatría Infanto-juven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Garamond"/>
              </a:rPr>
              <a:t>Factores de Vulnerabilidad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330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Temperamen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Inhibido: caracterizado por espontánea evitación a los objetos, personas y situaciones desconocidas                                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alta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reactividad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, (Kagan 199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Retraimiento conductual frente a situaciones nuev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lrededor del 15 % de la población tiene éste temperamen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828720" y="3573360"/>
            <a:ext cx="7189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rep240603-2"/>
          <p:cNvPicPr/>
          <p:nvPr/>
        </p:nvPicPr>
        <p:blipFill>
          <a:blip r:embed="rId1"/>
          <a:stretch/>
        </p:blipFill>
        <p:spPr>
          <a:xfrm>
            <a:off x="5186520" y="1484280"/>
            <a:ext cx="3060720" cy="46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Line 3"/>
          <p:cNvSpPr/>
          <p:nvPr/>
        </p:nvSpPr>
        <p:spPr>
          <a:xfrm>
            <a:off x="2195640" y="2637000"/>
            <a:ext cx="432108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4"/>
          <p:cNvSpPr/>
          <p:nvPr/>
        </p:nvSpPr>
        <p:spPr>
          <a:xfrm>
            <a:off x="611280" y="2133720"/>
            <a:ext cx="1584360" cy="1008000"/>
          </a:xfrm>
          <a:prstGeom prst="ellipse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ff33"/>
                </a:solidFill>
                <a:latin typeface="Arial"/>
              </a:rPr>
              <a:t>Amigd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5"/>
          <p:cNvSpPr/>
          <p:nvPr/>
        </p:nvSpPr>
        <p:spPr>
          <a:xfrm>
            <a:off x="6877080" y="2060640"/>
            <a:ext cx="1584360" cy="1008000"/>
          </a:xfrm>
          <a:prstGeom prst="ellipse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ff33"/>
                </a:solidFill>
                <a:latin typeface="Arial"/>
              </a:rPr>
              <a:t>C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3708360" y="2708280"/>
            <a:ext cx="1440000" cy="1441440"/>
          </a:xfrm>
          <a:prstGeom prst="flowChartExtra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108000" y="4406760"/>
            <a:ext cx="2900160" cy="173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stema de alerta al pelig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moria emocional de los estímu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dicionamiento al mie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8"/>
          <p:cNvSpPr/>
          <p:nvPr/>
        </p:nvSpPr>
        <p:spPr>
          <a:xfrm>
            <a:off x="1403280" y="3357720"/>
            <a:ext cx="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6029280" y="4127400"/>
            <a:ext cx="2900520" cy="2288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odula el impacto de la vivencia al tem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ran modulador de las emociones neg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ticipa en la extinción del condicionamiento al mie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0"/>
          <p:cNvSpPr/>
          <p:nvPr/>
        </p:nvSpPr>
        <p:spPr>
          <a:xfrm>
            <a:off x="7596360" y="328464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Line 2"/>
          <p:cNvSpPr/>
          <p:nvPr/>
        </p:nvSpPr>
        <p:spPr>
          <a:xfrm>
            <a:off x="2195640" y="3500280"/>
            <a:ext cx="3744720" cy="1873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3"/>
          <p:cNvSpPr/>
          <p:nvPr/>
        </p:nvSpPr>
        <p:spPr>
          <a:xfrm>
            <a:off x="539640" y="2781360"/>
            <a:ext cx="1584360" cy="1008000"/>
          </a:xfrm>
          <a:prstGeom prst="ellipse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ff33"/>
                </a:solidFill>
                <a:latin typeface="Arial"/>
              </a:rPr>
              <a:t>Amigd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4"/>
          <p:cNvSpPr/>
          <p:nvPr/>
        </p:nvSpPr>
        <p:spPr>
          <a:xfrm>
            <a:off x="5651640" y="5300640"/>
            <a:ext cx="1584360" cy="1008000"/>
          </a:xfrm>
          <a:prstGeom prst="ellipse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ff33"/>
                </a:solidFill>
                <a:latin typeface="Arial"/>
              </a:rPr>
              <a:t>C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3276720" y="4437000"/>
            <a:ext cx="1439640" cy="1441440"/>
          </a:xfrm>
          <a:prstGeom prst="flowChartExtra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3903840" y="1504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3132000" y="765000"/>
            <a:ext cx="57596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yor activación frente al temor que la aleg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iños de temperamento inhibido presentan activación bilateral de la amígdala frente a rostros nue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sbalance A  -  COF: En fobias específicas, fobia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mígdala derecha: Parte de un sistema, dinámico  de detección de estímulos emocionales    Desordenes Ansio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mígdala izquierda: Evaluar estímulos continuos y su valoración emocional    Desordenes del hum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8"/>
          <p:cNvSpPr/>
          <p:nvPr/>
        </p:nvSpPr>
        <p:spPr>
          <a:xfrm>
            <a:off x="6948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9"/>
          <p:cNvSpPr/>
          <p:nvPr/>
        </p:nvSpPr>
        <p:spPr>
          <a:xfrm>
            <a:off x="5364000" y="342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64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6633"/>
                </a:solidFill>
                <a:latin typeface="Garamond"/>
              </a:rPr>
              <a:t>Amígdala y vías de neurotransmisión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Oval 3"/>
          <p:cNvSpPr/>
          <p:nvPr/>
        </p:nvSpPr>
        <p:spPr>
          <a:xfrm>
            <a:off x="3564000" y="3429000"/>
            <a:ext cx="2232000" cy="1295280"/>
          </a:xfrm>
          <a:prstGeom prst="ellipse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ff33"/>
                </a:solidFill>
                <a:latin typeface="Times New Roman"/>
              </a:rPr>
              <a:t>Amígd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1835280" y="4005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6443640" y="4005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4500720" y="213372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 rot="3040200">
            <a:off x="365400" y="324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4119480" y="1484280"/>
            <a:ext cx="125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Glutam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4120920" y="2440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250920" y="220500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roton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1042920" y="2727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1835280" y="335772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Ga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2340000" y="3429000"/>
            <a:ext cx="50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7308720" y="2492280"/>
            <a:ext cx="15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Glutam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NA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5"/>
          <p:cNvSpPr/>
          <p:nvPr/>
        </p:nvSpPr>
        <p:spPr>
          <a:xfrm>
            <a:off x="7524720" y="314172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596360" y="396864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7"/>
          <p:cNvSpPr/>
          <p:nvPr/>
        </p:nvSpPr>
        <p:spPr>
          <a:xfrm>
            <a:off x="250920" y="5799240"/>
            <a:ext cx="410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ferencias (inputs) estimulant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inhibidor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8"/>
          <p:cNvSpPr/>
          <p:nvPr/>
        </p:nvSpPr>
        <p:spPr>
          <a:xfrm>
            <a:off x="4572000" y="5805360"/>
            <a:ext cx="424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ferencias (outputs) estimulant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+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9"/>
          <p:cNvSpPr/>
          <p:nvPr/>
        </p:nvSpPr>
        <p:spPr>
          <a:xfrm>
            <a:off x="2535120" y="330516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0"/>
          <p:cNvSpPr/>
          <p:nvPr/>
        </p:nvSpPr>
        <p:spPr>
          <a:xfrm>
            <a:off x="2610360" y="3232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1"/>
          <p:cNvSpPr/>
          <p:nvPr/>
        </p:nvSpPr>
        <p:spPr>
          <a:xfrm>
            <a:off x="4140360" y="6237360"/>
            <a:ext cx="56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* es un output indirecto a través del locus cerul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6633"/>
                </a:solidFill>
                <a:latin typeface="Garamond"/>
              </a:rPr>
              <a:t>Amígdala y sus conexiones aferentes y eferentes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3" name="Picture 3" descr="Neuroanatomía del Pánico"/>
          <p:cNvPicPr/>
          <p:nvPr/>
        </p:nvPicPr>
        <p:blipFill>
          <a:blip r:embed="rId1"/>
          <a:stretch/>
        </p:blipFill>
        <p:spPr>
          <a:xfrm>
            <a:off x="684360" y="1603440"/>
            <a:ext cx="7200720" cy="42019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>
            <a:off x="3059280" y="5950080"/>
            <a:ext cx="58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Gorman J et al. Am J Psychiatry 2000; 157: 4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6633"/>
                </a:solidFill>
                <a:latin typeface="Garamond"/>
              </a:rPr>
              <a:t>Sistema neurobiológico de respuesta al estré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Arial"/>
              </a:rPr>
              <a:t>Eje HHA y CRF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El stress estimula tanto al eje HHA como al SNS, además estos 2 sistemas se estimulan el uno al otro, con un continuo hasta la adultez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↑ 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cronico de Cortisol produce efectos deletereo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sminuyen la expresión de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BD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loquea la inducción de LTP y facilita la inducción de LTD (reduce conexiones sinápticas)          ↓ neuroplastic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trofia del hipocampo (Robert sapolsk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Junto con el aumento de catecolaminas: ↑ perdida neuronal, retraso mielinización, altera poda neuronal, ↓ neurogene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4"/>
          <p:cNvSpPr/>
          <p:nvPr/>
        </p:nvSpPr>
        <p:spPr>
          <a:xfrm>
            <a:off x="4854600" y="4429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324000" y="333360"/>
            <a:ext cx="237636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edisposi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gené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6300720" y="333360"/>
            <a:ext cx="24480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r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3203640" y="1484280"/>
            <a:ext cx="223200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ENOTI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ULNE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2843280" y="5589720"/>
            <a:ext cx="316872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rastorn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presivos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nsio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6"/>
          <p:cNvGrpSpPr/>
          <p:nvPr/>
        </p:nvGrpSpPr>
        <p:grpSpPr>
          <a:xfrm>
            <a:off x="281160" y="1484280"/>
            <a:ext cx="8467560" cy="1458000"/>
            <a:chOff x="281160" y="1484280"/>
            <a:chExt cx="8467560" cy="1458000"/>
          </a:xfrm>
        </p:grpSpPr>
        <p:sp>
          <p:nvSpPr>
            <p:cNvPr id="163" name="Text Box 7"/>
            <p:cNvSpPr/>
            <p:nvPr/>
          </p:nvSpPr>
          <p:spPr>
            <a:xfrm>
              <a:off x="6135840" y="1628640"/>
              <a:ext cx="26128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Neurotoxicidad y alteración de l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Neurogenesis en 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hipocamp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8"/>
            <p:cNvSpPr/>
            <p:nvPr/>
          </p:nvSpPr>
          <p:spPr>
            <a:xfrm>
              <a:off x="281160" y="1484280"/>
              <a:ext cx="2126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"/>
                </a:rPr>
                <a:t>↑ 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"/>
                </a:rPr>
                <a:t>CR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↑</a:t>
              </a: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Eje HH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↑ </a:t>
              </a: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actividad 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AutoShape 9"/>
          <p:cNvSpPr/>
          <p:nvPr/>
        </p:nvSpPr>
        <p:spPr>
          <a:xfrm>
            <a:off x="3995640" y="2421000"/>
            <a:ext cx="57636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3276360" y="2997360"/>
            <a:ext cx="202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↑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ulnerabilid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 estr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1"/>
          <p:cNvSpPr/>
          <p:nvPr/>
        </p:nvSpPr>
        <p:spPr>
          <a:xfrm>
            <a:off x="3995640" y="3716280"/>
            <a:ext cx="57636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2841480" y="4287960"/>
            <a:ext cx="313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↓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pacidad adaptativ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Y rendimiento psicosoci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3"/>
          <p:cNvSpPr/>
          <p:nvPr/>
        </p:nvSpPr>
        <p:spPr>
          <a:xfrm>
            <a:off x="2987640" y="62064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4"/>
          <p:cNvSpPr/>
          <p:nvPr/>
        </p:nvSpPr>
        <p:spPr>
          <a:xfrm flipH="1">
            <a:off x="5364000" y="98100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5"/>
          <p:cNvSpPr/>
          <p:nvPr/>
        </p:nvSpPr>
        <p:spPr>
          <a:xfrm>
            <a:off x="2771640" y="981000"/>
            <a:ext cx="792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6"/>
          <p:cNvSpPr/>
          <p:nvPr/>
        </p:nvSpPr>
        <p:spPr>
          <a:xfrm>
            <a:off x="7236000" y="3068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17"/>
          <p:cNvGrpSpPr/>
          <p:nvPr/>
        </p:nvGrpSpPr>
        <p:grpSpPr>
          <a:xfrm>
            <a:off x="184320" y="2276640"/>
            <a:ext cx="8708760" cy="2604240"/>
            <a:chOff x="184320" y="2276640"/>
            <a:chExt cx="8708760" cy="2604240"/>
          </a:xfrm>
        </p:grpSpPr>
        <p:sp>
          <p:nvSpPr>
            <p:cNvPr id="174" name="Rectangle 18"/>
            <p:cNvSpPr/>
            <p:nvPr/>
          </p:nvSpPr>
          <p:spPr>
            <a:xfrm>
              <a:off x="6156360" y="3789360"/>
              <a:ext cx="2736720" cy="107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Alteracion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estructura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19"/>
            <p:cNvSpPr/>
            <p:nvPr/>
          </p:nvSpPr>
          <p:spPr>
            <a:xfrm>
              <a:off x="184320" y="3567240"/>
              <a:ext cx="2317320" cy="131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↓ 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5 H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↑ 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Citokin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↓ 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dopami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Alteración eje HH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0"/>
            <p:cNvSpPr/>
            <p:nvPr/>
          </p:nvSpPr>
          <p:spPr>
            <a:xfrm flipH="1">
              <a:off x="2050920" y="2276640"/>
              <a:ext cx="136872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21"/>
            <p:cNvSpPr/>
            <p:nvPr/>
          </p:nvSpPr>
          <p:spPr>
            <a:xfrm>
              <a:off x="5508720" y="2276640"/>
              <a:ext cx="936360" cy="14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22"/>
          <p:cNvGrpSpPr/>
          <p:nvPr/>
        </p:nvGrpSpPr>
        <p:grpSpPr>
          <a:xfrm>
            <a:off x="1908000" y="4941720"/>
            <a:ext cx="4464000" cy="503280"/>
            <a:chOff x="1908000" y="4941720"/>
            <a:chExt cx="4464000" cy="503280"/>
          </a:xfrm>
        </p:grpSpPr>
        <p:sp>
          <p:nvSpPr>
            <p:cNvPr id="179" name="AutoShape 23"/>
            <p:cNvSpPr/>
            <p:nvPr/>
          </p:nvSpPr>
          <p:spPr>
            <a:xfrm>
              <a:off x="3995640" y="5013360"/>
              <a:ext cx="576360" cy="431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4"/>
            <p:cNvSpPr/>
            <p:nvPr/>
          </p:nvSpPr>
          <p:spPr>
            <a:xfrm>
              <a:off x="1908000" y="5013360"/>
              <a:ext cx="93528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5"/>
            <p:cNvSpPr/>
            <p:nvPr/>
          </p:nvSpPr>
          <p:spPr>
            <a:xfrm flipH="1">
              <a:off x="5866920" y="4941720"/>
              <a:ext cx="50508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Garamond"/>
              </a:rPr>
              <a:t>Trastornos Ansiosos</a:t>
            </a:r>
            <a:endParaRPr b="0" lang="en-US" sz="27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4272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92d050"/>
                </a:solidFill>
                <a:latin typeface="Arial"/>
              </a:rPr>
              <a:t>Disminución de sitios  de recaptación de dopamina 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en relación a control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92d050"/>
                </a:solidFill>
                <a:latin typeface="Arial"/>
              </a:rPr>
              <a:t>Elevada concentración de CRF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, con una hiperactividad del eje HPA y sistema nervioso autónom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92d050"/>
                </a:solidFill>
                <a:latin typeface="Arial"/>
              </a:rPr>
              <a:t>Hipercotisolismo induce fenómeno de Kindling en la amígdala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, perpetuando conducta hacia estímulos de amenaz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Existe una estrecha </a:t>
            </a:r>
            <a:r>
              <a:rPr b="0" lang="es-ES" sz="2100" spc="-1" strike="noStrike">
                <a:solidFill>
                  <a:srgbClr val="92d050"/>
                </a:solidFill>
                <a:latin typeface="Arial"/>
              </a:rPr>
              <a:t>conexión entre CRF y circuito noradrenérgic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CRF en el Locus Ceruleus incrementa reacción al stres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CRF disminuye  liberación de Serotonin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Serotonina disminuye liberación de NE, inhibiendo la amígdala, LC y la Stria Terminalis, disminuyendo la ansieda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Hipótesis: En los cuadros ansiosos está disminuida la acción inhibitoria de la Serotonin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006633"/>
                </a:solidFill>
                <a:latin typeface="Garamond"/>
              </a:rPr>
              <a:t>TRASTORNO POR ANSIEDAD GENERALIZADA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85" name="Picture 4" descr="foto ansiedad1"/>
          <p:cNvPicPr/>
          <p:nvPr/>
        </p:nvPicPr>
        <p:blipFill>
          <a:blip r:embed="rId1"/>
          <a:stretch/>
        </p:blipFill>
        <p:spPr>
          <a:xfrm>
            <a:off x="4822920" y="3257640"/>
            <a:ext cx="4321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3399"/>
                </a:solidFill>
                <a:latin typeface="Arial"/>
              </a:rPr>
              <a:t>Preocupación excesiva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que aparece en múltiples contextos en ausencia de una alteración orgánica que explique los síntomas, con una </a:t>
            </a:r>
            <a:r>
              <a:rPr b="0" lang="es-ES" sz="3000" spc="-1" strike="noStrike">
                <a:solidFill>
                  <a:srgbClr val="ff3399"/>
                </a:solidFill>
                <a:latin typeface="Arial"/>
              </a:rPr>
              <a:t>incapacidad de controlar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el grado de preocupación, alterando el desarrollo normal del niño o adolescente y generando deterioro social o académic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Los niños se preocupan por tod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006633"/>
                </a:solidFill>
                <a:latin typeface="Garamond"/>
              </a:rPr>
              <a:t>INTRODUCCIÓN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Grupo heterogéneo de patologí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Son de alta frecuencia: prevalencia global 5 al 10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Sus síntomas básicos son los temores y preocupac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6633"/>
                </a:solidFill>
                <a:latin typeface="Garamond"/>
              </a:rPr>
              <a:t>Preocupaciones: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mpet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prob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decuada conducta pasa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ventos futuros, puntuali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prensiones a temas de adul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Famil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eguri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alu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ventos mundiales y catástrofes natur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Asociado  a un síntoma somát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6008400" y="6375240"/>
            <a:ext cx="28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ACAP 2007, DSM IV 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6633"/>
                </a:solidFill>
                <a:latin typeface="Garamond"/>
              </a:rPr>
              <a:t>TAG: sintomatologí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ificultad para controlar las preocupaciones, para relajarse, para disfrut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erfeccionistas, búsqueda de aprobación, sobreadaptados, autocríticos, y sensibles a las críticas extern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reocupaciones más típicas son el rendimiento y competencia escolar y deportiva, seguridad propia y de la familia, catástrofes naturales y eventos futur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ificultad para concentrarse y procesar inform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xcesiva estructuración de la vi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975040" y="6256440"/>
            <a:ext cx="562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ACAP 2007, DSM IV TR, Nutter 2006, Wagner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6633"/>
                </a:solidFill>
                <a:latin typeface="Garamond"/>
              </a:rPr>
              <a:t>Criterios DSM-IV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100" spc="-1" strike="noStrike">
                <a:solidFill>
                  <a:srgbClr val="ff3399"/>
                </a:solidFill>
                <a:latin typeface="Arial"/>
              </a:rPr>
              <a:t>Ansiedad y preocupación excesiva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(expectación aprensiva) sobre una amplia gama de acontecimientos o actividades ( como el rendimiento escolar) , que  se prolongan por </a:t>
            </a:r>
            <a:r>
              <a:rPr b="0" lang="es-ES" sz="2100" spc="-1" strike="noStrike">
                <a:solidFill>
                  <a:srgbClr val="ff3399"/>
                </a:solidFill>
                <a:latin typeface="Arial"/>
              </a:rPr>
              <a:t>más de 6 mes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Al individuo le resulta </a:t>
            </a:r>
            <a:r>
              <a:rPr b="1" lang="es-ES" sz="2100" spc="-1" strike="noStrike">
                <a:solidFill>
                  <a:srgbClr val="ff3399"/>
                </a:solidFill>
                <a:latin typeface="Arial"/>
              </a:rPr>
              <a:t>difícil controlar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este estado de constante preocupa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a ansiedad y preocupación se asocian a tres de los sgtes. síntomas . EN NIÑOS SE REQUIERE 1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1.-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Inquietud e impacienci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2.-fatigabilidad faci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3.-dificultad para concentrarse o tener la mente en 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blanc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4.-irritabilida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5.-tensión muscula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6.-alteraciones del sueñ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Centro de la ansiedad y de la preocupación no se limita a a síntomas de un trastorno del eje 1: ej presentar una crisis de Pánico ( Trastorno de Pánico), pasarlo mal en publico( Fobia Social), contraer una enfermedad (TOC), estar lejos de los seres queridos ( AS),engordar (AN), no aparecen en transcurso de un TEP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a ansiedad, la preocupación o los síntomas físicos provocan malestar clínicamente significativo a deterioro soci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No se deben a efectos de sustancias o enfermedad medica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EPIDEMIOLOGÍ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Niños: 2,7 a 4,6 % (Anderson 1987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dolescentes: 3,6 a 7,3%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%(Bowen 1990, Kashani 1988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Mujeres: hombres 6:1 (Nutter 2006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acientes con TAG tienden a ser de mayor edad y pertenecen a grupos de mayor nivel socioeconómic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Factores familiares: alto grado de expectativas de los padres, padres hipercríticos, insistencia en el rendimiento o permisividad excesiv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Temperamento inhibi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Factores neurobiológic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006633"/>
                </a:solidFill>
                <a:latin typeface="Garamond"/>
              </a:rPr>
              <a:t>DG. DIFERENCIAL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atologías médicas: hipertiroidismo, consumo de drogas y abstinencia (examen toxicológico), D.M., LUPUS, entre otr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Tr. Psiquiátricos como TDAH, TGD, cuadros sicóticos o del ánim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TAG </a:t>
            </a:r>
            <a:r>
              <a:rPr b="0" lang="es-E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generalizado en todos los context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TAS </a:t>
            </a:r>
            <a:r>
              <a:rPr b="0" lang="es-E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es más fásic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6633"/>
                </a:solidFill>
                <a:latin typeface="Garamond"/>
              </a:rPr>
              <a:t>Pronóstic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rón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80% remisión a 3-4 años , 35% desarrollaron un nuevo trastorno psiquiátrico (Last 1996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6633"/>
                </a:solidFill>
                <a:latin typeface="Garamond"/>
              </a:rPr>
              <a:t>Evolución a largo plaz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Mientras más severos son los síntomas y mayor es la discapacidad en el funcionamiento, más probable que persista (Dadds 1997 &amp; 1999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Riesgo de desarrollar nuevos trastornos de ansiedad, depresión y abuso de sustancias (Pine 1998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Mayor riesgo de suicidio y hospitalización psiquiátrica en la adultez (Achenbach 1995, Ferdinand 1995, Reinblatt 2007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5549400" y="6329520"/>
            <a:ext cx="312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ACAP 2007, Reinblatt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006633"/>
                </a:solidFill>
                <a:latin typeface="Garamond"/>
              </a:rPr>
              <a:t>TRATAMIENTO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ebe ser integral </a:t>
            </a:r>
            <a:r>
              <a:rPr b="0" lang="es-E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combinar distintos enfoqu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Trabajo con los padr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*Evaluar tipo de víncul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*Apoyo para fomentar situaciones novedosa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*Evitar inhibición o retraimi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*Terapia famili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Psicoterap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3399"/>
                </a:solidFill>
                <a:latin typeface="Arial"/>
              </a:rPr>
              <a:t>Cognitivo-Conductual: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↓ reforzadores de conductas ansiosas con relajación, imaginería, declaraciones autoafirmativas y de autoinstrucción, así como la identificación de las cogniciones erróneas y sustitución por procesos adaptativ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Limitaciones funcionales importa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Están asociados con un impacto negativo en autoestima, aislamiento social, habilidades sociales inadecuadas y problemas académic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Factor de riesgo para psicopatología en la adulte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urso longitudinal  de trastornos ansios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6633"/>
                </a:solidFill>
                <a:latin typeface="Garamond"/>
              </a:rPr>
              <a:t>TRATAMIENTO FARMACOLÓGICO</a:t>
            </a:r>
            <a:r>
              <a:rPr b="0" lang="es-ES_tradnl" sz="29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Nunca la única forma de tratamien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R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*De 1º líne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↓perfil efectos colaterales, seguridad en cuanto a sobredosis, no requieren niveles p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Benzodiacepin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55640" y="155700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006633"/>
                </a:solidFill>
                <a:latin typeface="Garamond"/>
              </a:rPr>
              <a:t>TRASTORNO DE ANSIEDAD DE SEPARACIÓN</a:t>
            </a:r>
            <a:br>
              <a:rPr sz="4600"/>
            </a:b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3300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spectos clínic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a ansiedad de separación es el único trastorno ansioso de niños que forma parte del DSM IV bajo el capítulo “Trastornos habitualmente diagnosticados en la infancia y adolescencia”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a característica esencial es que el niño o adolescente experimenta un tremendo </a:t>
            </a:r>
            <a:r>
              <a:rPr b="0" lang="es-CL" sz="2600" spc="-1" strike="noStrike">
                <a:solidFill>
                  <a:srgbClr val="ff3399"/>
                </a:solidFill>
                <a:latin typeface="Arial"/>
              </a:rPr>
              <a:t>temor y ansiedad excesiva desencadenada por la separación, principalmente de la madre (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u otra persona significativa) o de su hoga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a ansiedad debe ser inapropiada para el nivel de desarrollo del niño y debe durar </a:t>
            </a:r>
            <a:r>
              <a:rPr b="0" lang="es-CL" sz="2600" spc="-1" strike="noStrike">
                <a:solidFill>
                  <a:srgbClr val="ff3399"/>
                </a:solidFill>
                <a:latin typeface="Arial"/>
              </a:rPr>
              <a:t>al menos 4 semana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8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6633"/>
                </a:solidFill>
                <a:latin typeface="Garamond"/>
              </a:rPr>
              <a:t>Aspectos Clínic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s particularmente importante distinguir la ansiedad de separación normal y anormal, debido a que tal ansiedad es un fenómeno normal desde los 7 meses a los 6 añ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Trastorno característico de la </a:t>
            </a:r>
            <a:r>
              <a:rPr b="0" lang="es-CL" sz="2600" spc="-1" strike="noStrike">
                <a:solidFill>
                  <a:srgbClr val="ff3399"/>
                </a:solidFill>
                <a:latin typeface="Arial"/>
              </a:rPr>
              <a:t>edad media escolar, entre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7 y 9 años de edad. Se reporta una prevalencia de AS entre </a:t>
            </a:r>
            <a:r>
              <a:rPr b="0" lang="es-CL" sz="2600" spc="-1" strike="noStrike">
                <a:solidFill>
                  <a:srgbClr val="ff3399"/>
                </a:solidFill>
                <a:latin typeface="Arial"/>
              </a:rPr>
              <a:t>2,4 a 5,4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%. Con mayor frecuencia en </a:t>
            </a:r>
            <a:r>
              <a:rPr b="0" lang="es-CL" sz="2600" spc="-1" strike="noStrike">
                <a:solidFill>
                  <a:srgbClr val="ff3399"/>
                </a:solidFill>
                <a:latin typeface="Arial"/>
              </a:rPr>
              <a:t>niñas que niñ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os niños pueden mostrar su malestar en forma </a:t>
            </a:r>
            <a:r>
              <a:rPr b="0" lang="es-CL" sz="2600" spc="-1" strike="noStrike">
                <a:solidFill>
                  <a:srgbClr val="ff3399"/>
                </a:solidFill>
                <a:latin typeface="Arial"/>
              </a:rPr>
              <a:t>anticipada a la separación, durante ella o la tratan de evita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6633"/>
                </a:solidFill>
                <a:latin typeface="Garamond"/>
              </a:rPr>
              <a:t>Aspectos Clínic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os niños con AS se resisten a la separación, aferrándose a sus padres, llorando, rogando que no se los deje o quejándose de molestias somátic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s-CL" sz="2600" spc="-1" strike="noStrike">
                <a:solidFill>
                  <a:srgbClr val="ff3399"/>
                </a:solidFill>
                <a:latin typeface="Arial"/>
              </a:rPr>
              <a:t>miedo subyacente es que algo malo le suceda a él o a sus figuras significativas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, lo que resultaría en una permanente separa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s-CL" sz="2600" spc="-1" strike="noStrike">
                <a:solidFill>
                  <a:srgbClr val="ff3399"/>
                </a:solidFill>
                <a:latin typeface="Arial"/>
              </a:rPr>
              <a:t>rechazo escolar y las excesivas quejas somáticas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son las principales razones por las cuales los  padres deciden consulta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6633"/>
                </a:solidFill>
                <a:latin typeface="Garamond"/>
              </a:rPr>
              <a:t>Síntoma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echazo o falta de asistencia esco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Miedo a estar sol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Negativa a dormir en su pie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esadillas con contenidos de temáticas de separ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Temor y preocupación que los seres queridos sufran daño durante la separ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Quejas somáticas sin causa orgánica demostrab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nductas de asegurami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006633"/>
                </a:solidFill>
                <a:latin typeface="Garamond"/>
              </a:rPr>
              <a:t>CRITERIOS DSM-IV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Ansiedad excesiva e inapropiada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cuando se produce una </a:t>
            </a: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separación de la persona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a la que se encuentra vinculado. Su manifestación debe presentar al menos tres de los síntomas sgte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 algn="just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alestar excesivo y recurrente </a:t>
            </a:r>
            <a:r>
              <a:rPr b="0" lang="es-ES" sz="2000" spc="-1" strike="noStrike">
                <a:solidFill>
                  <a:srgbClr val="ff3399"/>
                </a:solidFill>
                <a:latin typeface="Arial"/>
              </a:rPr>
              <a:t>ante la anticipación de la separ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 algn="just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99"/>
                </a:solidFill>
                <a:latin typeface="Arial"/>
              </a:rPr>
              <a:t>Preocupación persistente por la posible pérdid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o que puedan sufrir algún daño las personas a las que está vincul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 algn="just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ocupación excesiva porque </a:t>
            </a:r>
            <a:r>
              <a:rPr b="0" lang="es-ES" sz="2000" spc="-1" strike="noStrike">
                <a:solidFill>
                  <a:srgbClr val="ff3399"/>
                </a:solidFill>
                <a:latin typeface="Arial"/>
              </a:rPr>
              <a:t>algún acontecimient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pueda dar lugar a la separ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 algn="just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99"/>
                </a:solidFill>
                <a:latin typeface="Arial"/>
              </a:rPr>
              <a:t>Resistencia a ir a la escuela o a otro siti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por miedo a la separ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 algn="just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99"/>
                </a:solidFill>
                <a:latin typeface="Arial"/>
              </a:rPr>
              <a:t>Miedo a estar solo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casa sin las figuras vinculadas o adultos significativos en otros luga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006633"/>
                </a:solidFill>
                <a:latin typeface="Garamond"/>
              </a:rPr>
              <a:t>CRITERIOS DSM-IV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569880" algn="just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99"/>
                </a:solidFill>
                <a:latin typeface="Arial"/>
              </a:rPr>
              <a:t>Negativa a ir a dormir solo si no está acompañado por la figura significat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69880" algn="just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99"/>
                </a:solidFill>
                <a:latin typeface="Arial"/>
              </a:rPr>
              <a:t>Pesadill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on tema de sepa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69880" algn="just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99"/>
                </a:solidFill>
                <a:latin typeface="Arial"/>
              </a:rPr>
              <a:t>Quejas físicas cuando ocurre o se anticipa la separac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a duración es de </a:t>
            </a:r>
            <a:r>
              <a:rPr b="0" lang="es-ES" sz="2600" spc="-1" strike="noStrike">
                <a:solidFill>
                  <a:srgbClr val="ff3399"/>
                </a:solidFill>
                <a:latin typeface="Arial"/>
              </a:rPr>
              <a:t>al menos 4 seman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l inicio es antes de los 18 añ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a alteración genera interferencia y malestar significativ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No ocurre en el transcurso de otros tr. Siquiátric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specificar inicio temprano (antes de los 6 año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7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6633"/>
                </a:solidFill>
                <a:latin typeface="Garamond"/>
              </a:rPr>
              <a:t>Comorbilida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e asocia a otros </a:t>
            </a:r>
            <a:r>
              <a:rPr b="0" lang="es-CL" sz="2600" spc="-1" strike="noStrike">
                <a:solidFill>
                  <a:srgbClr val="ff3399"/>
                </a:solidFill>
                <a:latin typeface="Arial"/>
              </a:rPr>
              <a:t>trastorno de angustia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n el </a:t>
            </a:r>
            <a:r>
              <a:rPr b="0" lang="es-CL" sz="2600" spc="-1" strike="noStrike">
                <a:solidFill>
                  <a:srgbClr val="ff3399"/>
                </a:solidFill>
                <a:latin typeface="Arial"/>
              </a:rPr>
              <a:t>50%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de los casos y a </a:t>
            </a:r>
            <a:r>
              <a:rPr b="0" lang="es-CL" sz="2600" spc="-1" strike="noStrike">
                <a:solidFill>
                  <a:srgbClr val="ff3399"/>
                </a:solidFill>
                <a:latin typeface="Arial"/>
              </a:rPr>
              <a:t>depresión en el 30% de los casos.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La AS es el diagnóstico de la línea ansiosa más común en muestras de niños prepuberales con depres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Trastorno de </a:t>
            </a:r>
            <a:r>
              <a:rPr b="0" lang="es-CL" sz="2600" spc="-1" strike="noStrike">
                <a:solidFill>
                  <a:srgbClr val="ff3399"/>
                </a:solidFill>
                <a:latin typeface="Arial"/>
              </a:rPr>
              <a:t>ansiedad generalizada (33%) y fobias específicas (12%)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aparecen también dentro de las comorbilidades más frecuentes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6633"/>
                </a:solidFill>
                <a:latin typeface="Garamond"/>
              </a:rPr>
              <a:t>Curs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8487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No existe acuerdo respecto del curso a largo plazo de la 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in embargo se reconoc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0" lang="es-CL" sz="2600" spc="-1" strike="noStrike">
                <a:solidFill>
                  <a:srgbClr val="ff3399"/>
                </a:solidFill>
                <a:latin typeface="Arial"/>
              </a:rPr>
              <a:t>curso agudo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on </a:t>
            </a:r>
            <a:r>
              <a:rPr b="0" lang="es-CL" sz="2600" spc="-1" strike="noStrike">
                <a:solidFill>
                  <a:srgbClr val="ff3399"/>
                </a:solidFill>
                <a:latin typeface="Arial"/>
              </a:rPr>
              <a:t>exacerbaciones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en tiempos de stres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Niños con AS y </a:t>
            </a:r>
            <a:r>
              <a:rPr b="0" lang="es-CL" sz="2600" spc="-1" strike="noStrike">
                <a:solidFill>
                  <a:srgbClr val="ff3399"/>
                </a:solidFill>
                <a:latin typeface="Arial"/>
              </a:rPr>
              <a:t>recuperación prácticamente completa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. Sobre todo en niños cuya edad de inicio es más tempran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urso </a:t>
            </a:r>
            <a:r>
              <a:rPr b="0" lang="es-CL" sz="2600" spc="-1" strike="noStrike">
                <a:solidFill>
                  <a:srgbClr val="ff3399"/>
                </a:solidFill>
                <a:latin typeface="Arial"/>
              </a:rPr>
              <a:t>crónico caracterizado por periódicas exacerbaciones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, recurrencia y síntomas más persistent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Entre éstos encontramo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92d050"/>
                </a:solidFill>
                <a:latin typeface="Arial"/>
              </a:rPr>
              <a:t>Tr.  Ansiedad Generalizad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92d050"/>
                </a:solidFill>
                <a:latin typeface="Arial"/>
              </a:rPr>
              <a:t>Tr. de ansiedad por separ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92d050"/>
                </a:solidFill>
                <a:latin typeface="Arial"/>
              </a:rPr>
              <a:t>Fobia específica o simp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92d050"/>
                </a:solidFill>
                <a:latin typeface="Arial"/>
              </a:rPr>
              <a:t>Fobia so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Mutismo selectiv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92d050"/>
                </a:solidFill>
                <a:latin typeface="Arial"/>
              </a:rPr>
              <a:t>T. Pán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TEP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Una edad de inicio posterior, comorbilidad con otros trastornos psiquiátricos, psicopatología en la familia y pérdida de un año o más de escolaridad son variables asociadas a altas tasas de cronicidad del trastorno </a:t>
            </a:r>
            <a:r>
              <a:rPr b="0" lang="es-CL" sz="1700" spc="-1" strike="noStrike">
                <a:solidFill>
                  <a:srgbClr val="000000"/>
                </a:solidFill>
                <a:latin typeface="Bradley Hand ITC"/>
              </a:rPr>
              <a:t>(Black, 1995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Niños con AS presentan un alto riesgo de presentar en la adultez </a:t>
            </a:r>
            <a:r>
              <a:rPr b="0" lang="es-CL" sz="2600" spc="-1" strike="noStrike">
                <a:solidFill>
                  <a:srgbClr val="ff3399"/>
                </a:solidFill>
                <a:latin typeface="Arial"/>
              </a:rPr>
              <a:t>trastornos depresivos y fobia social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CL" sz="1700" spc="-1" strike="noStrike">
                <a:solidFill>
                  <a:srgbClr val="000000"/>
                </a:solidFill>
                <a:latin typeface="Bradley Hand ITC"/>
              </a:rPr>
              <a:t>Black, 1995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a AS en la infancia </a:t>
            </a:r>
            <a:r>
              <a:rPr b="0" lang="es-CL" sz="2600" spc="-1" strike="noStrike">
                <a:solidFill>
                  <a:srgbClr val="ff3399"/>
                </a:solidFill>
                <a:latin typeface="Arial"/>
              </a:rPr>
              <a:t>es un factor de riesgo para el desarrollo de trastorno de pánico o agorafobia en la adolescencia o adultez.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CL" sz="1700" spc="-1" strike="noStrike">
                <a:solidFill>
                  <a:srgbClr val="000000"/>
                </a:solidFill>
                <a:latin typeface="Bradley Hand ITC"/>
              </a:rPr>
              <a:t>Battaglia, 1995; Biederman, 1993; Gittelman and Klein, 1984; Moreau and Follet, 1993).</a:t>
            </a:r>
            <a:r>
              <a:rPr b="0" lang="es-CL" sz="1900" spc="-1" strike="noStrike">
                <a:solidFill>
                  <a:srgbClr val="000000"/>
                </a:solidFill>
                <a:latin typeface="Bradley Hand ITC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006633"/>
                </a:solidFill>
                <a:latin typeface="Garamond"/>
              </a:rPr>
              <a:t>DG.  DIFERENCIAL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Rechazo escol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Otros Trastornos Ansios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6633"/>
                </a:solidFill>
                <a:latin typeface="Garamond"/>
              </a:rPr>
              <a:t>Tratamiento Ansiedad de Separación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Tratamiento multimod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Individual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ema autonomía-depend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organización de estructuras cogni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lajación , imagin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Familiar: promover en los padres entender tanto las necesidades de protección como la independencia del niñ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ognitivo-conductual de grupo. Combinación de desensibilización sistemática, refuerzo positivo, model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Farmacoterapia: en conjunto con terapia cognitiva-conductual. SSRIs 1º elecció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600" spc="-1" strike="noStrike">
                <a:solidFill>
                  <a:srgbClr val="006633"/>
                </a:solidFill>
                <a:latin typeface="Garamond"/>
              </a:rPr>
              <a:t>Fobia Específica</a:t>
            </a:r>
            <a:endParaRPr b="0" lang="en-US" sz="5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6" descr="CAGL6VC5"/>
          <p:cNvPicPr/>
          <p:nvPr/>
        </p:nvPicPr>
        <p:blipFill>
          <a:blip r:embed="rId1"/>
          <a:stretch/>
        </p:blipFill>
        <p:spPr>
          <a:xfrm>
            <a:off x="5364000" y="4005360"/>
            <a:ext cx="3353040" cy="22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6633"/>
                </a:solidFill>
                <a:latin typeface="Garamond"/>
              </a:rPr>
              <a:t>Definición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Miedo marcado y persistente a objetos o situaciones circunscritas (estímulos fóbicos) tales como animales, sangre, alturas, espacios cerrados y volar, de manera que el niño/adolescente </a:t>
            </a:r>
            <a:r>
              <a:rPr b="0" lang="es-ES" sz="3000" spc="-1" strike="noStrike">
                <a:solidFill>
                  <a:srgbClr val="ff3399"/>
                </a:solidFill>
                <a:latin typeface="Arial"/>
              </a:rPr>
              <a:t>evita el estímulo cuando es posible o lo soporta con ansiedad intensa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” (APA 1994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Aspectos clínic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Miedo no es causado por vergüenza a hablar o hacer cosas en público ni a tener una crisis de pánic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a exposición al estímulo fóbico provoca </a:t>
            </a:r>
            <a:r>
              <a:rPr b="0" lang="es-ES" sz="2100" spc="-1" strike="noStrike">
                <a:solidFill>
                  <a:srgbClr val="ff3399"/>
                </a:solidFill>
                <a:latin typeface="Arial"/>
              </a:rPr>
              <a:t>ansiedad significativa, pudiendo llegar a una crisis de pánic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El miedo debe tener una duración </a:t>
            </a:r>
            <a:r>
              <a:rPr b="0" lang="es-ES" sz="2100" spc="-1" strike="noStrike">
                <a:solidFill>
                  <a:srgbClr val="ff3399"/>
                </a:solidFill>
                <a:latin typeface="Arial"/>
              </a:rPr>
              <a:t>mínima de 6 meses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e interferir con la rutina normal de la persona, sus relaciones sociales, su funcionamiento académico, o debe haber un malestar marcado sobre tener el mied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Aspectos clínic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os niños, a diferencia de los adolescentes y adultos, </a:t>
            </a:r>
            <a:r>
              <a:rPr b="0" lang="es-ES" sz="2100" spc="-1" strike="noStrike">
                <a:solidFill>
                  <a:srgbClr val="ff3399"/>
                </a:solidFill>
                <a:latin typeface="Arial"/>
              </a:rPr>
              <a:t>pueden no darse cuenta que el miedo es excesivo o irracion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3399"/>
                </a:solidFill>
                <a:latin typeface="Arial"/>
              </a:rPr>
              <a:t>Evitación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al ser expuestos o en anticipación al estímul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Gritar, llorar, buscar a sus figuras de apeg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Piensan que el estímulo puede dañarlos a ellos o a otr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Presentan </a:t>
            </a:r>
            <a:r>
              <a:rPr b="0" lang="es-ES" sz="2100" spc="-1" strike="noStrike">
                <a:solidFill>
                  <a:srgbClr val="ff3399"/>
                </a:solidFill>
                <a:latin typeface="Arial"/>
              </a:rPr>
              <a:t>ansiedad anticipator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6633"/>
                </a:solidFill>
                <a:latin typeface="Garamond"/>
              </a:rPr>
              <a:t>Criterios diagnósticos del DSM IV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Miedo marcado y persistente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 que es excesivo o irracional, desencadenado por la presencia o anticipación de un objeto o situación específic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La exposición al estímulo fóbico casi invariablemente </a:t>
            </a: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provoca ansiedad que puede tomar la forma de una crisis de pánico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 relacionada a la situación o a la anticipación. Nota: En niños, la ansiedad puede ser expresada a través del </a:t>
            </a:r>
            <a:r>
              <a:rPr b="0" lang="es-ES" sz="1500" spc="-1" strike="noStrike" u="sng">
                <a:solidFill>
                  <a:srgbClr val="000000"/>
                </a:solidFill>
                <a:uFillTx/>
                <a:latin typeface="Arial"/>
              </a:rPr>
              <a:t>llanto, pataletas, congelamiento o alejamiento de situaciones sociales con desconocido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La persona </a:t>
            </a: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reconoce que este miedo es excesivo o irracional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. Nota: </a:t>
            </a:r>
            <a:r>
              <a:rPr b="0" lang="es-ES" sz="1500" spc="-1" strike="noStrike" u="sng">
                <a:solidFill>
                  <a:srgbClr val="000000"/>
                </a:solidFill>
                <a:uFillTx/>
                <a:latin typeface="Arial"/>
              </a:rPr>
              <a:t>Este criterio puede estar ausente en niño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situación fóbica es evitada o soportada con intensa ansiedad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 o malestar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La evitación, la ansiedad anticipatoria o el malestar en la situación fóbica interfiere significativamente con la rutina normal de la persona, su funcionamiento ocupacional (académico), sus actividades o relaciones sociales, o existe un malestar intenso sobre sufrir la fobi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Arial"/>
              <a:buAutoNum type="alpha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En individuos menores de 18 años la duración es de al menos 6 m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Arial"/>
              <a:buAutoNum type="alpha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La ansiedad, las crisis de pánico o la evitación fóbica asociada al objeto o situación específica no es explicada mejor por otra enfermedad mental, como TOC, TEPT, TAG, TAS, fobia social, trastorno de pánico con agorafobia, o agorafobia sin trastorno de pánic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Epidemiologí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revalencia: </a:t>
            </a:r>
            <a:r>
              <a:rPr b="0" lang="es-ES" sz="3000" spc="-1" strike="noStrike">
                <a:solidFill>
                  <a:srgbClr val="ff3399"/>
                </a:solidFill>
                <a:latin typeface="Arial"/>
              </a:rPr>
              <a:t>2,4-3,3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Más frecuente en niñas que niñ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Relación inversamente proporcional a nivel socioeconóm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6633"/>
                </a:solidFill>
                <a:latin typeface="Garamond"/>
              </a:rPr>
              <a:t>Desde la perspectiva del desarrollo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e cree que la aparición de fobias </a:t>
            </a:r>
            <a:r>
              <a:rPr b="0" lang="es-ES" sz="2600" spc="-1" strike="noStrike">
                <a:solidFill>
                  <a:srgbClr val="ff3399"/>
                </a:solidFill>
                <a:latin typeface="Arial"/>
              </a:rPr>
              <a:t>es paralela a los miedos normales de la infancia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(en relación a edad de aparición y foco del mied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a mayoría empieza alrededor de los </a:t>
            </a:r>
            <a:r>
              <a:rPr b="0" lang="es-ES" sz="2600" spc="-1" strike="noStrike">
                <a:solidFill>
                  <a:srgbClr val="ff3399"/>
                </a:solidFill>
                <a:latin typeface="Arial"/>
              </a:rPr>
              <a:t>7 años o entre los 10 y los 13 años de e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as fobias específicas deben ser diferenciadas de los miedos normales de la infa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Tienden a mejorar en el tiempo espontáneam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006633"/>
                </a:solidFill>
                <a:latin typeface="Garamond"/>
              </a:rPr>
              <a:t>ANGUSTIA Y ANSIEDAD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afbf39"/>
                </a:solidFill>
                <a:latin typeface="Arial"/>
              </a:rPr>
              <a:t>ANSIEDAD</a:t>
            </a:r>
            <a:r>
              <a:rPr b="0" lang="es-ES" sz="3000" spc="-1" strike="noStrike">
                <a:solidFill>
                  <a:srgbClr val="000066"/>
                </a:solidFill>
                <a:latin typeface="Arial"/>
              </a:rPr>
              <a:t>; </a:t>
            </a: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actitud de espera de un acontecimiento desagradable </a:t>
            </a:r>
            <a:r>
              <a:rPr b="0" lang="es-ES" sz="3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 niños con conocimiento cognitivo suficient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afbf39"/>
                </a:solidFill>
                <a:latin typeface="Arial"/>
              </a:rPr>
              <a:t>ANGUSTIA;</a:t>
            </a: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 emoción básica intensa, desagradable </a:t>
            </a:r>
            <a:r>
              <a:rPr b="0" lang="es-ES" sz="3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 captación de un peligro inminente que amenaza aspectos esenciales de la existencia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Tipo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230040" y="1828800"/>
            <a:ext cx="149580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b812f"/>
                </a:solidFill>
                <a:latin typeface="Arial"/>
              </a:rPr>
              <a:t>Tipo ani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228600" y="2895480"/>
            <a:ext cx="170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icio infa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1905480" y="1828800"/>
            <a:ext cx="184968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b812f"/>
                </a:solidFill>
                <a:latin typeface="Arial"/>
              </a:rPr>
              <a:t>Tipo ambi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1905120" y="2895480"/>
            <a:ext cx="1844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tuaciones d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aturaleza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enómen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tmosféric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icio en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fa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7"/>
          <p:cNvSpPr/>
          <p:nvPr/>
        </p:nvSpPr>
        <p:spPr>
          <a:xfrm>
            <a:off x="3885120" y="1828800"/>
            <a:ext cx="1527840" cy="1008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b812f"/>
                </a:solidFill>
                <a:latin typeface="Arial"/>
              </a:rPr>
              <a:t>Tipo sang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b812f"/>
                </a:solidFill>
                <a:latin typeface="Arial"/>
              </a:rPr>
              <a:t>Inye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b812f"/>
                </a:solidFill>
                <a:latin typeface="Arial"/>
              </a:rPr>
              <a:t>da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8"/>
          <p:cNvSpPr/>
          <p:nvPr/>
        </p:nvSpPr>
        <p:spPr>
          <a:xfrm>
            <a:off x="3812040" y="2895480"/>
            <a:ext cx="1907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er sangre 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eridas, recibi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yecciones 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tr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cedimien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vasiv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cidenc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amili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spues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asovagal 75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las perso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icio infa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9"/>
          <p:cNvSpPr/>
          <p:nvPr/>
        </p:nvSpPr>
        <p:spPr>
          <a:xfrm>
            <a:off x="5410440" y="1828800"/>
            <a:ext cx="195012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b812f"/>
                </a:solidFill>
                <a:latin typeface="Arial"/>
              </a:rPr>
              <a:t>Tipo situ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0"/>
          <p:cNvSpPr/>
          <p:nvPr/>
        </p:nvSpPr>
        <p:spPr>
          <a:xfrm>
            <a:off x="7466400" y="1828800"/>
            <a:ext cx="141228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b812f"/>
                </a:solidFill>
                <a:latin typeface="Arial"/>
              </a:rPr>
              <a:t>Otros tip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5638680" y="2971800"/>
            <a:ext cx="1600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ransporte público, túneles, puentes, ascensores, aviones, autos o espacios cer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icio adultez tempr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2"/>
          <p:cNvSpPr/>
          <p:nvPr/>
        </p:nvSpPr>
        <p:spPr>
          <a:xfrm>
            <a:off x="7543800" y="2971800"/>
            <a:ext cx="1600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tragantarse, vomitar,  adquirir una enfermedad, tener cáncer o sida.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n los niños a los ruidos fuertes o las personas disfraz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Diagnóstico diferencia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on otras fobias y trastornos de ansie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La comorbilidad es frecuente con otros trastornos ansios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TO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TE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Tratamient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xisten pocos estud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xposición gradual (desensibilización) junto a manejo y contención y estrategias de autocontr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a terapia conductual es la primera elec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os psicofármacos no han demostrado efectiv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5" descr=""/>
          <p:cNvPicPr/>
          <p:nvPr/>
        </p:nvPicPr>
        <p:blipFill>
          <a:blip r:embed="rId1"/>
          <a:stretch/>
        </p:blipFill>
        <p:spPr>
          <a:xfrm>
            <a:off x="5989680" y="2638440"/>
            <a:ext cx="22320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040" y="1944720"/>
            <a:ext cx="7623000" cy="89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300" spc="-1" strike="noStrike">
                <a:solidFill>
                  <a:srgbClr val="008000"/>
                </a:solidFill>
                <a:latin typeface="Garamond"/>
              </a:rPr>
              <a:t>Fobia Social</a:t>
            </a:r>
            <a:endParaRPr b="0" lang="en-US" sz="63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67" name="Picture 6" descr="CAD6Q80D"/>
          <p:cNvPicPr/>
          <p:nvPr/>
        </p:nvPicPr>
        <p:blipFill>
          <a:blip r:embed="rId1"/>
          <a:stretch/>
        </p:blipFill>
        <p:spPr>
          <a:xfrm>
            <a:off x="2268360" y="3181320"/>
            <a:ext cx="424836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Definició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La fobia social es un </a:t>
            </a:r>
            <a:r>
              <a:rPr b="0" lang="es-ES" sz="3000" spc="-1" strike="noStrike">
                <a:solidFill>
                  <a:srgbClr val="ff3399"/>
                </a:solidFill>
                <a:latin typeface="Arial"/>
              </a:rPr>
              <a:t>miedo persistente a una o más situaciones sociales en que una persona está expuesta a personas desconocidas o al escrutinio de parte de otros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” (APA 1994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Epidemiologí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revalencia de  </a:t>
            </a:r>
            <a:r>
              <a:rPr b="0" lang="es-ES" sz="3000" spc="-1" strike="noStrike">
                <a:solidFill>
                  <a:srgbClr val="ff3399"/>
                </a:solidFill>
                <a:latin typeface="Arial"/>
              </a:rPr>
              <a:t>1%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de niños y adolescentes, (probablemente subdiagnosticada en niño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revalencia de vida de </a:t>
            </a:r>
            <a:r>
              <a:rPr b="0" lang="es-ES" sz="3000" spc="-1" strike="noStrike">
                <a:solidFill>
                  <a:srgbClr val="ff3399"/>
                </a:solidFill>
                <a:latin typeface="Arial"/>
              </a:rPr>
              <a:t>3 a 13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Aspectos clínic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Ansiedad específica en contexto de grupos, inicio insidioso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La exposición a la situación social temida provoca </a:t>
            </a:r>
            <a:r>
              <a:rPr b="0" lang="es-ES" sz="1500" spc="-1" strike="noStrike">
                <a:solidFill>
                  <a:srgbClr val="ff3399"/>
                </a:solidFill>
                <a:latin typeface="Arial"/>
              </a:rPr>
              <a:t>ansiedad, temor a vergüenza y ataques de pánic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Situaciones desencadenantes: hablar frente a otros, reuniones sociales, tratar con figuras de autoridad, actuar en público y hablar con extrañ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3399"/>
                </a:solidFill>
                <a:latin typeface="Arial"/>
              </a:rPr>
              <a:t>Evitación de estas situaciones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, malestar  extremo al enfrentarlas, </a:t>
            </a:r>
            <a:r>
              <a:rPr b="0" lang="es-ES" sz="1500" spc="-1" strike="noStrike">
                <a:solidFill>
                  <a:srgbClr val="ff3399"/>
                </a:solidFill>
                <a:latin typeface="Arial"/>
              </a:rPr>
              <a:t>no considerar este miedo excesivo o irracion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Temor a que otros </a:t>
            </a:r>
            <a:r>
              <a:rPr b="0" lang="es-CL" sz="1500" spc="-1" strike="noStrike">
                <a:solidFill>
                  <a:srgbClr val="ff3399"/>
                </a:solidFill>
                <a:latin typeface="Arial"/>
              </a:rPr>
              <a:t>los critiquen</a:t>
            </a: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 o les </a:t>
            </a:r>
            <a:r>
              <a:rPr b="0" lang="es-CL" sz="1500" spc="-1" strike="noStrike">
                <a:solidFill>
                  <a:srgbClr val="ff3399"/>
                </a:solidFill>
                <a:latin typeface="Arial"/>
              </a:rPr>
              <a:t>encuentren defectos</a:t>
            </a: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 (considerarlos raros, poco atractivos, o estúpidos) o a </a:t>
            </a:r>
            <a:r>
              <a:rPr b="0" lang="es-CL" sz="1500" spc="-1" strike="noStrike">
                <a:solidFill>
                  <a:srgbClr val="ff3399"/>
                </a:solidFill>
                <a:latin typeface="Arial"/>
              </a:rPr>
              <a:t>hacer </a:t>
            </a: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s-CL" sz="1500" spc="-1" strike="noStrike">
                <a:solidFill>
                  <a:srgbClr val="ff3399"/>
                </a:solidFill>
                <a:latin typeface="Arial"/>
              </a:rPr>
              <a:t>decir algo tonto</a:t>
            </a: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lang="es-CL" sz="1500" spc="-1" strike="noStrike">
                <a:solidFill>
                  <a:srgbClr val="ff3399"/>
                </a:solidFill>
                <a:latin typeface="Arial"/>
              </a:rPr>
              <a:t>vergonzos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ff3399"/>
                </a:solidFill>
                <a:latin typeface="Arial"/>
              </a:rPr>
              <a:t>Síntomas somáticos</a:t>
            </a: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: palpitaciones, sudoración, ruborización, temblor, mareos y malestar gastrointestin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Preocupación excesiva sobre la vergüenza, evaluación negativa y rechaz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3b812f"/>
                </a:solidFill>
                <a:latin typeface="Garamond"/>
              </a:rPr>
              <a:t>Formas clínica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5" name="Oval 3"/>
          <p:cNvSpPr/>
          <p:nvPr/>
        </p:nvSpPr>
        <p:spPr>
          <a:xfrm>
            <a:off x="1258920" y="2205000"/>
            <a:ext cx="2521080" cy="2448000"/>
          </a:xfrm>
          <a:prstGeom prst="ellipse">
            <a:avLst/>
          </a:prstGeom>
          <a:gradFill rotWithShape="0">
            <a:gsLst>
              <a:gs pos="0">
                <a:srgbClr val="009900"/>
              </a:gs>
              <a:gs pos="100000">
                <a:srgbClr val="004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66"/>
                </a:solidFill>
                <a:latin typeface="Arial"/>
              </a:rPr>
              <a:t>Generaliz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364000" y="2205000"/>
            <a:ext cx="2521080" cy="2448000"/>
          </a:xfrm>
          <a:prstGeom prst="ellipse">
            <a:avLst/>
          </a:prstGeom>
          <a:gradFill rotWithShape="0">
            <a:gsLst>
              <a:gs pos="0">
                <a:srgbClr val="996600"/>
              </a:gs>
              <a:gs pos="100000">
                <a:srgbClr val="47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66"/>
                </a:solidFill>
                <a:latin typeface="Arial"/>
              </a:rPr>
              <a:t>Discreta 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66"/>
                </a:solidFill>
                <a:latin typeface="Arial"/>
              </a:rPr>
              <a:t>específ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5580000" y="4941720"/>
            <a:ext cx="23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siedad de rendimiento y específica a una o dos situ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6"/>
          <p:cNvSpPr/>
          <p:nvPr/>
        </p:nvSpPr>
        <p:spPr>
          <a:xfrm>
            <a:off x="900000" y="4869000"/>
            <a:ext cx="3260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mplia variedad de situaciones sociales. Personalidad evitativo-fóbica (vergüenza patológica). Otros personalidades esquizoides o esquizotíp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6633"/>
                </a:solidFill>
                <a:latin typeface="Garamond"/>
              </a:rPr>
              <a:t>Criterios diagnósticos del DSM IV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Miedo marcado y persistente a una o más situaciones sociales en que una persona está expuesta a personas desconocidas o al escrutinio de parte de otros. El individuo teme que él o ella actuará de una manera (o mostrará síntomas ansiosos) que serán humillantes o vergonzosos. Nota: </a:t>
            </a:r>
            <a:r>
              <a:rPr b="0" lang="es-ES" sz="1500" spc="-1" strike="noStrike" u="sng">
                <a:solidFill>
                  <a:srgbClr val="000000"/>
                </a:solidFill>
                <a:uFillTx/>
                <a:latin typeface="Arial"/>
              </a:rPr>
              <a:t>en niños debe haber evidencia de la capacidad de relaciones sociales adecuadas para la edad con personas familiares y la ansiedad debe ocurrir en ambientes con sus pares y no sólo en relación a los adulto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La exposición a la situación social temida casi invariablemente provoca ansiedad que puede tomar la forma de una crisis de pánico relacionada a la situación o a la anticipación. Nota: </a:t>
            </a:r>
            <a:r>
              <a:rPr b="0" lang="es-ES" sz="1500" spc="-1" strike="noStrike" u="sng">
                <a:solidFill>
                  <a:srgbClr val="000000"/>
                </a:solidFill>
                <a:uFillTx/>
                <a:latin typeface="Arial"/>
              </a:rPr>
              <a:t>En niños, la ansiedad puede ser expresada a través del llanto, pataletas, congelamiento o alejamiento de situaciones sociales con desconocido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La persona reconoce que este miedo es excesivo o irracional. Nota: </a:t>
            </a:r>
            <a:r>
              <a:rPr b="0" lang="es-ES" sz="1500" spc="-1" strike="noStrike" u="sng">
                <a:solidFill>
                  <a:srgbClr val="000000"/>
                </a:solidFill>
                <a:uFillTx/>
                <a:latin typeface="Arial"/>
              </a:rPr>
              <a:t>Este criterio puede estar ausente en niño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La situación social temida es evitada o soportada con intensa ansiedad o malestar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6633"/>
                </a:solidFill>
                <a:latin typeface="Garamond"/>
              </a:rPr>
              <a:t>Criterios diagnósticos del DSM IV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Arial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La evitación, la ansiedad anticipatoria o el malestar en la situación social temida interfiere significativamente con la rutina normal de la persona, su funcionamiento ocupacional (académico), sus actividades o relaciones sociales, o existe un malestar intenso sobre sufrir la fobi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Arial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En individuos menores de 18 años la duración es de al menos 6 mes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Arial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El miedo o la evitación no son debidos a los efectos fisiológicos directos de una sustancia (por ej, drogas ilícitas o fármacos) o una condición médica general, y no es explicada por otro trastorno mental (por ej, trastorno de pánico con o sin agorafobia, trastorno por ansiedad de separación, trastorno dismórfico corporal, trastornos generalizados del desarrollo o trastorno de personalidad esquizoide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Arial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Si existe una condición médica general u otro trastorno mental, el miedo del criterio A no está relacionado a éste, por ej, no es miedo a Espasmofemia, al temblor en la Enfermedad de Parkinson, a exhibir conductas alimentarias anormales en Anorexia o Bulimia Nervios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006633"/>
                </a:solidFill>
                <a:latin typeface="Garamond"/>
              </a:rPr>
              <a:t>ANGUSTIA Y ANSIEDAD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afbf39"/>
                </a:solidFill>
                <a:latin typeface="Arial"/>
              </a:rPr>
              <a:t>ANGUSTIA NORM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ado que lleva a una serie de manifestaciones somáticas frente a una situación estimada como peligro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ermite la adaptación y es protect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usa externa objetiv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 inherente a la vida hum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igada a nuevas experiencias y períodos críticos de desarr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ne en estado de ale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IÑO TIENE LA CAPACIDAD DE RECUPERARSE, CUANDO EL ESTÍMULO DESAPARE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6633"/>
                </a:solidFill>
                <a:latin typeface="Garamond"/>
              </a:rPr>
              <a:t>Desde la perspectiva del desarrollo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a fobia social se diagnostica con mayor frecuencia en </a:t>
            </a:r>
            <a:r>
              <a:rPr b="0" lang="es-ES" sz="2100" spc="-1" strike="noStrike">
                <a:solidFill>
                  <a:srgbClr val="ff3399"/>
                </a:solidFill>
                <a:latin typeface="Arial"/>
              </a:rPr>
              <a:t>adolescentes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, aunque hay casos descritos de los 8 años de eda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El inicio en promedio es a los 11,3 a 12,3 añ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Presentación difiere según eda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iños pequeños: pataletas frecuentes y muy apegados a sus padres, mutismo selec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dolescentes: alejamiento de reuniones familiares, sociales y de relaciones con los p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Evolución y pronóstic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uando la fobia social no es diagnosticada, puede acarrear problemas a futuro: rechazo escolar, abandono escolar, interferencia en el desarrollo ocupacional, falla de integrarse a la fuerza laboral, dificultad para establecer relaciones afectiv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Diagnóstico diferencia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e debe clarificar la naturaleza central del miedo específica a interacciones o actuaciones frente a otr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Trastorno de pán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Trastorno de ansiedad generaliz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Fobia específ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Trastorno por ansiedad de separ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Trastorno obsesivo-compulsiv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Oposicionismo desafia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Trast. Personalidad Evitativa?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6633"/>
                </a:solidFill>
                <a:latin typeface="Garamond"/>
              </a:rPr>
              <a:t>Tratamient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68360" y="2057040"/>
            <a:ext cx="4038480" cy="36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studios sobre terapia cognitivo conductual la privilegian sobre otros modos de trata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-refuerzo positiv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-desensibilización    sintomat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-modela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-exposición gradu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-exposición en viv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5" descr=""/>
          <p:cNvPicPr/>
          <p:nvPr/>
        </p:nvPicPr>
        <p:blipFill>
          <a:blip r:embed="rId1"/>
          <a:stretch/>
        </p:blipFill>
        <p:spPr>
          <a:xfrm>
            <a:off x="4649760" y="2325600"/>
            <a:ext cx="403704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sicofármacos pueden formar parte de un tratamiento multimodal, pero no son el único tratamiento (SSRIs). Paroxetina, Sertralina efectiva en adul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06633"/>
                </a:solidFill>
                <a:latin typeface="Garamond"/>
              </a:rPr>
              <a:t>Trastorno de pánico con o sin agorafobia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6633"/>
                </a:solidFill>
                <a:latin typeface="Garamond"/>
              </a:rPr>
              <a:t>Trastorno de pánic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ste trastorno se caracteriza por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risis de angustia repetidas e inesperadas, seguida de temores y preocupaciones persistentes respecto a futuras crisis y las consecuencias de las mism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 observa este trastorno especialmente en adolescentes, a pesar que también se ha descrito en niñ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6633"/>
                </a:solidFill>
                <a:latin typeface="Garamond"/>
              </a:rPr>
              <a:t>Prevalenci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35.9% a un 63.3% de los adolescentes han experimentado ataques de pánico (muestra comunitari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3399"/>
                </a:solidFill>
                <a:latin typeface="Arial"/>
              </a:rPr>
              <a:t>0.6% a 4.7%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los síntomas cumplen los criterios del DSM-IV, población escolar adolescente. Predominio mujeres 2:1. Raro antes de la puberta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La agorafobia varía entre 2.5 y 5.8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6633"/>
                </a:solidFill>
                <a:latin typeface="Garamond"/>
              </a:rPr>
              <a:t>Según DSM-IV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Un ataque de pánico es un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discreto periodo de intenso miedo o discomfort, de inicio brusco, que alcanza su máxima intensidad en 10 minutos y es acompañado de al menos 4 de los 13 síntomas somáticos o cognitiv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Síntomas somátic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Respiración entrecorta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Taquicard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Dolor precordi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Sensación de ahog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Vértig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Desmayo  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Hormigueo o adormecimient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Flash de frío o calo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Sudora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Temblor o sacudid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Náusea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ANGUSTIA NORMAL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stancia objetal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angustia de separación (6-8 me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ctantes: ruidos fuertes, improvistos, extrañ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eescolares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miedos animales, oscuridad, monstruos, ansiedad separación norm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etapa escolar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año físico y eventos natu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la adolescencia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ansiedad social, interpersonal y rendimiento esco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madurez emocional, experiencias de aprendizaje permiten superar los mie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uris 1998, Vasey 199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  <a:ea typeface="Times New Roman"/>
              </a:rPr>
              <a:t>Síntomas cognitiv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Miedo a mori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Volverse lo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Perder el contr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Desrealización (sensación de irrealida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Despersonalización (estar separado de uno mism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demás, para el diagnóstico de trastorno de pánico, deben existir </a:t>
            </a:r>
            <a:r>
              <a:rPr b="0" lang="es-CL" sz="3000" spc="-1" strike="noStrike">
                <a:solidFill>
                  <a:srgbClr val="ff3399"/>
                </a:solidFill>
                <a:latin typeface="Arial"/>
              </a:rPr>
              <a:t>varias crisis inesperadas en el período de un mes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ebe causar </a:t>
            </a:r>
            <a:r>
              <a:rPr b="0" lang="es-CL" sz="3000" spc="-1" strike="noStrike">
                <a:solidFill>
                  <a:srgbClr val="ff3399"/>
                </a:solidFill>
                <a:latin typeface="Arial"/>
              </a:rPr>
              <a:t>persistente preocupación sobre tener otro ataque,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sus implicancias y consecuencias y generar un deterioro del funcionamiento general del individuo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  <a:ea typeface="Times New Roman"/>
              </a:rPr>
              <a:t>Agorafobi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Angustia que presenta el individuo </a:t>
            </a:r>
            <a:r>
              <a:rPr b="0" lang="es-CL" sz="2600" spc="-1" strike="noStrike">
                <a:solidFill>
                  <a:srgbClr val="ff3399"/>
                </a:solidFill>
                <a:latin typeface="Arial"/>
              </a:rPr>
              <a:t>al sentirse solo,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600" spc="-1" strike="noStrike">
                <a:solidFill>
                  <a:srgbClr val="ff3399"/>
                </a:solidFill>
                <a:latin typeface="Arial"/>
              </a:rPr>
              <a:t>sin ayuda, en lugares concurridos o situaciones en que no puede escapar fácilmen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sto lleva a que se generen patrones persistentes de </a:t>
            </a:r>
            <a:r>
              <a:rPr b="0" lang="es-ES_tradnl" sz="2600" spc="-1" strike="noStrike">
                <a:solidFill>
                  <a:srgbClr val="ff3399"/>
                </a:solidFill>
                <a:latin typeface="Arial"/>
              </a:rPr>
              <a:t>evitaci</a:t>
            </a:r>
            <a:r>
              <a:rPr b="0" lang="es-ES_tradnl" sz="2600" spc="-1" strike="noStrike">
                <a:solidFill>
                  <a:srgbClr val="ff3399"/>
                </a:solidFill>
                <a:latin typeface="Georgia"/>
              </a:rPr>
              <a:t>ó</a:t>
            </a:r>
            <a:r>
              <a:rPr b="0" lang="es-ES_tradnl" sz="2600" spc="-1" strike="noStrike">
                <a:solidFill>
                  <a:srgbClr val="ff3399"/>
                </a:solidFill>
                <a:latin typeface="Arial"/>
              </a:rPr>
              <a:t>n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a estas situacion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uando las enfrentan, presentan intenso distress y miedo. Deben ser acompa</a:t>
            </a:r>
            <a:r>
              <a:rPr b="0" lang="es-ES_tradnl" sz="2600" spc="-1" strike="noStrike">
                <a:solidFill>
                  <a:srgbClr val="000000"/>
                </a:solidFill>
                <a:latin typeface="Georgia"/>
              </a:rPr>
              <a:t>ñ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dos de otras persona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6633"/>
                </a:solidFill>
                <a:latin typeface="Garamond"/>
              </a:rPr>
              <a:t>Situaciones..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star solo fuera de ca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star en una multitu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star en una fila, en la mitad de un puen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Miedo a ciertos medios de transpor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star en un shopping mall o en un cin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La mayoría de los síntomas que presentan los adolescentes so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74"/>
              </a:spcBef>
              <a:buClr>
                <a:srgbClr val="3b812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mblores, mareos, lipotimia, náusea, palpitaciones, respiración entrecortada y sudoración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500" spc="-1" strike="noStrike">
                <a:solidFill>
                  <a:srgbClr val="000000"/>
                </a:solidFill>
                <a:latin typeface="Monotype Corsiva"/>
              </a:rPr>
              <a:t>(</a:t>
            </a:r>
            <a:r>
              <a:rPr b="0" lang="es-ES_tradnl" sz="1500" spc="-1" strike="noStrike">
                <a:solidFill>
                  <a:srgbClr val="000000"/>
                </a:solidFill>
                <a:latin typeface="Bradley Hand ITC"/>
              </a:rPr>
              <a:t>Kearny et al.,1997; King et al.,1997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3399"/>
                </a:solidFill>
                <a:latin typeface="Arial"/>
              </a:rPr>
              <a:t>Síntomas cognitivos son reportados con menor frecuencia que los síntomas somáticos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500" spc="-1" strike="noStrike">
                <a:solidFill>
                  <a:srgbClr val="000000"/>
                </a:solidFill>
                <a:latin typeface="Monotype Corsiva"/>
              </a:rPr>
              <a:t>(</a:t>
            </a:r>
            <a:r>
              <a:rPr b="0" lang="es-ES_tradnl" sz="1500" spc="-1" strike="noStrike">
                <a:solidFill>
                  <a:srgbClr val="000000"/>
                </a:solidFill>
                <a:latin typeface="Bradley Hand ITC"/>
              </a:rPr>
              <a:t>King et al.,1997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La situación más comúnmente evitada es en la cual el paciente se encuentra con </a:t>
            </a:r>
            <a:r>
              <a:rPr b="0" lang="es-ES_tradnl" sz="2100" spc="-1" strike="noStrike">
                <a:solidFill>
                  <a:srgbClr val="ff3399"/>
                </a:solidFill>
                <a:latin typeface="Arial"/>
              </a:rPr>
              <a:t>gran número de personas desconocidas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 (restaurant, cine, auditorios) </a:t>
            </a:r>
            <a:r>
              <a:rPr b="0" lang="es-ES_tradnl" sz="1700" spc="-1" strike="noStrike">
                <a:solidFill>
                  <a:srgbClr val="000000"/>
                </a:solidFill>
                <a:latin typeface="Bradley Hand ITC"/>
              </a:rPr>
              <a:t>(Kearny et al, 1997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6633"/>
                </a:solidFill>
                <a:latin typeface="Garamond"/>
              </a:rPr>
              <a:t>Perspectiva del desarrollo..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l comienzo </a:t>
            </a:r>
            <a:r>
              <a:rPr b="0" lang="es-CL" sz="2600" spc="-1" strike="noStrike">
                <a:solidFill>
                  <a:srgbClr val="ff3399"/>
                </a:solidFill>
                <a:latin typeface="Arial"/>
              </a:rPr>
              <a:t>antes de los 17 años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s especialmente perjudicial, ya que presentan un </a:t>
            </a:r>
            <a:r>
              <a:rPr b="0" lang="es-CL" sz="2600" spc="-1" strike="noStrike">
                <a:solidFill>
                  <a:srgbClr val="ff3399"/>
                </a:solidFill>
                <a:latin typeface="Arial"/>
              </a:rPr>
              <a:t>alto riesgo de abuso de alcohol, ideación e intentos suicidas y consultas en servicios de urgencia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, en comparación con el inicio después de los 18 años </a:t>
            </a:r>
            <a:r>
              <a:rPr b="0" lang="es-CL" sz="1900" spc="-1" strike="noStrike">
                <a:solidFill>
                  <a:srgbClr val="000000"/>
                </a:solidFill>
                <a:latin typeface="Monotype Corsiva"/>
              </a:rPr>
              <a:t>(</a:t>
            </a:r>
            <a:r>
              <a:rPr b="0" lang="es-CL" sz="1900" spc="-1" strike="noStrike">
                <a:solidFill>
                  <a:srgbClr val="000000"/>
                </a:solidFill>
                <a:latin typeface="Bradley Hand ITC"/>
              </a:rPr>
              <a:t>Moreau, 1993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Diagnóstico Diferencia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on otros trastornos ansios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Tipos de crisis de pánic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Inesperadas o espontane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ituacion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redispuestas situacionalme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Distinción difícil en niños por atribución externa de sus experienci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Curso y pronostic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Trastornos de pánico no tratados seguiría su curso al adul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Tratamient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sicoterapia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TCC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reentrenamiento respiratorio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Relaj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utoinstrucción positiv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Farmacoterapia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SRI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BZ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343240" y="3075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6633"/>
                </a:solidFill>
                <a:latin typeface="Garamond"/>
              </a:rPr>
              <a:t>¿PREGUNTAS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3b812f"/>
                </a:solidFill>
                <a:latin typeface="Garamond"/>
              </a:rPr>
              <a:t>ANGUSTIA PATOLÓGICA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Sentimiento de aprensión: “algo terrible va a ocurrir”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Más pequeño </a:t>
            </a:r>
            <a:r>
              <a:rPr b="0" lang="es-ES" sz="2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mayor expresión somátic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Mayor edad </a:t>
            </a:r>
            <a:r>
              <a:rPr b="0" lang="es-ES" sz="2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conduct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Objeto angustia patológica </a:t>
            </a:r>
            <a:r>
              <a:rPr b="0" lang="es-ES" sz="2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patrón etari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Infancia </a:t>
            </a:r>
            <a:r>
              <a:rPr b="0" lang="es-ES" sz="2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fobia anima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Infancia tardía </a:t>
            </a:r>
            <a:r>
              <a:rPr b="0" lang="es-ES" sz="2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desempeño y angustia de separació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Adolescencia </a:t>
            </a:r>
            <a:r>
              <a:rPr b="0" lang="es-ES" sz="2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fobia soci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Incapacidad de recuperarse al desaparecer el estimul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Afecta áreas del desarroll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Hay sufrimiento y poca flexibilidad de la respuesta afectiv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Comorbilida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º entre distintos desordenes ansiosos:  90% en T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2º Depres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nsiedad precede a la Depresión en un 67%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ES" sz="2000" spc="-1" strike="noStrike">
                <a:solidFill>
                  <a:srgbClr val="000000"/>
                </a:solidFill>
                <a:latin typeface="Bradley Hand ITC"/>
              </a:rPr>
              <a:t>Kovacs 198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nsiedad precede a la Depresión entre 5 a 7 años, en adultos jóvenes.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ES" sz="2000" spc="-1" strike="noStrike">
                <a:solidFill>
                  <a:srgbClr val="000000"/>
                </a:solidFill>
                <a:latin typeface="Bradley Hand ITC"/>
              </a:rPr>
              <a:t>Ernst, 1992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videncia menor: SDAH, T.Conduc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7T22:42:02Z</dcterms:created>
  <dc:creator>veri</dc:creator>
  <dc:description/>
  <dc:language>en-US</dc:language>
  <cp:lastModifiedBy>cote</cp:lastModifiedBy>
  <dcterms:modified xsi:type="dcterms:W3CDTF">2009-10-14T15:42:01Z</dcterms:modified>
  <cp:revision>63</cp:revision>
  <dc:subject/>
  <dc:title>Trastornos ansiosos</dc:title>
</cp:coreProperties>
</file>