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7261-1449-4C0F-A672-C765A8C1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8D9B-7A81-4696-BD06-2A75E935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47B-0151-4CBF-83BF-D4C98437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1A4B-8B8C-4AA2-A005-5B205F6B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A40-AEFC-4B9A-A0DD-2AFF57F9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23A-92B7-42A3-960C-9C289816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F0F-3155-4915-B3D8-62128DAB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B30B-F5AB-40BB-83FB-144035A2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D14-E60A-46D9-A122-81EE193C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AA0D-7115-4C80-AA46-0FB7F3D7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9971-38DB-4337-8FFF-B5CF2BC0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6CB6-D97A-49CC-ABA9-12A03C63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59D6-A85F-49FB-A20D-50B4DFC18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IOS MENDELIANOS DE LA HERENCIA Y CONCEPTOS DE FENOTIPO Y GENO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URSO DE GENETICA PARA CARRERA DE TECNOLOGIA ME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. Raúl Godoy-Herrera, Programa de Genética Humana, ICBM; Facultad de Medicina, Universidad de Ch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0000"/>
                </a:solidFill>
                <a:latin typeface="Palatino Linotype"/>
              </a:rPr>
              <a:t>(</a:t>
            </a:r>
            <a:r>
              <a:rPr b="1" i="1" lang="es-ES_tradnl" sz="3400" spc="-1" strike="noStrike">
                <a:solidFill>
                  <a:srgbClr val="ff0000"/>
                </a:solidFill>
                <a:latin typeface="Palatino Linotype"/>
              </a:rPr>
              <a:t>definiciones…</a:t>
            </a:r>
            <a:r>
              <a:rPr b="1" lang="es-ES_tradnl" sz="3400" spc="-1" strike="noStrike">
                <a:solidFill>
                  <a:srgbClr val="ff0000"/>
                </a:solidFill>
                <a:latin typeface="Palatino Linotype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84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ff99"/>
                </a:solidFill>
                <a:uFillTx/>
                <a:latin typeface="Palatino Linotype"/>
              </a:rPr>
              <a:t>Homocigoto</a:t>
            </a:r>
            <a:r>
              <a:rPr b="0" lang="es-ES" sz="2400" spc="-1" strike="noStrike">
                <a:solidFill>
                  <a:srgbClr val="00ff99"/>
                </a:solidFill>
                <a:latin typeface="Palatino Linotype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Individuo que para un gen dado tiene en cada cromosoma homólogo el mismo tipo de alelo, por ejemplo, AA o aa. Las líneas puras son homocigotas para el gen de interé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ff99"/>
                </a:solidFill>
                <a:uFillTx/>
                <a:latin typeface="Palatino Linotype"/>
              </a:rPr>
              <a:t>Heterocigoto</a:t>
            </a:r>
            <a:r>
              <a:rPr b="0" lang="es-ES" sz="2400" spc="-1" strike="noStrike">
                <a:solidFill>
                  <a:srgbClr val="00ff99"/>
                </a:solidFill>
                <a:latin typeface="Palatino Linotype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Palatino Linotype"/>
              </a:rPr>
              <a:t> Individuo que para un gen dado tiene en cada cromosoma homólogo un alelo distinto, por ejemplo, Aa. También se denomina híbr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4038480" cy="13194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651640" y="4365720"/>
            <a:ext cx="2766960" cy="19746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0" y="620280"/>
            <a:ext cx="39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IO DE LA SEGREG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581040"/>
            <a:ext cx="43243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IO DE LA TRASMISION INDEPE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3394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LOS GENES ESTAN EN LOS CROMOSOMAS UBICADOS EN EL NUCL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33680" y="2057400"/>
            <a:ext cx="40766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TEORIA PARTICULADA DE LA H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ff33"/>
                </a:solidFill>
                <a:latin typeface="Arial"/>
              </a:rPr>
              <a:t>SOSTIENE QUE LOS RASGOS O CARACTERISTICAS DE LOS INDIVIDUOS SE TRASMITEN DE UNA GENERACION A OTRA A TRAVES DE LOS GE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ESTOS SON PARTICULAS QUE SE HEREDAN EN PAREJAS Y QUE PROVIENEN UNA DE LA MADRE Y LA OTRA DEL PADRE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GENES DE CADA PAREJA SON CAPACES DE SEGREGAR (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Primera Ley de Mendel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LOS GENES DE CADA PAREJA SE TRANSMITEN A LOS DESCENDIENTES, INDEPENDIENTE DE LA TRANSMISION DE LOS GENES DE OTRAS PAREJAS (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Segunda Ley de Mendel</a:t>
            </a: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ECTO DEL AMBIENTE SOBRE EL GEN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92360" y="1943280"/>
            <a:ext cx="566892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37200" y="27432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FERENCIAS FENOTIP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424656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600" y="-27000"/>
            <a:ext cx="90694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1280" y="1311120"/>
            <a:ext cx="7812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NOTIPO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das las características observables en los individuos: Morfológicas, Fisiológicas, Conductuales, Moleculares. La principal característica del fenotipo es cambiar en el transcurso de la vida de un individu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07640" y="3836520"/>
            <a:ext cx="637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GEN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El conjunto de genes heredados de la madre y del padre. Salvo mutaciones, los genes recibidos de los progenitores no cambian durante el período de vida de un indivdu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7559640" cy="1143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A DE REACCION DE UN GEN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571480" cy="4200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635280" y="1916280"/>
            <a:ext cx="44625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ERENCIA, NUTRICION, AMBIEN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33256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DIMIENTOS DE LA GENE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O DE LINEAS P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SO DE CEPAS GENETICAMEN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ETEROGEN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USO DE AMBIENTE HOMOGE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USO DE AMBIENTE HETEROGE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UZAMIENTOS RECIPRO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CRUZAMIENTO DE PRUE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CRUZAMIENTOS RETRO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ELIMINACION DE GENES O REGIONES ESPECIFICAS DE UN CROMOS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772400" cy="1470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TONES KNOCK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76360" y="3621240"/>
            <a:ext cx="6400800" cy="17524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A TRAVES DE UN PROCEDIMIENTO DE INGENIERIA GENETICA SE LOGRA SACAR UN GEN O INACTIVARLO POR UNA MUTAC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1430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TONES KNOCK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8229600" cy="22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SE MODIFICAN GENES A TRAVES DE LA INSERCION DE UNA MOLECULA O REACTIVO. ESTE REACTIVO PUEDE SER UNA SECUENCIA CORTA DE NUCLEOTIDOS DE DNA O DE R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98920" y="620280"/>
            <a:ext cx="3744720" cy="63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zas Hum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84360" y="2239920"/>
            <a:ext cx="42753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HERENCIA Y VARI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76640" y="2119320"/>
            <a:ext cx="402408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GORIO MEN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38098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NÉTICA MENDEL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57200" y="1600200"/>
            <a:ext cx="3048120" cy="3979800"/>
            <a:chOff x="457200" y="1600200"/>
            <a:chExt cx="3048120" cy="39798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3048120" cy="39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 txBox="1"/>
            <p:nvPr/>
          </p:nvSpPr>
          <p:spPr>
            <a:xfrm>
              <a:off x="457200" y="1600200"/>
              <a:ext cx="3048120" cy="397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92000" y="1125360"/>
            <a:ext cx="5256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Experimentos y Observaciones sobre la Hibridización en los vegetales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” (1866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us descubrimientos no fueron valorados hasta inicios del s. XX, después de su mue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decuada elección del material de estudio: la arveja común se puede autopolinizar, es de fácil manejo y presenta altas tasas de reprodu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so del método experimental: implementó análisis estadís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n sus 8 años de estudio usó 34 variedades de arvejas y 28 mil pla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57340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822-18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LO IGUAL DA ORIGEN A LO IG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71880" y="1700280"/>
            <a:ext cx="3000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4540320" cy="496728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24000" y="3686040"/>
            <a:ext cx="3671640" cy="2823480"/>
          </a:xfrm>
          <a:prstGeom prst="upArrowCallout">
            <a:avLst>
              <a:gd name="adj1" fmla="val 22675"/>
              <a:gd name="adj2" fmla="val 20204"/>
              <a:gd name="adj3" fmla="val 14579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flor es capaz de autopoliniza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proceso de polinización ocurre antes de la apertura de la flor, lo que la protege del polen extr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080" y="414360"/>
            <a:ext cx="553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Palatino Linotype"/>
              </a:rPr>
              <a:t>Pisum  sativum</a:t>
            </a:r>
            <a:r>
              <a:rPr b="1" lang="es-ES_tradnl" sz="2600" spc="-1" strike="noStrike">
                <a:solidFill>
                  <a:srgbClr val="000000"/>
                </a:solidFill>
                <a:latin typeface="Palatino Linotype"/>
              </a:rPr>
              <a:t> (arveja comú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2340000" cy="2468880"/>
          </a:xfrm>
          <a:prstGeom prst="rect">
            <a:avLst/>
          </a:prstGeom>
          <a:ln w="349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Palatino Linotype"/>
              </a:rPr>
              <a:t>Características de su 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3708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udió 7 caracteres discre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leccionó líneas puras (homocigotas) para el carácter que quería estudiar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-360" y="4076280"/>
            <a:ext cx="86756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cada cruzamiento consideró sólo uno o dos caracteres a la vez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guisantes se pueden autopolinizar pero también pueden polinizarse por fecundación cruzada, con lo que se pueden cruzar dos razas puras diferentes para uno o más caracte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24360" y="1413000"/>
            <a:ext cx="5059440" cy="261756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6T17:24:58Z</dcterms:created>
  <dc:creator>Raul Godoy</dc:creator>
  <dc:description/>
  <dc:language>en-US</dc:language>
  <cp:lastModifiedBy>Fac. de Medicina</cp:lastModifiedBy>
  <dcterms:modified xsi:type="dcterms:W3CDTF">2009-07-27T12:25:20Z</dcterms:modified>
  <cp:revision>25</cp:revision>
  <dc:subject/>
  <dc:title>Diapositiva 1</dc:title>
</cp:coreProperties>
</file>