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49F2-D98C-49B4-BD91-C3E1D596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4470-9210-453F-ACCD-3F6E4A27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8DC3-4556-4A0D-930B-F41DD0FB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8C2A-0793-4D3F-BEDC-1C60B082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C877-002C-42FE-A407-A6EA720F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0AC2-AC9D-4DBA-96D2-651106D2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0882-9C92-4A04-9F31-D330C50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552B-B6B2-4C2D-8CED-A098F7DE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574C-070A-45F1-A9CF-5BD6503E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0CCE-3159-4B03-92BB-6E697BA3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8B85-4099-40D4-8D73-1E4B09E1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29A7-3ED6-4CB6-AC89-F302C1A0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E7C9-D992-4229-A933-799AF7D0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A174-9059-4136-BDE1-71F5D895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8A53-3455-4A04-8EA8-41992A2A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0233-A33C-4340-9536-D94FE241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AACC-D3D7-4E90-B6AE-AD3D0397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0275-13CA-44EA-842A-1B85FB55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39D9-385F-4789-A2AF-24EFFA5A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E9FD7-821A-41CB-B0CB-28F8597E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F9867-59C2-41F3-A221-F9357627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058B-C6D6-4D14-A843-5A271AD6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2B9B-5041-4D84-87F7-3E66E292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12EE5-6AB9-46D5-829A-FEBF0343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05BD-FA90-46A1-94CD-D0A67541D2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E79F-BA79-48EA-ADA7-121ACB62A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516720" y="4797360"/>
            <a:ext cx="2266920" cy="15051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Ocupacional Complex: 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¿Hecho o artefacto?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iencia en Ac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4508640"/>
            <a:ext cx="1944720" cy="178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 de difusión v/s modelo de tra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de difusión (TO) nadie da forma a la ciencia y tecnología sino al principio, la única explicación reside en los/las fundadoras (CO/TO). Separación de la ciencia-técnica de lo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 de traducción (sociodrama /tecnograma) relaciones heterogé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ilemas de la ciencia como una construcción de hech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seguir la ciencia en ac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abandonar la subjetividad u objetividad que nos pueda generar una afirmación y debemos rastrear su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-abandonar la suficiencia de la naturaleza y contabilizar los recursos y colaboraciones que los científicos reunieron para imposibilitar cualquier dise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cupacional complex como ciencia en 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icultades y oportun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508720" y="3141720"/>
            <a:ext cx="1944720" cy="1787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63640" y="3284640"/>
            <a:ext cx="2266920" cy="150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tour, 1992. Ciencia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kc y Lawlor, 2009. The making and mattering of occupational science. En Blesedell, Chon, Boyte &amp; Shell, 2009. Willard &amp; Spackman’s Occupational Ther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claración de historia de la ciencia a un análisis de la CO/TO como ciencia e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Hecho o artefac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rtefacto: algo que se creía verdadero y deviene falso, por si mismo un enunciado no es hecho ni ficción, son enunciados posteriores lo que lo convierten como 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cajas negras…Ocupacional Complex (TO/CO): una caja abierta en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encia de la ocupación: ciencia emergente y disciplina envolvente” (Clark y Lawlor,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ientras una máquina esta siendo construida no puede convencerse a nadie se su buen funcionamiento” (Latour, 199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6360" y="1989000"/>
            <a:ext cx="2746440" cy="2643480"/>
            <a:chOff x="6156360" y="1989000"/>
            <a:chExt cx="2746440" cy="26434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6156360" y="1989000"/>
              <a:ext cx="2746440" cy="264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6156360" y="1989000"/>
              <a:ext cx="2746440" cy="264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 una retórica débil a una más fue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oversi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“el proceso de elaboración de ciencia lleva una mezcla turbulenta, muy diferentes del método y la actividad científ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dalidades posi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unciados que aportan una afirmación de sus condiciones de producción, haciéndola suficientemente sólida para inducir consecuencias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odalidades negativ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enunciados que aportan una afirmación de sus condiciones de producción, explicando en detalle el porque su solidez o debilidad sin apuntar a consecuencias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tórica científ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67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roducir a los amigos (aliados numerosos y de al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erirse a textos anteriores, volviéndola favorable a lo que se af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itado por textos posteriores (Science citation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onstrucción de hechos es un proceso cole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las modalidad positiva continúa actuando, se hará tan conocido que no será necesario hablar de eso “El SH es un ser ocupacional”, el H2O 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300720" y="2060640"/>
            <a:ext cx="2386080" cy="3806640"/>
            <a:chOff x="6300720" y="2060640"/>
            <a:chExt cx="2386080" cy="380664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300720" y="2060640"/>
              <a:ext cx="2386080" cy="38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6300720" y="2060640"/>
              <a:ext cx="2386080" cy="380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xtos resist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554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tículos que se refuerzan a sí mismos por medio de referentes que aparecen en el texto (gráficos, tablas, imáge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umular sin que genere de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uscar imagen del lector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texto que acumula cajas negras y argumentos difícilmente discut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659640" y="2205000"/>
            <a:ext cx="1738080" cy="1808280"/>
            <a:chOff x="6659640" y="2205000"/>
            <a:chExt cx="1738080" cy="18082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6659640" y="2205000"/>
              <a:ext cx="1738080" cy="18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6659640" y="2205000"/>
              <a:ext cx="1738080" cy="180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7d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xtos resist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6991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scrip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estructura que proporciones una exposición visual de cualquier tipo en un texto científic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tav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os o personas que hablan y afirman lo que los autores quieren dec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umular más cajas neg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r nuevos ali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129040" cy="22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ncluye una controversia cuando se recurre a la natural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3467160" cy="33368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uién tenga la naturaleza de su parte gana, sin importar a quién se enfren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aturaleza causa/consecu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erpretación que los constructores de hechos hacen de sus intereses y de los intereses que la gente reclut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/CO y promoción de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/CO y C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amela Gutierrez Monclus, Metodología de la Investigación 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Octubr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3:51:09Z</dcterms:created>
  <dc:creator>Fac. de Medicina</dc:creator>
  <dc:description/>
  <dc:language>en-US</dc:language>
  <cp:lastModifiedBy>Fac. de Medicina</cp:lastModifiedBy>
  <dcterms:modified xsi:type="dcterms:W3CDTF">2009-10-19T14:10:43Z</dcterms:modified>
  <cp:revision>3</cp:revision>
  <dc:subject/>
  <dc:title>Ocupacional Complex:  ¿Hecho o artefacto? Ciencia en Acción</dc:title>
</cp:coreProperties>
</file>