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B6F-A327-40D5-B44D-6DDDA5D7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D0C-793E-4040-A117-A2E41C22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AEC-2FD7-4EA4-BFCD-6EE6BEF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0FC-04A6-4B5E-88FD-55CC217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331-BA55-454D-BA2F-B4CE701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F84-AAFD-4D32-AAD7-649B9DAF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0D4-9C5F-49CB-9AD8-63B25E5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987-C695-42E7-A841-5EA8D42B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DED-404A-438B-B1C9-464C06C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F28-F42E-466A-A8C9-C075065E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16A-E360-4F0C-AAD7-A7007A4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7E7-EA1D-49AE-91E3-E3E6CD3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F73-DFB2-4DBC-B3E9-498CE0F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0D1-5161-4683-9CB0-F93F877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A2A6-1EB5-4C7B-ABAE-D4B83A6CFA8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5080" cy="588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que los cambios epidemiológicos producidos en Chile en los últimos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Actuales: Distribución de la población chilena según sexo y edad, proyecció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038480" y="626256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CEPAL/CELADE: Boletín Demográfico. Especial Fecund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2871188"/>
          <p:cNvPicPr/>
          <p:nvPr/>
        </p:nvPicPr>
        <p:blipFill>
          <a:blip r:embed="rId1"/>
          <a:stretch/>
        </p:blipFill>
        <p:spPr>
          <a:xfrm>
            <a:off x="1403280" y="1433520"/>
            <a:ext cx="639756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5400720" cy="69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DICADORES VITAL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0" y="2788920"/>
            <a:ext cx="6553440" cy="2320920"/>
          </a:xfrm>
          <a:prstGeom prst="rect">
            <a:avLst/>
          </a:prstGeom>
          <a:solidFill>
            <a:srgbClr val="ffcc99"/>
          </a:solidFill>
          <a:ln w="19080">
            <a:solidFill>
              <a:srgbClr val="bbe0e3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alidad (por 1.000 hab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general (por 1.000 hab.)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infantil (por 1.000 NV.)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materna (por 100.000 NV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.8</a:t>
            </a: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2268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ánchez</cp:lastModifiedBy>
  <dcterms:modified xsi:type="dcterms:W3CDTF">2010-08-23T23:49:28Z</dcterms:modified>
  <cp:revision>55</cp:revision>
  <dc:subject/>
  <dc:title>Leopoldo María Panero: biografía</dc:title>
</cp:coreProperties>
</file>