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5.jpeg" ContentType="image/jpeg"/>
  <Override PartName="/ppt/media/image26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ff33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460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Escuela de Kinesiolo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380880"/>
            <a:ext cx="380880" cy="38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3880" y="380880"/>
            <a:ext cx="381240" cy="381240"/>
          </a:xfrm>
          <a:prstGeom prst="rect">
            <a:avLst/>
          </a:prstGeom>
          <a:solidFill>
            <a:srgbClr val="ff33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2120" y="76320"/>
            <a:ext cx="380880" cy="380880"/>
          </a:xfrm>
          <a:prstGeom prst="rect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838080"/>
            <a:ext cx="381240" cy="381240"/>
          </a:xfrm>
          <a:prstGeom prst="rect">
            <a:avLst/>
          </a:prstGeom>
          <a:solidFill>
            <a:srgbClr val="0099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124080" y="6248520"/>
            <a:ext cx="3430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32440" y="4191120"/>
            <a:ext cx="21096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37000" y="4191120"/>
            <a:ext cx="211320" cy="210960"/>
          </a:xfrm>
          <a:prstGeom prst="rect">
            <a:avLst/>
          </a:prstGeom>
          <a:solidFill>
            <a:srgbClr val="ff33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0066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4191120"/>
            <a:ext cx="211320" cy="210960"/>
          </a:xfrm>
          <a:prstGeom prst="rect">
            <a:avLst/>
          </a:prstGeom>
          <a:solidFill>
            <a:srgbClr val="0099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4080" y="417600"/>
            <a:ext cx="33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FACULTAD DE MEDI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ESCUELA DE KINESIOLO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31920"/>
            <a:ext cx="685800" cy="1039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762120"/>
            <a:ext cx="380880" cy="380880"/>
          </a:xfrm>
          <a:prstGeom prst="rect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219320"/>
            <a:ext cx="380880" cy="380880"/>
          </a:xfrm>
          <a:prstGeom prst="rect">
            <a:avLst/>
          </a:prstGeom>
          <a:solidFill>
            <a:srgbClr val="ff33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752480"/>
            <a:ext cx="380880" cy="381240"/>
          </a:xfrm>
          <a:prstGeom prst="rect">
            <a:avLst/>
          </a:prstGeom>
          <a:solidFill>
            <a:srgbClr val="0099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219320"/>
            <a:ext cx="380880" cy="380880"/>
          </a:xfrm>
          <a:prstGeom prst="rect">
            <a:avLst/>
          </a:prstGeom>
          <a:solidFill>
            <a:srgbClr val="ffff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447920"/>
            <a:ext cx="304920" cy="3045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304920" cy="304920"/>
          </a:xfrm>
          <a:prstGeom prst="rect">
            <a:avLst/>
          </a:prstGeom>
          <a:solidFill>
            <a:srgbClr val="ff3300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676520"/>
            <a:ext cx="5867280" cy="759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ites.google.com/site/tecnologiaumce/Fotoadri1.gif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neuro.com/publications/dizzy/3walkinggait.gif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20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2060640"/>
            <a:ext cx="7632720" cy="180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VALUACIÓN   CLÍNICA 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ÁSICA  E   INTEGRAL DE 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LA  BIPEDESTACIÓN  Y  LA  MARCHA</a:t>
            </a:r>
            <a:endParaRPr b="0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87280" y="4437000"/>
            <a:ext cx="554364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Examen de la condición física y la conducta moto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II  Año Kinesiología 2010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 Narrow"/>
              </a:rPr>
              <a:t>Prof. As. Klgo Rodrigo Rojo Castr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 Narrow"/>
              </a:rPr>
              <a:t>Lic. En Kinesiologí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 Narrow"/>
              </a:rPr>
              <a:t>Mg. © en Kinesiologí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 Narrow"/>
              </a:rPr>
              <a:t>Especialista DENAK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03640" y="981000"/>
            <a:ext cx="3600360" cy="100800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MPLEMENTOS + comu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916280"/>
            <a:ext cx="2232000" cy="205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495680"/>
            <a:ext cx="2451240" cy="188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421000"/>
            <a:ext cx="2880000" cy="17524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700360" y="1989000"/>
            <a:ext cx="1511280" cy="8766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71640" y="1916280"/>
            <a:ext cx="431640" cy="26557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1916280"/>
            <a:ext cx="1224000" cy="4330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2060640"/>
            <a:ext cx="201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Los que transfieren peso a E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Carro, bastón muleta, parale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4508640"/>
            <a:ext cx="2519640" cy="17773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Los que disminuyen el efecto de la grave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Mesa basculante, piscina, arnés con eslin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421000"/>
            <a:ext cx="2808360" cy="17773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Los que reemplazan la función de muscul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Órtesis, electroestimulación funcio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material-04.jpg (13144 bytes)"/>
          <p:cNvPicPr/>
          <p:nvPr/>
        </p:nvPicPr>
        <p:blipFill>
          <a:blip r:embed="rId1"/>
          <a:stretch/>
        </p:blipFill>
        <p:spPr>
          <a:xfrm>
            <a:off x="250920" y="3213000"/>
            <a:ext cx="2949480" cy="350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material-03.jpg (12161 bytes)"/>
          <p:cNvPicPr/>
          <p:nvPr/>
        </p:nvPicPr>
        <p:blipFill>
          <a:blip r:embed="rId2"/>
          <a:stretch/>
        </p:blipFill>
        <p:spPr>
          <a:xfrm>
            <a:off x="6516720" y="2994120"/>
            <a:ext cx="982800" cy="386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material-02.jpg (19383 bytes)"/>
          <p:cNvPicPr/>
          <p:nvPr/>
        </p:nvPicPr>
        <p:blipFill>
          <a:blip r:embed="rId3"/>
          <a:stretch/>
        </p:blipFill>
        <p:spPr>
          <a:xfrm>
            <a:off x="7956720" y="3006720"/>
            <a:ext cx="628560" cy="3851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276720" y="3860640"/>
            <a:ext cx="2819160" cy="2563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9640" y="836640"/>
            <a:ext cx="4608720" cy="205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052640"/>
            <a:ext cx="439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mplementos (muy comunes) que descargan peso de las EEII y las transfieren  a las EES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Carro, bastón muleta, parale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2205000"/>
            <a:ext cx="576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8000" y="2133720"/>
            <a:ext cx="2159280" cy="28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213000"/>
            <a:ext cx="410544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2205000"/>
            <a:ext cx="547380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Paralelas.jpg image by mundokinesio"/>
          <p:cNvPicPr/>
          <p:nvPr/>
        </p:nvPicPr>
        <p:blipFill>
          <a:blip r:embed="rId5"/>
          <a:stretch/>
        </p:blipFill>
        <p:spPr>
          <a:xfrm>
            <a:off x="5580000" y="765000"/>
            <a:ext cx="3245040" cy="181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3780000" y="1773360"/>
            <a:ext cx="20872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0" r="16456" b="0"/>
          <a:stretch/>
        </p:blipFill>
        <p:spPr>
          <a:xfrm>
            <a:off x="4427640" y="3789360"/>
            <a:ext cx="4392360" cy="2944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3230640"/>
            <a:ext cx="4038840" cy="362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3181320" cy="3505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907920"/>
            <a:ext cx="4897440" cy="14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mplementos o dispositivos que disminuyen el efecto de la gravedad (situaciones poco frecuentes en la clínic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arnés con eslinga mesa basculante,, pisc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2349360"/>
            <a:ext cx="720720" cy="180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349360"/>
            <a:ext cx="3097080" cy="25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2205000"/>
            <a:ext cx="23050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819520" cy="2563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3284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4360" y="981000"/>
            <a:ext cx="604836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mplementos o o dispositivos que reemplazan la función de musculatura antigravi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Órtesis, electroestimulación funcio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2205000"/>
            <a:ext cx="576360" cy="338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060640"/>
            <a:ext cx="2736720" cy="35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252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i la posición de pie no es “independiente sin implementos”, y requiere de algún tipo de ayuda, significa, necesariamente que esa ayuda está compensando o ayudando a una función defic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      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Por lo tanto “algo” no está bien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¿Qué función o capacidad del paciente podría ser deficiente, que explique el hecho de requerir esta ayud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068640"/>
            <a:ext cx="4464000" cy="30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3141720"/>
            <a:ext cx="4248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Podría no ser capaz de tolerar la posición, por ejemplo por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No poder transmitir el peso corporal por los elabones óse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No poder proveer la energía necesa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No tener la capacidad ortostática que requiere la 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3068640"/>
            <a:ext cx="3780000" cy="30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3213000"/>
            <a:ext cx="3384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Aún cuando lo anterior estuviera bien además podría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 Narrow"/>
              </a:rPr>
              <a:t>Tener un equilibrio deficiente, por lo que algunos de estos implementos aumentan su base de sustentación (sea por falla sensorial, integración o efecto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3672000" cy="403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I par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Ya sabemos 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de qué se vale para permanecer de p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i el paciente mantiene la posición de pie “en forma independiente”, (con o sin implementos).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¿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Qué paso podemos dar ahora dentro de nuestra evaluació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102280" y="907920"/>
            <a:ext cx="3593880" cy="5473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66680" y="1219320"/>
            <a:ext cx="7177320" cy="68580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 Narrow"/>
              </a:rPr>
              <a:t>¿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s la estabilidad independiente? (c/s imp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2362320"/>
            <a:ext cx="2590920" cy="685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2421000"/>
            <a:ext cx="2749680" cy="68580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047760" y="1905120"/>
            <a:ext cx="1523880" cy="5331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981080"/>
            <a:ext cx="1447920" cy="3812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505320"/>
            <a:ext cx="4419720" cy="914400"/>
          </a:xfrm>
          <a:prstGeom prst="downArrowCallout">
            <a:avLst>
              <a:gd name="adj1" fmla="val 120848"/>
              <a:gd name="adj2" fmla="val 120837"/>
              <a:gd name="adj3" fmla="val 16667"/>
              <a:gd name="adj4" fmla="val 66667"/>
            </a:avLst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 Narrow"/>
              </a:rPr>
              <a:t>Aumento grado  de  dificult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647960" y="3124080"/>
            <a:ext cx="1143000" cy="3812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3048120"/>
            <a:ext cx="1584360" cy="741240"/>
          </a:xfrm>
          <a:prstGeom prst="ellipse">
            <a:avLst/>
          </a:prstGeom>
          <a:solidFill>
            <a:srgbClr val="ccff33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 Narrow"/>
              </a:rPr>
              <a:t>¿cóm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4360" y="4365720"/>
            <a:ext cx="7993080" cy="2049480"/>
            <a:chOff x="684360" y="4365720"/>
            <a:chExt cx="7993080" cy="2049480"/>
          </a:xfrm>
        </p:grpSpPr>
        <p:sp>
          <p:nvSpPr>
            <p:cNvPr id="215" name=""/>
            <p:cNvSpPr/>
            <p:nvPr/>
          </p:nvSpPr>
          <p:spPr>
            <a:xfrm>
              <a:off x="684360" y="4365720"/>
              <a:ext cx="1800000" cy="609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Ojos cerr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0000" y="4941720"/>
              <a:ext cx="1800000" cy="60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Fuerzas extern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24000" y="5805360"/>
              <a:ext cx="1800360" cy="609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Modificar la 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8720" y="5805360"/>
              <a:ext cx="2158920" cy="538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Superficie inest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77080" y="4653000"/>
              <a:ext cx="1800360" cy="609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alc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00000" y="836640"/>
            <a:ext cx="734544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II par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Ya sabemos  de qué se vale para permanecer de p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Ya sabemos si la estabilidad (examinada sólo por medios clínicos) el paciente es buena, regular o mal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Teniendo ambas condiciones.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¿Qué otro aspecto es relevante de evaluar, desde el punto de vista kinésic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</a:rPr>
              <a:t>PISTAS…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92000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DIAPO  ANTERIOR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 Narrow"/>
              </a:rPr>
              <a:t>Piense en cualquier paciente en el que la bipedestación pueda estar afectada y donde sea pertinente evaluarla.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Puede estar afectado de artrosis de cadera.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 Párkinson…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perado de un tobillo o un ligamento cruzado…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haber sufrido un AVE..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tener una cardiopatía o una enfermedad respiratoria crónica..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 ser un adulto mayor con un avanzado proceso de senilidad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En varios de ellos hay un atributo o variable cuya evaluación también es pertinente 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 Narrow"/>
              </a:rPr>
              <a:t>¿cuál es?</a:t>
            </a:r>
            <a:endParaRPr b="0" lang="en-US" sz="20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47640" y="476280"/>
            <a:ext cx="6248520" cy="114300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SISTENCIA O TOLER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564000" y="2852640"/>
          <a:ext cx="25207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852640"/>
                    <a:ext cx="2520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"/>
          <p:cNvGrpSpPr/>
          <p:nvPr/>
        </p:nvGrpSpPr>
        <p:grpSpPr>
          <a:xfrm>
            <a:off x="762120" y="2438280"/>
            <a:ext cx="2438280" cy="2819520"/>
            <a:chOff x="762120" y="2438280"/>
            <a:chExt cx="2438280" cy="2819520"/>
          </a:xfrm>
        </p:grpSpPr>
        <p:sp>
          <p:nvSpPr>
            <p:cNvPr id="226" name=""/>
            <p:cNvSpPr/>
            <p:nvPr/>
          </p:nvSpPr>
          <p:spPr>
            <a:xfrm>
              <a:off x="762120" y="2438280"/>
              <a:ext cx="2438280" cy="685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¿BUENA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2120" y="3505320"/>
              <a:ext cx="2438280" cy="685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¿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REGULAR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4572000"/>
              <a:ext cx="2438280" cy="685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¿MALA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156360" y="2708280"/>
            <a:ext cx="2663640" cy="2430360"/>
          </a:xfrm>
          <a:prstGeom prst="leftArrowCallout">
            <a:avLst>
              <a:gd name="adj1" fmla="val 25002"/>
              <a:gd name="adj2" fmla="val 25000"/>
              <a:gd name="adj3" fmla="val 18266"/>
              <a:gd name="adj4" fmla="val 75275"/>
            </a:avLst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“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Tolera X min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in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ignos de fati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referir molestias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do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5661000"/>
            <a:ext cx="849636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Según el diagnóstico, hay contextos en que este aspecto es irrelevante o tác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rot="16200000">
            <a:off x="3944880" y="-768240"/>
            <a:ext cx="1182600" cy="7993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340000" y="1844280"/>
            <a:ext cx="1295280" cy="7923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8000" y="3716280"/>
            <a:ext cx="1368720" cy="5047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3789360"/>
            <a:ext cx="1041480" cy="3207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56000" y="3860280"/>
            <a:ext cx="1584360" cy="17542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40000" y="2060640"/>
            <a:ext cx="1295640" cy="647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788000" y="1197000"/>
            <a:ext cx="215640" cy="14400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880" y="285264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¿Qué propósitos podría tener el K al realizar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evaluación de bipedestación  y marcha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219640" y="3860280"/>
            <a:ext cx="1440000" cy="15130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848720" cy="35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 Narrow"/>
              </a:rPr>
              <a:t>UN  ENUNCIADO  TÍPICO TENDRÍA QUE SER SIMPLE  Y PERTINENTE: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6600"/>
                </a:solidFill>
                <a:latin typeface="Arial Narrow"/>
              </a:rPr>
              <a:t>“</a:t>
            </a:r>
            <a:r>
              <a:rPr b="0" i="1" lang="en-US" sz="2400" spc="-1" strike="noStrike">
                <a:solidFill>
                  <a:srgbClr val="000066"/>
                </a:solidFill>
                <a:latin typeface="Arial Narrow"/>
              </a:rPr>
              <a:t>Mantiene la posición de pie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en forma independiente</a:t>
            </a:r>
            <a:r>
              <a:rPr b="0" i="1" lang="en-US" sz="2400" spc="-1" strike="noStrike">
                <a:solidFill>
                  <a:srgbClr val="000066"/>
                </a:solidFill>
                <a:latin typeface="Arial Narrow"/>
              </a:rPr>
              <a:t>, apoyado en un bastón canadiense en el lado derecho. Tiene un </a:t>
            </a: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equilibrio disminuido</a:t>
            </a:r>
            <a:r>
              <a:rPr b="0" i="1" lang="en-US" sz="2400" spc="-1" strike="noStrike">
                <a:solidFill>
                  <a:srgbClr val="000066"/>
                </a:solidFill>
                <a:latin typeface="Arial Narrow"/>
              </a:rPr>
              <a:t> hacia el lado izquierdo (o atrás, etc.). No se aprecia signos de fatiga durante los dos minutos en que es evaluado”</a:t>
            </a:r>
            <a:endParaRPr b="0" lang="en-US" sz="24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9640" y="1628640"/>
            <a:ext cx="7704360" cy="3200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 Narrow"/>
              </a:rPr>
              <a:t>Luego, se puede agregar la 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 Narrow"/>
              </a:rPr>
              <a:t>EVALUACIÓN  POSTURAL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 Narrow"/>
              </a:rPr>
              <a:t>, si  es  que  corresponde  con  los  objetivos  de  evaluación  que  se  han planteado, o la forma de su base de sustentación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1700280"/>
            <a:ext cx="74152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Evaluación en la fase de apoyo unipodal      (o fase de “un apoyo menos”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234" name="" descr="Upload/propiocep.jpg"/>
          <p:cNvPicPr/>
          <p:nvPr/>
        </p:nvPicPr>
        <p:blipFill>
          <a:blip r:embed="rId1"/>
          <a:stretch/>
        </p:blipFill>
        <p:spPr>
          <a:xfrm>
            <a:off x="2411280" y="3114720"/>
            <a:ext cx="497052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7620120" cy="1152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ASE  DE  “UN  APOYO  MENOS”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(para bipedestación= Apoyo unipodal)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988640"/>
            <a:ext cx="805788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Importancia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Imprescindible para la marcha. Es imposible caminar si la persona no descarga el peso suficiente a cada uno de los apoyos, para poder posteriormente desplazar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nsecuenci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Al pasar de la posición de pie a esta fase se disminuye la ........ y se redistribuye la...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onsiste en  pedirle que lo haga y constatam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Si puede hacer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Si presenta inestabilidad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Cuánto rato es capaz de hacerl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Si lo hace sin problem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Al igual que en la bipedestación, se puede aumentar grado de dificulta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920" y="2060640"/>
            <a:ext cx="4321440" cy="180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EVALUACIÓN    INTEGRAL y BÁSICA DE  LA    MARCHA</a:t>
            </a:r>
            <a:endParaRPr b="0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979640" y="5157360"/>
            <a:ext cx="62532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Describiendo al paciente desde todo punto de vis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083040" cy="3082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3744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Modelo   para  comprender   y evaluar  la Marcha  de un paciente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Además de los requisitos necesarios para estar de pie, el caminar exige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además:</a:t>
            </a:r>
            <a:endParaRPr b="0" lang="en-US" sz="2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560880" y="2592720"/>
            <a:ext cx="346680" cy="37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0280" y="2016720"/>
            <a:ext cx="22212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1 Tolerar la 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55760" y="2088000"/>
            <a:ext cx="2617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2  Equilibrio- Est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90560" y="2161440"/>
            <a:ext cx="2503440" cy="52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Narrow"/>
              </a:rPr>
              <a:t>3º PROG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Walking Ga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4292640"/>
            <a:ext cx="6141960" cy="2158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47640" y="3357720"/>
            <a:ext cx="73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Capacidad de desplazar controladamente el centro de gravedad hacia adelante, sin perder las otros dos condi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42920" y="1483920"/>
            <a:ext cx="734544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i en la posición de pie evaluam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De qué se vale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para el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La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estabilidad 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de la posi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La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resistencia o tolera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En la marcha: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¿qué otros aspectos, variables o atributos son relevante de evaluar en un contexto clínico (cuando se atiende a un paciente) desde el punto de vista kinésic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42920" y="476280"/>
            <a:ext cx="727236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¿Qué variables podemos evaluar en la march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276640"/>
            <a:ext cx="3352680" cy="10666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Nivel de Independe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y   uso de imple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3200400"/>
            <a:ext cx="3330360" cy="838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la esta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5640" y="2060640"/>
            <a:ext cx="3330360" cy="838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La cinemática 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343400"/>
            <a:ext cx="3330720" cy="8380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La rapid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5410080"/>
            <a:ext cx="3330720" cy="838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Resistencia o tolera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4005360"/>
            <a:ext cx="3505320" cy="1008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Secuenc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(nº de tiempos y apoyos) 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800600" y="2133720"/>
            <a:ext cx="457200" cy="4114800"/>
          </a:xfrm>
          <a:custGeom>
            <a:avLst/>
            <a:gdLst>
              <a:gd name="textAreaLeft" fmla="*/ 0 w 457200"/>
              <a:gd name="textAreaRight" fmla="*/ 16488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2286000"/>
            <a:ext cx="762120" cy="3962520"/>
          </a:xfrm>
          <a:custGeom>
            <a:avLst/>
            <a:gdLst>
              <a:gd name="textAreaLeft" fmla="*/ 0 w 762120"/>
              <a:gd name="textAreaRight" fmla="*/ 275040 w 7621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7086600" cy="80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Nivel de independencia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4872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¿De qué se vale para hacerlo? / ¿a través de qué lo logr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El paciente camina en forma…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Independiente sin apoyos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      “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apoyado en un .... en el lado derech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     “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en paralel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Con ayuda de un asistente, y un bastón en el lado .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Con ayuda de dos asistentes,  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Analizar en qué consiste la ayuda, o qué función supl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 Narrow"/>
              </a:rPr>
              <a:t>“</a:t>
            </a:r>
            <a:r>
              <a:rPr b="1" i="1" lang="en-US" sz="2000" spc="-1" strike="noStrike">
                <a:solidFill>
                  <a:srgbClr val="000066"/>
                </a:solidFill>
                <a:latin typeface="Arial Narrow"/>
              </a:rPr>
              <a:t>camina en forma independiente, descargando parcialmente el peso en su E.S. Izquierda con un bastón canadiens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material-03.jpg (12161 bytes)"/>
          <p:cNvPicPr/>
          <p:nvPr/>
        </p:nvPicPr>
        <p:blipFill>
          <a:blip r:embed="rId1"/>
          <a:stretch/>
        </p:blipFill>
        <p:spPr>
          <a:xfrm>
            <a:off x="7873920" y="1773360"/>
            <a:ext cx="1008000" cy="396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material-02.jpg (19383 bytes)"/>
          <p:cNvPicPr/>
          <p:nvPr/>
        </p:nvPicPr>
        <p:blipFill>
          <a:blip r:embed="rId2"/>
          <a:stretch/>
        </p:blipFill>
        <p:spPr>
          <a:xfrm>
            <a:off x="6926400" y="1413000"/>
            <a:ext cx="722160" cy="44272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3059280" y="3687840"/>
            <a:ext cx="3341520" cy="30398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684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8116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4208400" y="0"/>
            <a:ext cx="2557440" cy="3645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933720"/>
            <a:ext cx="2654280" cy="2924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564000" y="1125360"/>
            <a:ext cx="5580000" cy="547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rot="16200000">
            <a:off x="4016880" y="-695880"/>
            <a:ext cx="1038240" cy="7993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340000" y="1844640"/>
            <a:ext cx="1224000" cy="9367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8000" y="3789360"/>
            <a:ext cx="1656000" cy="431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3789360"/>
            <a:ext cx="1328760" cy="3207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56000" y="3716280"/>
            <a:ext cx="1584360" cy="1898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796000" y="2060640"/>
            <a:ext cx="1440000" cy="7207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68360" y="5516640"/>
            <a:ext cx="8118360" cy="1125360"/>
            <a:chOff x="468360" y="5516640"/>
            <a:chExt cx="8118360" cy="1125360"/>
          </a:xfrm>
        </p:grpSpPr>
        <p:sp>
          <p:nvSpPr>
            <p:cNvPr id="118" name=""/>
            <p:cNvSpPr/>
            <p:nvPr/>
          </p:nvSpPr>
          <p:spPr>
            <a:xfrm>
              <a:off x="468360" y="5803920"/>
              <a:ext cx="358128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Diseño de próte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5440" y="5516640"/>
              <a:ext cx="3581280" cy="10666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Investigación clín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o tecn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0" y="4076640"/>
            <a:ext cx="8893080" cy="982800"/>
            <a:chOff x="0" y="4076640"/>
            <a:chExt cx="8893080" cy="982800"/>
          </a:xfrm>
        </p:grpSpPr>
        <p:sp>
          <p:nvSpPr>
            <p:cNvPr id="121" name=""/>
            <p:cNvSpPr/>
            <p:nvPr/>
          </p:nvSpPr>
          <p:spPr>
            <a:xfrm>
              <a:off x="0" y="4221000"/>
              <a:ext cx="3059280" cy="838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formular un diagnóstic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0360" y="4076640"/>
              <a:ext cx="2952720" cy="838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inferir riesgo de caí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79280" y="404640"/>
            <a:ext cx="8731440" cy="1702080"/>
            <a:chOff x="179280" y="404640"/>
            <a:chExt cx="8731440" cy="1702080"/>
          </a:xfrm>
        </p:grpSpPr>
        <p:sp>
          <p:nvSpPr>
            <p:cNvPr id="124" name=""/>
            <p:cNvSpPr/>
            <p:nvPr/>
          </p:nvSpPr>
          <p:spPr>
            <a:xfrm>
              <a:off x="3276720" y="404640"/>
              <a:ext cx="3581280" cy="838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 Narrow"/>
                </a:rPr>
                <a:t>Objetivar un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evolu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80" y="1052640"/>
              <a:ext cx="3672000" cy="8380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 Narrow"/>
                </a:rPr>
                <a:t>Objetivar resultados de la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 Narrow"/>
                </a:rPr>
                <a:t> Terap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4360" y="1268280"/>
              <a:ext cx="3186360" cy="8384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Narrow"/>
                </a:rPr>
                <a:t>Planificar terap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V="1">
            <a:off x="4572000" y="1196640"/>
            <a:ext cx="431640" cy="15843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6320" y="306864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 Narrow"/>
              </a:rPr>
              <a:t>¿Qué propósitos podría tener una evaluación de Bip y M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58920" y="3789000"/>
            <a:ext cx="1800360" cy="158436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530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AB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5229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AB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916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AB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60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ABM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97708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S E C U E N C I A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086600" cy="389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Número de APOYOS:             2,3,4 o… apoyado en un carro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 Narrow"/>
              </a:rPr>
              <a:t>Cuántas veces realiza un apoyo por cada ciclo de una zancad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TIEMPOS:                                2,3,4 o má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Sin embargo, una marcha de 4 A y 2T puede tener tres secuencias distintas. Entonces corresponde especific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1º   Tiempo  mueve.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2º  Tiempo .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3º  Tiempo .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27236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Narrow"/>
              </a:rPr>
              <a:t>CINEMÁTICA: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Fases  según  Perry  92’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270" name="" descr="chart.gif (3874 bytes)"/>
          <p:cNvPicPr/>
          <p:nvPr/>
        </p:nvPicPr>
        <p:blipFill>
          <a:blip r:embed="rId1"/>
          <a:stretch/>
        </p:blipFill>
        <p:spPr>
          <a:xfrm>
            <a:off x="971640" y="1628640"/>
            <a:ext cx="7561080" cy="465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086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 Narrow"/>
              </a:rPr>
              <a:t>Cinemática: fases, según  Ducroque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1066680"/>
            <a:ext cx="4647960" cy="990720"/>
          </a:xfrm>
          <a:prstGeom prst="rightArrow">
            <a:avLst>
              <a:gd name="adj1" fmla="val 50000"/>
              <a:gd name="adj2" fmla="val 117287"/>
            </a:avLst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A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2743200"/>
            <a:ext cx="2133720" cy="2514600"/>
          </a:xfrm>
          <a:prstGeom prst="downArrow">
            <a:avLst>
              <a:gd name="adj1" fmla="val 50000"/>
              <a:gd name="adj2" fmla="val 29463"/>
            </a:avLst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5943600"/>
            <a:ext cx="3581280" cy="914400"/>
          </a:xfrm>
          <a:prstGeom prst="leftArrow">
            <a:avLst>
              <a:gd name="adj1" fmla="val 50000"/>
              <a:gd name="adj2" fmla="val 97913"/>
            </a:avLst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DAP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362320"/>
            <a:ext cx="1524240" cy="2895480"/>
          </a:xfrm>
          <a:prstGeom prst="upArrow">
            <a:avLst>
              <a:gd name="adj1" fmla="val 50000"/>
              <a:gd name="adj2" fmla="val 47491"/>
            </a:avLst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 Narrow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152960" cy="4152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walk.gif (23554 bytes)"/>
          <p:cNvPicPr/>
          <p:nvPr/>
        </p:nvPicPr>
        <p:blipFill>
          <a:blip r:embed="rId1"/>
          <a:stretch/>
        </p:blipFill>
        <p:spPr>
          <a:xfrm>
            <a:off x="1332000" y="907920"/>
            <a:ext cx="6834240" cy="5532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128000" cy="1152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INEMÁTICA: observaciones        relevantes en cada fase.</a:t>
            </a:r>
            <a:endParaRPr b="0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384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Ancho de la base de sustentación  (10 -12 cms en adulto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Cadencia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o inclinación de pelvis o tronc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Postura dinámica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de cada segmento y amplitud articular, en cada fase del ciclo, comparado con el patrón norm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Alteración del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lapso o duración,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comparando las fases de una extremidad entre sí, o con la contralater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03640" y="1988640"/>
            <a:ext cx="36878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¿Disociación de cinturas?. componente pelviano o coxofemoral del pa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Comportamiento del Centro de Gravedad. y línea de G. durante el cic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 Narrow"/>
              </a:rPr>
              <a:t>¡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 Narrow"/>
              </a:rPr>
              <a:t>no consiste  en  sólo mirar  los pies.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83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Alteraciones cinemáticas comunes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12272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Marcha de pie equin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“de saludo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Marcha por parálisis ciático poplíteo extern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“stepagge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Retracción de rodilla en extensión: espasticidad, anquilosis.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“del segador”</a:t>
            </a:r>
            <a:r>
              <a:rPr b="1" i="1" lang="es-ES" sz="2000" spc="-1" strike="noStrike">
                <a:solidFill>
                  <a:srgbClr val="000066"/>
                </a:solidFill>
                <a:latin typeface="Arial Narrow"/>
              </a:rPr>
              <a:t> 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32000" y="1628640"/>
            <a:ext cx="383076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Debilidad glúteo medio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trendelemburg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Artrosis de cadera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inclinación lateral, o “del matón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Parálisis de cuádricep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hiperextensión de rodill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Falta de disociación entre cinturas. </a:t>
            </a:r>
            <a:r>
              <a:rPr b="1" i="1" lang="es-ES" sz="2000" spc="-1" strike="noStrike">
                <a:solidFill>
                  <a:srgbClr val="ff0000"/>
                </a:solidFill>
                <a:latin typeface="Arial Narrow"/>
              </a:rPr>
              <a:t>(pasos cort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692280"/>
            <a:ext cx="70866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INEMÁTICA de la marcha</a:t>
            </a:r>
            <a:endParaRPr b="0" lang="en-US" sz="36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056360" cy="32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Enunciado propues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Primero se debe hacer referencia a la extremidad y fase a la que se va a referir y después a las alteraciones más evidentes y releva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“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Extremidad inferior derecha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en la fase de oscilación o balanceo, se produce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 Narrow"/>
              </a:rPr>
              <a:t>En la fase de DAAR, se produce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Resto  normal” (ahorre tiempo y escritur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4276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66"/>
                </a:solidFill>
                <a:latin typeface="Arial Narrow"/>
              </a:rPr>
              <a:t>Marcha: Plano frontal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8435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Máxima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caída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(5º)  de pelvis en la Fase media de la oscilación. Coincide con la máxima inclinación contraria de la cintura escapu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Contracción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excéntrica de abductores contralater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Son paralelos en los Dobles Apoy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3789360"/>
            <a:ext cx="216000" cy="151128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72360" y="3933720"/>
            <a:ext cx="0" cy="1295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16720" y="6453360"/>
            <a:ext cx="30492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172360" y="4797360"/>
            <a:ext cx="287280" cy="4320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1092400">
            <a:off x="6300720" y="3284280"/>
            <a:ext cx="152640" cy="858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20835" t="22223" r="50002" b="16666"/>
          <a:stretch/>
        </p:blipFill>
        <p:spPr>
          <a:xfrm>
            <a:off x="539640" y="3141720"/>
            <a:ext cx="2241720" cy="3521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459640" y="4797360"/>
            <a:ext cx="0" cy="2872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416280" y="1247760"/>
            <a:ext cx="1854720" cy="2786760"/>
            <a:chOff x="6416280" y="1247760"/>
            <a:chExt cx="1854720" cy="2786760"/>
          </a:xfrm>
        </p:grpSpPr>
        <p:sp>
          <p:nvSpPr>
            <p:cNvPr id="296" name=""/>
            <p:cNvSpPr/>
            <p:nvPr/>
          </p:nvSpPr>
          <p:spPr>
            <a:xfrm rot="399000">
              <a:off x="6443280" y="3357720"/>
              <a:ext cx="1800360" cy="57456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1222000">
              <a:off x="6516720" y="1341360"/>
              <a:ext cx="1727280" cy="43200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451640" y="1844640"/>
            <a:ext cx="0" cy="151308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59640" y="5300640"/>
            <a:ext cx="0" cy="11527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647712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Marcha: Plano transversal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Rotación complementaria entre cinturas pelviana y escapul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Paralelos entre fases 6 y 7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mportancia de mecanismo de balanceo alternado de EES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Es mayor a mayor velocidad desarrolla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 rot="339600">
            <a:off x="2268000" y="4869000"/>
            <a:ext cx="4739040" cy="739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1258600">
            <a:off x="2339640" y="4941720"/>
            <a:ext cx="4896000" cy="668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0866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Suele considerarse que la evaluación de la cinemática de la marcha como el aspecto más importante, </a:t>
            </a:r>
            <a:r>
              <a:rPr b="0" lang="es-ES" sz="2400" spc="-1" strike="noStrike">
                <a:solidFill>
                  <a:srgbClr val="ff0000"/>
                </a:solidFill>
                <a:latin typeface="Arial Narrow"/>
              </a:rPr>
              <a:t>a veces el único</a:t>
            </a: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. Sin embargo, restan aún al menos 3 atributos relevantes, muy especialmente desde el </a:t>
            </a:r>
            <a:r>
              <a:rPr b="0" lang="es-ES" sz="2400" spc="-1" strike="noStrike">
                <a:solidFill>
                  <a:srgbClr val="ff0000"/>
                </a:solidFill>
                <a:latin typeface="Arial Narrow"/>
              </a:rPr>
              <a:t>punto de vista funcion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6624720" cy="115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Arial Narrow"/>
              </a:rPr>
              <a:t>¿qué tenemos que hacer para poder examinar y enunciar con claridad y validez los resultados de esa evaluación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3520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STABILIDAD</a:t>
            </a:r>
            <a:r>
              <a:rPr b="1" lang="es-ES_tradnl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(no = evaluación del equilibrio)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3886200" cy="31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SUBJET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Referida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por el paciente o cuidadores.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(“ se ha caído dos veces esta semana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Al evaluador le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“da la impresión”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de que se va a caer en cualquier mom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4038840" cy="3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OBJETIV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El evaluador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observa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una  cuasi caída (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trate de que no se le caiga…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Se puede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provocar una desestabilización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manualmente, en forma controlada y segura, para apreciar las respues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5516640"/>
            <a:ext cx="7848720" cy="1009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Al igual que en la Bipedestación, esta evaluación es válida cuando es independiente, con o sin implementos. Si depende de otra persona, por lógica, no tiene sentido, ya que está implíci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68360" y="764640"/>
            <a:ext cx="50292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R A P I D E Z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92468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Se calcula determinando la distancia que cubre en unidad de tiemp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Si la marcha es regular y uniforme, equivale a 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ADUL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Longitud                    X   Cadencia (frecuenci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0,65- 0,75 mt/p             100- 120 p/mi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71,5   -   82,5m/min         78  -  90 mt/mi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1,33 mt/seg   =   80 m/min   = 4,8 Km /h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609768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Rapidez de la marcha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0592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Nomenclatura. Ciclo se inicia contacto de talón al sigu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Stride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: longitud de paso completo o zanca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Step: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  paso izquierdo o derech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Paso D + paso I =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Zancada</a:t>
            </a: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. Ambas zancadas SON =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313" name="analisis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25040" cy="28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0866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"/>
              </a:rPr>
              <a:t>RAPIDEZ  DE LA   MARCHA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4620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analisis1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57200" y="1676520"/>
          <a:ext cx="8332920" cy="412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332920" cy="41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659240" y="304200"/>
            <a:ext cx="6195600" cy="70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arámetros</a:t>
            </a:r>
            <a:r>
              <a:rPr b="0" lang="en-US" sz="4000" spc="-1" strike="noStrike">
                <a:solidFill>
                  <a:srgbClr val="000066"/>
                </a:solidFill>
                <a:latin typeface="Arial Narrow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e  normalidad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(IBV</a:t>
            </a: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66160" cy="100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Narrow"/>
              </a:rPr>
              <a:t>RESISTENCIA  o TOLERANCIA</a:t>
            </a:r>
            <a:endParaRPr b="0" lang="en-US" sz="4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7696440" cy="36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¿qué factores  que influyen en disminuirla?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Dolor o disfunción musculo- esquelética. Patología respiratoria, cardiaca o vascular, astenia, 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Se puede evaluar en forma OBJETIVA  (en treadmill o tomando el tiemp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Consignar los metros o minutos que puede caminar sin perder su cinemática norm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Aspectos  SUBJETIVOS. Lo que el paciente refiere durante la marcha: cansancio, molestias. Pueden darse paradoj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Para efectos prácticos, podemos ocupar “no se observan signos de fatiga o molestias durante…. Minutos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0866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 Narrow"/>
              </a:rPr>
              <a:t>Próxima clas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 Narrow"/>
              </a:rPr>
              <a:t>Los mismos atributos vistos en la evaluación integral, los aplicaremos para comprender los principios de la Terapia Física en la march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5616720" cy="424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IDEA  GENERAL:</a:t>
            </a:r>
            <a:br>
              <a:rPr sz="2000"/>
            </a:b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Para evaluar  un objeto complejo (como un automóvil) o una  acción compleja, (como permanecer de pie o caminar) y para posteriormente enunciarla, debemos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fraccionarla en atributo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o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variable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que estén presentes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en toda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 las situaciones de evaluación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En un contexto clínico, (cuando estamos planificando una intervención) debemos concordar en un modo de evaluar que sea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ágil, factible de realizar con medios cotidiano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, y cuyos resultados sean </a:t>
            </a:r>
            <a:r>
              <a:rPr b="1" lang="es-ES_tradnl" sz="2000" spc="-1" strike="noStrike">
                <a:solidFill>
                  <a:srgbClr val="ff0000"/>
                </a:solidFill>
                <a:latin typeface="Arial Narrow"/>
              </a:rPr>
              <a:t>útiles y válidos</a:t>
            </a:r>
            <a:r>
              <a:rPr b="1" lang="es-ES_tradnl" sz="2000" spc="-1" strike="noStrike">
                <a:solidFill>
                  <a:srgbClr val="000066"/>
                </a:solidFill>
                <a:latin typeface="Arial Narrow"/>
              </a:rPr>
              <a:t>, con un lenguaje que permita su repetibilidad.</a:t>
            </a:r>
            <a:endParaRPr b="0" lang="en-US" sz="2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136" name="" descr="Revisión técnica"/>
          <p:cNvPicPr/>
          <p:nvPr/>
        </p:nvPicPr>
        <p:blipFill>
          <a:blip r:embed="rId1"/>
          <a:stretch/>
        </p:blipFill>
        <p:spPr>
          <a:xfrm>
            <a:off x="6372360" y="549360"/>
            <a:ext cx="2519280" cy="2162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16720" y="3141720"/>
            <a:ext cx="2144520" cy="34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068280"/>
            <a:ext cx="40320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Debemos “fraccionar” artificialmente la acción en atributos o variables … (aún cuando en la realidad funcionen imbricados  e interdependientes).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y referirnos a cada uno de ellos en un enunciado lo más estandarizado posible.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Eso posteriormente ordenará los  futuros objetivos terapéuticos</a:t>
            </a:r>
            <a:endParaRPr b="0" lang="en-US" sz="2000" spc="-1" strike="noStrike">
              <a:solidFill>
                <a:srgbClr val="006600"/>
              </a:solidFill>
              <a:latin typeface="Tahoma"/>
            </a:endParaRPr>
          </a:p>
        </p:txBody>
      </p:sp>
      <p:pic>
        <p:nvPicPr>
          <p:cNvPr id="139" name="" descr="Revisión técnica"/>
          <p:cNvPicPr/>
          <p:nvPr/>
        </p:nvPicPr>
        <p:blipFill>
          <a:blip r:embed="rId1"/>
          <a:stretch/>
        </p:blipFill>
        <p:spPr>
          <a:xfrm>
            <a:off x="755640" y="260280"/>
            <a:ext cx="3240000" cy="2781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8605" t="0" r="2992" b="0"/>
          <a:stretch/>
        </p:blipFill>
        <p:spPr>
          <a:xfrm>
            <a:off x="4387680" y="476280"/>
            <a:ext cx="4556160" cy="5329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2484360" y="3715920"/>
            <a:ext cx="2519280" cy="10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5977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 Narrow"/>
              </a:rPr>
              <a:t>Piense en cualquier paciente en el que la bipedestación pueda estar afectada y donde sea pertinente evaluarla.</a:t>
            </a:r>
            <a:br>
              <a:rPr sz="2000"/>
            </a:b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Puede estar afectado de artrosis de cadera.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 Párkinson…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perado de un tobillo o un ligamento cruzado…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haber sufrido un AVE, tener alguna enfermedad al SNerv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tener una cardiopatía o una enfermedad respiratoria crónica...</a:t>
            </a: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O ser un adulto mayor con un avanzado proceso de senilidad</a:t>
            </a:r>
            <a:endParaRPr b="0" lang="en-US" sz="20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653000"/>
            <a:ext cx="806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s-ES_tradnl" sz="2000" spc="-1" strike="noStrike">
                <a:solidFill>
                  <a:srgbClr val="000066"/>
                </a:solidFill>
                <a:latin typeface="Arial Narrow"/>
              </a:rPr>
              <a:t>Tras comprobar que  logra permanecer de pie…</a:t>
            </a:r>
            <a:br>
              <a:rPr sz="20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 Narrow"/>
              </a:rPr>
              <a:t>¿QUÉ  SERÍA LO MÁS OBVIO  QUE HABRÍA QUE OBSERVAR Y MENCIONAR EN LA EVALUACIÓ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32720" y="692280"/>
            <a:ext cx="2144520" cy="3484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547344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I part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En primerísimo lugar, observar y mencionar </a:t>
            </a:r>
            <a:r>
              <a:rPr b="1" lang="es-ES" sz="2000" spc="-1" strike="noStrike">
                <a:solidFill>
                  <a:srgbClr val="ff0000"/>
                </a:solidFill>
                <a:latin typeface="Arial Narrow"/>
              </a:rPr>
              <a:t>de qué se vale para permanecer de p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Aunque parezca obvio, no todos nuestros pacientes (como los ejemplos mencionados) son independientes de ayuda humana o de implemen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 Narrow"/>
              </a:rPr>
              <a:t>Veamos cómo empezaríamos con el paciente que se muestra en la figur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53360" y="476280"/>
            <a:ext cx="233352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14600" y="838080"/>
            <a:ext cx="4876920" cy="7621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¿Logra permanecer de pi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828800"/>
            <a:ext cx="1905120" cy="3808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1905120"/>
            <a:ext cx="4876920" cy="68580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¿con asistencia  de  otra person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47640" y="2852640"/>
            <a:ext cx="2362320" cy="3812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819520"/>
            <a:ext cx="2514600" cy="60948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 Black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600" y="1523880"/>
            <a:ext cx="1295280" cy="3812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1600200"/>
            <a:ext cx="1371600" cy="3049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962520" y="2590920"/>
            <a:ext cx="1371600" cy="3808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08720" y="2637000"/>
            <a:ext cx="838080" cy="22860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429000"/>
            <a:ext cx="2666880" cy="5335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Con imple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809880"/>
            <a:ext cx="1524240" cy="533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S/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3429000"/>
            <a:ext cx="381240" cy="38088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638320" y="3429000"/>
            <a:ext cx="83844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08000" y="3933720"/>
            <a:ext cx="2376720" cy="5749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643280" y="4005360"/>
            <a:ext cx="144720" cy="68112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005360"/>
            <a:ext cx="1341720" cy="56664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213000"/>
            <a:ext cx="647640" cy="287280"/>
          </a:xfrm>
          <a:prstGeom prst="line">
            <a:avLst/>
          </a:prstGeom>
          <a:ln w="57240">
            <a:solidFill>
              <a:srgbClr val="336699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877000"/>
            <a:ext cx="7991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0000"/>
                </a:solidFill>
                <a:latin typeface="Arial Narrow"/>
              </a:rPr>
              <a:t>¿Qué implementos (de los que ayudan a estar de pie) conoce us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05:38Z</dcterms:created>
  <dc:creator>Marcelo Cano</dc:creator>
  <dc:description/>
  <dc:language>en-US</dc:language>
  <cp:lastModifiedBy>WinuE</cp:lastModifiedBy>
  <dcterms:modified xsi:type="dcterms:W3CDTF">2010-08-25T01:46:46Z</dcterms:modified>
  <cp:revision>178</cp:revision>
  <dc:subject/>
  <dc:title>EVALUACION  DE  LA  BIPEDESTACIÓN</dc:title>
</cp:coreProperties>
</file>