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3.png" ContentType="image/png"/>
  <Override PartName="/ppt/media/image30.png" ContentType="image/png"/>
  <Override PartName="/ppt/media/image5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7.jpeg" ContentType="image/jpe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24CE-DDB2-474B-ACE0-A48CE4933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18D7-9972-4A3D-88F6-EE28F5BCA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F384-4E7B-4500-B415-9D0D8D8BA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D53F-0D27-4890-AB49-D6664AA6D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FC6F7-8FCC-4ECA-A78B-95F439AE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FAD7A-F961-498E-9871-3A1BD779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2ED29-8434-4EA9-AA1E-1D613859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32B8B-EFA3-476E-98B0-F2EC74C0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34978-2038-480D-A389-FCAE7024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61812-B6F7-43DF-9C77-B5E0D0F7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609DA-297C-4154-AAF3-994E5B0F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54D8-1D33-4A3A-BA21-580B5E833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FD35E-488A-47B3-A7B1-60A28542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BBA0B-8811-4B50-92B9-177C4264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80630-FCCB-44D7-902A-20F2AB3B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339B4-AD8C-45C1-AFB1-47A03A3F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7DA14-8B41-44E9-92E7-3DB8B7AA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E0CD-FB42-4C04-9394-FA9D87BF0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C458-EF7C-4ED3-8CFF-E3E12B74B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D1967-5AD2-4CF6-AF0B-9B811C085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492A-CBE7-4EF1-9181-F8C6F13FE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5A70-A15A-4220-A62B-502BF72FC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A293-9295-493B-A3BF-B30E74A0A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3EBC-ADEE-47AC-93DA-9F7235C71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24FD-2BEC-4EC2-95E8-E5D313729618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6BD4-BC95-4A86-A5AD-DFD9B28D0C01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rso Computación-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201600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6880" y="6308640"/>
            <a:ext cx="43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ferencias: Apuntes Universidad de Nava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relativ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1, B3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basa en la posición relativa de la celda que contiene la fórmula y de la celda a la que hac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 cambia la posición de la celda que contiene la fórmula, se cambia la referenc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absolut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$A$1, $B$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empre hace referencia a una celda en una ubicación especí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usa $ para indicar lo que se quiere dejar fijo. Ejemp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1: columna A fija, fil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$1: fila 1 fija, column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$1: columna y fila fi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11280" y="1303200"/>
            <a:ext cx="853272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órmulas: instrucciones que se ingresan para realizar cálcu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ten por signo =, usan nombres de celdas (A4, B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peraciones típica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, -, *,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3095640" cy="1241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3097080" cy="1435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116000" y="4940280"/>
            <a:ext cx="3240000" cy="122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500720" y="4940280"/>
            <a:ext cx="3168360" cy="119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6021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12720" y="609300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n hacer cálculos más comple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= NOMBRE_FORMULA(parametr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3962520" cy="2324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95680" y="3352680"/>
            <a:ext cx="3200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ipos de paráme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úm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n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815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numero;num_decim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(numero), SIN(numero), TAN(nu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M(num1;num2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VERAGE(num1;num2;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um_decimal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entrega u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B4;$B$2)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M(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;número;númer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 entrega u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SUM(1;2);ROUND(3.4242;1);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990720"/>
            <a:ext cx="2819520" cy="201420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edond /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400" y="42274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que quiero 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905120" y="3352320"/>
            <a:ext cx="91440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01480" y="4191120"/>
            <a:ext cx="32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ántos decimales debe 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419360" y="3352320"/>
            <a:ext cx="99036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680" y="5638680"/>
            <a:ext cx="7346520" cy="368280"/>
          </a:xfrm>
          <a:prstGeom prst="rect">
            <a:avLst/>
          </a:prstGeom>
          <a:noFill/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jo: separador de parámetros puede ser ; o , según el idioma de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7693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4897440" cy="2185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37120" y="21207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62600" y="255276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SUM(c3;d3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62960" y="233676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(c2+d2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70520" y="276876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c4;d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92040" y="298440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5;d5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21120" y="2336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1120" y="2552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49480" y="27687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35520" y="29131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61760" y="1143000"/>
            <a:ext cx="7692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rango de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ERAGE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X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6840360" cy="2028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300000" y="371808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2:g2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472608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2920" y="494172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AX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01880" y="515772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IN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5516640"/>
            <a:ext cx="7692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gunta: SUM(c2;c6) versus SUM(c2:c6)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1676520"/>
            <a:ext cx="220968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á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dició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mpara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: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 “comparador”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aradores”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, &lt;, &lt;=, &gt;=, =, &lt;&gt; (disti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s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3 &gt;= 4, A3 &lt;&gt; 7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ultado: verdadero o f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ó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F(condicion;valor_si_verdad;valor_si_fal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UNTIF(rango;criterio). Ejs criterio: “&gt;X”,”X”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4032000" cy="19587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153760" y="443700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pita, ¿aprobó Castell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“R” si reprob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” si aprob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2743200"/>
            <a:ext cx="22096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ar.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28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binando cond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D(condicion1,condicion2,…): si todas son verdaderas, es verdadero OR(condicion1,condicion2,…): si una es verdadera, es verdad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ombinaciones compuestas también pueden usarse como condicion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55640" y="4076640"/>
            <a:ext cx="4032360" cy="1959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793760" y="4149720"/>
            <a:ext cx="392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robados: Sólo si tienen nota “azu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r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a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nto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2133720"/>
            <a:ext cx="17524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para texto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CATENATE(text1;text2;text3;…): junta varios textos en uno so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FT(texto;N): entrega los primer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IGHT(texto;N): entrega los ultim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N(texto): largo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71640" y="4437000"/>
            <a:ext cx="7200720" cy="1623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81680" y="228600"/>
            <a:ext cx="205740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cate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I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7693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licación para manejar hojas de cálcu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la aplicación más usada para estos f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tras: Google Docs, OpenOffice Ca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657080" cy="1133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4038840" cy="2081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8718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000" y="1265040"/>
            <a:ext cx="76928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isten muchas 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órmulas predefinidas (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Formula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scar la que nos sirve y aplicar a par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metros corre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971800" cy="2500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3810240" cy="2173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34280" y="6248520"/>
            <a:ext cx="328968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/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 – Elegir Tipo de Grá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624852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ar/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1 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17480" y="1757520"/>
            <a:ext cx="1467000" cy="3495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1280" y="12715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8720" y="168444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05080" y="262080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286000" y="2362320"/>
            <a:ext cx="3076560" cy="2295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486400" y="3200400"/>
            <a:ext cx="34290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2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47240" y="98100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3760" y="487692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664000" cy="2360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095640" cy="3051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962520" cy="2706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2895480" y="4419720"/>
            <a:ext cx="35942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3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7240" y="981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87600" y="306864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520720" cy="1977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95480" y="1523880"/>
            <a:ext cx="2886120" cy="3200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267080" y="3505320"/>
            <a:ext cx="459108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Gráficos con dos ej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81280" y="11426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ficar de manera 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cionar una serie 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hange Series Chart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ormat Data Series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Secondary Ax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4597560" cy="2768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2971800" cy="1795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52280" y="6324480"/>
            <a:ext cx="8839440" cy="33732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 2003: Seleccionar serie/cambiar tipo de gr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áfico,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mato de serie de datos/eje secund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acr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71480" y="9140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cro: Conjunto de instrucciones que sirven para automatizar procesos o acciones. (Ej: darle formato a una cel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ffic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Excel Options -&gt; Show Developer tab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r-&gt;Record mac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2604960" cy="2519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14300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Tools/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3409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Formato Condicional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demos darle cierto formato a las celdas que cumplan con ciertas cond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-&gt; Conditional Forma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4486320" cy="1323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Format/Conditional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917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cel provee gestión de li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1era fila: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nombres de camp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, todos difer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/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54360" y="2027160"/>
            <a:ext cx="4400640" cy="600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Data/Filter/Auto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794880" y="1260360"/>
            <a:ext cx="52578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rdenar Datos: Data/S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4333680" cy="2324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9528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lgo de histori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15920" y="13716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51600" y="1371600"/>
            <a:ext cx="3030480" cy="2189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19160" y="3941640"/>
            <a:ext cx="2913120" cy="2189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19680" y="3941640"/>
            <a:ext cx="3695760" cy="2189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3120" y="99072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.1 en Windows 2.1(19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7920" y="99072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97 en Windows XP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200" y="358128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3 en Windows XP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82680" y="35812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7 en Windows Vista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ubTotal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ero ordenar la lista para agrupar las filas cuyos subtotales se desea calcul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ego pueden calcularse los subtotales de cualquier columna que contenga núme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 SubTotals, o Sum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3886200" cy="25052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3352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61760" y="1218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miten al usuario interactuar de modo que se facilita el análisis y comprensión de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áticamente cuentan, suman los datos de una tabla y crean una segunda tabla resumen que presenta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egimos qué aparecerá en las filas, columnas y celdas de la nueva tabla, y excel automáticamente reorganizará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96600" y="126504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/Pivot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30160" y="1827360"/>
            <a:ext cx="3229200" cy="1666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8183520" cy="1171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359240" y="2044800"/>
            <a:ext cx="4032360" cy="2120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PivotTable and PivotChar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 Dinámicos (Pivot Chart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 informe de gráfico dinámico representa gráficamente los datos de un informe de tabla dinámic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9994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n grupos de a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sta clase y excel disponibles en: </a:t>
            </a:r>
            <a:r>
              <a:rPr b="1" lang="es-CL" sz="2500" spc="-1" strike="noStrike">
                <a:solidFill>
                  <a:srgbClr val="000000"/>
                </a:solidFill>
                <a:latin typeface="Arial"/>
              </a:rPr>
              <a:t>u-curso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gar antes de las 17: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xcel 2003 vs Excel 2007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621480" cy="224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6732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ocumento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5734080" cy="4143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5508360" y="2421000"/>
            <a:ext cx="143964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268000" y="836280"/>
            <a:ext cx="2519640" cy="554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2520" y="22050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160000" y="3895560"/>
            <a:ext cx="358560" cy="230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492000" y="5013360"/>
            <a:ext cx="331164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7360" y="479736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h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enombrar, orden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Hoj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hoja tiene filas y colum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2951280" cy="2608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90840" y="349416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42108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16280" y="33498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751200" y="2197080"/>
            <a:ext cx="3737880" cy="2160360"/>
            <a:chOff x="3751200" y="2197080"/>
            <a:chExt cx="3737880" cy="2160360"/>
          </a:xfrm>
        </p:grpSpPr>
        <p:sp>
          <p:nvSpPr>
            <p:cNvPr id="120" name=""/>
            <p:cNvSpPr/>
            <p:nvPr/>
          </p:nvSpPr>
          <p:spPr>
            <a:xfrm flipH="1">
              <a:off x="4255560" y="2412720"/>
              <a:ext cx="208764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3175560" y="3277080"/>
              <a:ext cx="1655640" cy="504720"/>
            </a:xfrm>
            <a:prstGeom prst="rect">
              <a:avLst/>
            </a:prstGeom>
            <a:solidFill>
              <a:srgbClr val="009999">
                <a:alpha val="1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45360" y="219708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lum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62120" y="4800600"/>
            <a:ext cx="824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las: 1, 2, 3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lumnas: A, B, C, …, Z, AA, AB, …, AZ, B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41240" y="28404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eld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uce de una fila con una colum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guarda un va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0" y="2293920"/>
            <a:ext cx="2951280" cy="2608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0" y="373392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2718360" y="3589920"/>
            <a:ext cx="1655640" cy="50472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94000" y="3733920"/>
            <a:ext cx="50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725640" y="3806640"/>
            <a:ext cx="2663640" cy="93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90720" y="459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el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5105520"/>
            <a:ext cx="82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identifican por su fila y columna. Ejemplos: C7, AB1001, Z50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cel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a celda puede guardar un texto, 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, cantidad de dinero, fecha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763640" cy="3048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4419720" cy="3252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00000" y="2708280"/>
            <a:ext cx="4648320" cy="3238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900000" y="2708280"/>
            <a:ext cx="381024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onjuntos de Celdas, Rang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895120" y="1676160"/>
            <a:ext cx="608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fil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2:B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column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4:C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riz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3:C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1873440" cy="137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1944720" cy="1022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0894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0:41:02Z</dcterms:created>
  <dc:creator>Vale</dc:creator>
  <dc:description/>
  <dc:language>en-US</dc:language>
  <cp:lastModifiedBy>Valeria Herskovic</cp:lastModifiedBy>
  <dcterms:modified xsi:type="dcterms:W3CDTF">2010-09-14T15:55:45Z</dcterms:modified>
  <cp:revision>75</cp:revision>
  <dc:subject/>
  <dc:title>(Microsoft Office) Excel y Access</dc:title>
</cp:coreProperties>
</file>