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D78B-F7D7-4D98-BDA5-30D2B3136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3234-6890-4E97-B114-1B2AB6260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EA6E0-9869-4B76-8F4F-30AAD58F1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E730-911A-42EF-89F4-4D8229C2F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E238D-5825-4FB8-B4A6-B8A23E71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77082-CE52-4732-A471-538B81EB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9A8FD-E79A-4324-9C03-95BA9FD8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CC3E1-E647-4169-8735-DCB444D2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2A130-F6A4-45E6-AC5A-8C6E1C3B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37E61-75F7-49CF-88D3-67233D17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FD4E2-42AB-4EE3-9611-FEB085CF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C4249-D78C-481D-B840-93D684AA8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23352-E0E5-4D84-9A4E-F12E03F3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1FCE3-2461-455A-92F2-40F0BEB0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FA7B8-22A3-422A-AD64-86BAB169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038C8-6BAF-47A1-A82D-B64DCAC4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F69D2-DE9E-4987-97B5-39DD99BF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F075-E991-4525-A9D0-411794252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5A8A2-7676-43FC-B52A-6AB1FB7B7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CC7A-BFD6-4BCF-A9FA-23B430FA1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5893-85F0-4134-ADC1-5EA8CB3DF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6CF9-65D2-4D4E-83F6-D177E5EBE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4B9F3-A351-4EA1-BE95-F556E1806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84C4-3DCC-4DEF-BA3A-8180F49A2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000" y="6248160"/>
            <a:ext cx="5551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cnolog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í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edica, Universidad d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hile, Otoño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DE58-A05A-4630-80CC-8E22C8A1535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2C6A-DAE1-4731-B24B-5211690E46F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herskov@dcc.uchile.cl" TargetMode="External"/><Relationship Id="rId2" Type="http://schemas.openxmlformats.org/officeDocument/2006/relationships/hyperlink" Target="mailto:rtoledo@dcc.uchile.cl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leria Herskovic – </a:t>
            </a:r>
            <a:r>
              <a:rPr b="0" lang="es-CL" sz="2800" spc="-1" strike="noStrike" u="sng">
                <a:solidFill>
                  <a:srgbClr val="4c6d80"/>
                </a:solidFill>
                <a:uFillTx/>
                <a:latin typeface="Arial"/>
                <a:hlinkClick r:id="rId1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odolfo Toledo – </a:t>
            </a:r>
            <a:r>
              <a:rPr b="0" lang="es-CL" sz="2800" spc="-1" strike="noStrike" u="sng">
                <a:solidFill>
                  <a:srgbClr val="4c6d80"/>
                </a:solidFill>
                <a:uFillTx/>
                <a:latin typeface="Arial"/>
                <a:hlinkClick r:id="rId2"/>
              </a:rPr>
              <a:t>rtoledo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nguaje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n lenguaje sobre un alfabeto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un subconjunto de 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= a,b,ab,ba,aa,bb,aab,aba,abb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 b, ab,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=a,b,...,abbbb,…,auto,…, barco,…. bbirvf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uaje=a, auto, barco, casa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29400" y="4343400"/>
            <a:ext cx="17524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n resumen…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fabeto: conjunto de s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mbolos con los que escribiremos cadenas, o palab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dena: similar a una palabra, usa los símbolos del alfabe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nguaje: conjunto de cade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Lenguajes regular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 aquellos lenguajes que se pueden describir utilizando, equivalentemente,  cualquiera de las siguientes tres técn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resiones Regula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ómatas finitos determiní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utómatas finitos no determinís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xpresiones Regulare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odo caracter c en el lenguaje es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Arial"/>
              </a:rPr>
              <a:t> (vacío) también es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s siguientes combinaciones de caracteres también son una 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| b = a o 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• b = a seguido de b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* = a repetido cero o más ve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ero se aplica *, luego • y luego 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, seguido de cualquier n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cluye a, b, aaaab, abbbbbbb, aaaabbbb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incluye ba, aba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spuesta: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b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 cualquier 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Respuesta: (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|b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066680"/>
            <a:ext cx="84582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a | b = a o b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b = ab, a* = a repetido 0 o má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mienza y termina co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(b|a)*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con cualquier cantidad de a’s, pero un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impar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(ba*ba*)*ba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066680"/>
            <a:ext cx="84582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a | b = a o b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b = ab, a* = a repetido 0 o más ve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Autómatas finitos determinísticos (AFD)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conoce cadenas de lenguaje mediante estados y transici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80988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95280" y="4876920"/>
            <a:ext cx="914400" cy="914400"/>
            <a:chOff x="1295280" y="4876920"/>
            <a:chExt cx="914400" cy="914400"/>
          </a:xfrm>
        </p:grpSpPr>
        <p:sp>
          <p:nvSpPr>
            <p:cNvPr id="125" name=""/>
            <p:cNvSpPr/>
            <p:nvPr/>
          </p:nvSpPr>
          <p:spPr>
            <a:xfrm>
              <a:off x="1295280" y="48769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41360" y="492300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42440" y="407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0840" y="5181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75400" y="304812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do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14400" y="2819520"/>
            <a:ext cx="1295280" cy="914400"/>
            <a:chOff x="914400" y="2819520"/>
            <a:chExt cx="1295280" cy="914400"/>
          </a:xfrm>
        </p:grpSpPr>
        <p:sp>
          <p:nvSpPr>
            <p:cNvPr id="131" name=""/>
            <p:cNvSpPr/>
            <p:nvPr/>
          </p:nvSpPr>
          <p:spPr>
            <a:xfrm>
              <a:off x="1295280" y="281952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914400" y="33080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914400" y="3079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114800" y="2509920"/>
            <a:ext cx="4805280" cy="42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omienza en el estad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“leen” los caracteres de la cadena a reconocer uno a uno, pasando al estado correspondiente según el carácter leído (siempre debe haber una transición por cada caracter en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Ʃ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al terminar de leer la cadena el autómata se encuentra en el estado final, la cadena pertenece al lenguaje. De otra manera,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Autómatas finitos determinísticos</a:t>
            </a:r>
            <a:br>
              <a:rPr sz="3800"/>
            </a:br>
            <a:r>
              <a:rPr b="0" lang="es-CL" sz="3800" spc="-1" strike="noStrike">
                <a:solidFill>
                  <a:srgbClr val="003399"/>
                </a:solidFill>
                <a:latin typeface="Arial"/>
              </a:rPr>
              <a:t>Ejemplo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ena a reconoc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4572000"/>
            <a:ext cx="685800" cy="687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010280" y="3124080"/>
            <a:ext cx="685800" cy="687600"/>
            <a:chOff x="7010280" y="3124080"/>
            <a:chExt cx="685800" cy="687600"/>
          </a:xfrm>
        </p:grpSpPr>
        <p:sp>
          <p:nvSpPr>
            <p:cNvPr id="139" name=""/>
            <p:cNvSpPr/>
            <p:nvPr/>
          </p:nvSpPr>
          <p:spPr>
            <a:xfrm>
              <a:off x="7010280" y="3124080"/>
              <a:ext cx="685800" cy="687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44840" y="3158640"/>
              <a:ext cx="616680" cy="61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181120" y="3200400"/>
            <a:ext cx="971640" cy="687240"/>
            <a:chOff x="5181120" y="3200400"/>
            <a:chExt cx="971640" cy="687240"/>
          </a:xfrm>
        </p:grpSpPr>
        <p:sp>
          <p:nvSpPr>
            <p:cNvPr id="142" name=""/>
            <p:cNvSpPr/>
            <p:nvPr/>
          </p:nvSpPr>
          <p:spPr>
            <a:xfrm>
              <a:off x="5466960" y="3200400"/>
              <a:ext cx="685800" cy="687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181480" y="3567240"/>
              <a:ext cx="28548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181120" y="3395520"/>
              <a:ext cx="28548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57200" y="2362320"/>
            <a:ext cx="4267080" cy="4282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u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comienza en el estad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“leen” los caracteres de la cadena a reconocer uno a uno, pasando al estado correspondiente según el carácter leí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 al terminar de leer la cadena el autómata se encuentra en el estado final, la cadena pertenece al lenguaje. De otra manera, 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2" idx="0"/>
            <a:endCxn id="139" idx="0"/>
          </p:cNvCxnSpPr>
          <p:nvPr/>
        </p:nvCxnSpPr>
        <p:spPr>
          <a:xfrm flipH="1" flipV="1" rot="5400000">
            <a:off x="6543720" y="2390760"/>
            <a:ext cx="76680" cy="1543680"/>
          </a:xfrm>
          <a:prstGeom prst="curvedConnector5">
            <a:avLst>
              <a:gd name="adj1" fmla="val 401415"/>
              <a:gd name="adj2" fmla="val 49988"/>
              <a:gd name="adj3" fmla="val 401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4"/>
            <a:endCxn id="137" idx="2"/>
          </p:cNvCxnSpPr>
          <p:nvPr/>
        </p:nvCxnSpPr>
        <p:spPr>
          <a:xfrm flipH="1" rot="16200000">
            <a:off x="5400720" y="4296960"/>
            <a:ext cx="1029600" cy="210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7" idx="3"/>
            <a:endCxn id="137" idx="5"/>
          </p:cNvCxnSpPr>
          <p:nvPr/>
        </p:nvCxnSpPr>
        <p:spPr>
          <a:xfrm flipH="1" rot="16200000">
            <a:off x="6361920" y="4916880"/>
            <a:ext cx="2160" cy="48672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1"/>
            <a:endCxn id="137" idx="7"/>
          </p:cNvCxnSpPr>
          <p:nvPr/>
        </p:nvCxnSpPr>
        <p:spPr>
          <a:xfrm flipH="1" rot="16200000">
            <a:off x="6361920" y="4429440"/>
            <a:ext cx="2160" cy="486720"/>
          </a:xfrm>
          <a:prstGeom prst="curvedConnector5">
            <a:avLst>
              <a:gd name="adj1" fmla="val -20700000"/>
              <a:gd name="adj2" fmla="val 49962"/>
              <a:gd name="adj3" fmla="val -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1"/>
            <a:endCxn id="139" idx="7"/>
          </p:cNvCxnSpPr>
          <p:nvPr/>
        </p:nvCxnSpPr>
        <p:spPr>
          <a:xfrm flipH="1" flipV="1" rot="5400000">
            <a:off x="7353000" y="3006000"/>
            <a:ext cx="26280" cy="461160"/>
          </a:xfrm>
          <a:prstGeom prst="curvedConnector5">
            <a:avLst>
              <a:gd name="adj1" fmla="val 1393055"/>
              <a:gd name="adj2" fmla="val 50000"/>
              <a:gd name="adj3" fmla="val 13930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9" idx="5"/>
          </p:cNvCxnSpPr>
          <p:nvPr/>
        </p:nvCxnSpPr>
        <p:spPr>
          <a:xfrm flipH="1" rot="16200000">
            <a:off x="7352640" y="3468960"/>
            <a:ext cx="2160" cy="48672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54520" y="2514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164000" y="259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364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7240" y="4038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67040" y="41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6520" y="5410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5912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0560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7840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45240" y="1438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, seguido de cualquier n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7600" y="3429000"/>
            <a:ext cx="914400" cy="914400"/>
            <a:chOff x="3657600" y="3429000"/>
            <a:chExt cx="914400" cy="914400"/>
          </a:xfrm>
        </p:grpSpPr>
        <p:sp>
          <p:nvSpPr>
            <p:cNvPr id="165" name=""/>
            <p:cNvSpPr/>
            <p:nvPr/>
          </p:nvSpPr>
          <p:spPr>
            <a:xfrm>
              <a:off x="3657600" y="34290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3680" y="347508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90720" y="3429000"/>
            <a:ext cx="1295280" cy="914400"/>
            <a:chOff x="990720" y="3429000"/>
            <a:chExt cx="1295280" cy="914400"/>
          </a:xfrm>
        </p:grpSpPr>
        <p:sp>
          <p:nvSpPr>
            <p:cNvPr id="168" name=""/>
            <p:cNvSpPr/>
            <p:nvPr/>
          </p:nvSpPr>
          <p:spPr>
            <a:xfrm>
              <a:off x="1371600" y="34290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990720" y="39175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990720" y="36889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1" name=""/>
          <p:cNvCxnSpPr>
            <a:stCxn id="168" idx="0"/>
            <a:endCxn id="165" idx="0"/>
          </p:cNvCxnSpPr>
          <p:nvPr/>
        </p:nvCxnSpPr>
        <p:spPr>
          <a:xfrm flipH="1" rot="16200000">
            <a:off x="2971080" y="2286360"/>
            <a:ext cx="216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2" name=""/>
          <p:cNvCxnSpPr>
            <a:stCxn id="165" idx="4"/>
            <a:endCxn id="173" idx="6"/>
          </p:cNvCxnSpPr>
          <p:nvPr/>
        </p:nvCxnSpPr>
        <p:spPr>
          <a:xfrm rot="5400000">
            <a:off x="3504240" y="4267080"/>
            <a:ext cx="53424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4" name=""/>
          <p:cNvSpPr/>
          <p:nvPr/>
        </p:nvSpPr>
        <p:spPr>
          <a:xfrm>
            <a:off x="2808000" y="2698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457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 flipH="1" rot="16200000">
            <a:off x="1808640" y="3257280"/>
            <a:ext cx="252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7" name=""/>
          <p:cNvCxnSpPr/>
          <p:nvPr/>
        </p:nvCxnSpPr>
        <p:spPr>
          <a:xfrm flipH="1" rot="16200000">
            <a:off x="4120200" y="322020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8" name=""/>
          <p:cNvSpPr/>
          <p:nvPr/>
        </p:nvSpPr>
        <p:spPr>
          <a:xfrm>
            <a:off x="1487160" y="26290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14560" y="2604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4419720"/>
            <a:ext cx="91440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/>
          <p:nvPr/>
        </p:nvCxnSpPr>
        <p:spPr>
          <a:xfrm flipH="1" rot="16200000">
            <a:off x="2976840" y="4895640"/>
            <a:ext cx="2520" cy="648360"/>
          </a:xfrm>
          <a:prstGeom prst="curvedConnector5">
            <a:avLst>
              <a:gd name="adj1" fmla="val 34800000"/>
              <a:gd name="adj2" fmla="val 50000"/>
              <a:gd name="adj3" fmla="val 348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1" name=""/>
          <p:cNvSpPr/>
          <p:nvPr/>
        </p:nvSpPr>
        <p:spPr>
          <a:xfrm>
            <a:off x="2839680" y="5727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¡Más dificil que con expresiones regula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/>
          <p:nvPr/>
        </p:nvCxnSpPr>
        <p:spPr>
          <a:xfrm flipH="1" rot="16200000">
            <a:off x="2964240" y="4209840"/>
            <a:ext cx="252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4" name=""/>
          <p:cNvSpPr/>
          <p:nvPr/>
        </p:nvSpPr>
        <p:spPr>
          <a:xfrm>
            <a:off x="2808000" y="36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que contiene cualquier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 cualquier o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90920" y="3886200"/>
            <a:ext cx="914400" cy="914400"/>
            <a:chOff x="2590920" y="3886200"/>
            <a:chExt cx="914400" cy="914400"/>
          </a:xfrm>
        </p:grpSpPr>
        <p:sp>
          <p:nvSpPr>
            <p:cNvPr id="190" name=""/>
            <p:cNvSpPr/>
            <p:nvPr/>
          </p:nvSpPr>
          <p:spPr>
            <a:xfrm>
              <a:off x="2590920" y="388620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37000" y="393228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184480" y="4114440"/>
            <a:ext cx="380880" cy="457200"/>
            <a:chOff x="2184480" y="4114440"/>
            <a:chExt cx="380880" cy="457200"/>
          </a:xfrm>
        </p:grpSpPr>
        <p:sp>
          <p:nvSpPr>
            <p:cNvPr id="193" name=""/>
            <p:cNvSpPr/>
            <p:nvPr/>
          </p:nvSpPr>
          <p:spPr>
            <a:xfrm flipV="1">
              <a:off x="2184480" y="43430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2184480" y="411444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¡Más fácil que con expresiones regula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 flipH="1" rot="16200000">
            <a:off x="3053520" y="4364640"/>
            <a:ext cx="2160" cy="648360"/>
          </a:xfrm>
          <a:prstGeom prst="curvedConnector5">
            <a:avLst>
              <a:gd name="adj1" fmla="val 34800000"/>
              <a:gd name="adj2" fmla="val 50000"/>
              <a:gd name="adj3" fmla="val 348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7" name=""/>
          <p:cNvSpPr/>
          <p:nvPr/>
        </p:nvSpPr>
        <p:spPr>
          <a:xfrm>
            <a:off x="2916000" y="5195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/>
          <p:nvPr/>
        </p:nvCxnSpPr>
        <p:spPr>
          <a:xfrm flipH="1" rot="16200000">
            <a:off x="3040920" y="367884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9" name=""/>
          <p:cNvSpPr/>
          <p:nvPr/>
        </p:nvSpPr>
        <p:spPr>
          <a:xfrm>
            <a:off x="2884320" y="3076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Objetivo del curs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bjetivo: Interiorizar al estudiante en el funcionamiento de los sistemas computacionales que apoyarán su trabajo profes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render cómo funciona un computad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841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Ejemplos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uaje con cualquier cantidad de a’s, pero un n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úmero impar de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86200" y="3809880"/>
            <a:ext cx="914400" cy="914400"/>
            <a:chOff x="3886200" y="3809880"/>
            <a:chExt cx="914400" cy="914400"/>
          </a:xfrm>
        </p:grpSpPr>
        <p:sp>
          <p:nvSpPr>
            <p:cNvPr id="205" name=""/>
            <p:cNvSpPr/>
            <p:nvPr/>
          </p:nvSpPr>
          <p:spPr>
            <a:xfrm>
              <a:off x="3886200" y="38098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32280" y="3855960"/>
              <a:ext cx="822240" cy="822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219320" y="3809880"/>
            <a:ext cx="1295280" cy="914400"/>
            <a:chOff x="1219320" y="3809880"/>
            <a:chExt cx="1295280" cy="914400"/>
          </a:xfrm>
        </p:grpSpPr>
        <p:sp>
          <p:nvSpPr>
            <p:cNvPr id="208" name=""/>
            <p:cNvSpPr/>
            <p:nvPr/>
          </p:nvSpPr>
          <p:spPr>
            <a:xfrm>
              <a:off x="1600200" y="3809880"/>
              <a:ext cx="914400" cy="914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219320" y="42984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1219320" y="40698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1" name=""/>
          <p:cNvCxnSpPr>
            <a:stCxn id="208" idx="0"/>
            <a:endCxn id="205" idx="0"/>
          </p:cNvCxnSpPr>
          <p:nvPr/>
        </p:nvCxnSpPr>
        <p:spPr>
          <a:xfrm flipH="1" rot="16200000">
            <a:off x="3199320" y="2666520"/>
            <a:ext cx="2520" cy="2286720"/>
          </a:xfrm>
          <a:prstGeom prst="curvedConnector5">
            <a:avLst>
              <a:gd name="adj1" fmla="val -14400000"/>
              <a:gd name="adj2" fmla="val 49992"/>
              <a:gd name="adj3" fmla="val -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2" name=""/>
          <p:cNvCxnSpPr>
            <a:stCxn id="205" idx="4"/>
            <a:endCxn id="208" idx="4"/>
          </p:cNvCxnSpPr>
          <p:nvPr/>
        </p:nvCxnSpPr>
        <p:spPr>
          <a:xfrm rot="5400000">
            <a:off x="3198960" y="3582000"/>
            <a:ext cx="2520" cy="2286720"/>
          </a:xfrm>
          <a:prstGeom prst="curvedConnector5">
            <a:avLst>
              <a:gd name="adj1" fmla="val 14400000"/>
              <a:gd name="adj2" fmla="val 49992"/>
              <a:gd name="adj3" fmla="val 144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3" name=""/>
          <p:cNvSpPr/>
          <p:nvPr/>
        </p:nvSpPr>
        <p:spPr>
          <a:xfrm>
            <a:off x="3036600" y="3079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03200" y="5068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/>
          <p:nvPr/>
        </p:nvCxnSpPr>
        <p:spPr>
          <a:xfrm flipH="1" rot="16200000">
            <a:off x="2037600" y="363924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6" name=""/>
          <p:cNvCxnSpPr/>
          <p:nvPr/>
        </p:nvCxnSpPr>
        <p:spPr>
          <a:xfrm flipH="1" rot="16200000">
            <a:off x="4348800" y="3588480"/>
            <a:ext cx="2160" cy="648360"/>
          </a:xfrm>
          <a:prstGeom prst="curvedConnector5">
            <a:avLst>
              <a:gd name="adj1" fmla="val -38000000"/>
              <a:gd name="adj2" fmla="val 50000"/>
              <a:gd name="adj3" fmla="val -38000000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7" name=""/>
          <p:cNvSpPr/>
          <p:nvPr/>
        </p:nvSpPr>
        <p:spPr>
          <a:xfrm>
            <a:off x="1868400" y="3009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79600" y="2960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327672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ás o menos lo mismo que con expresiones reg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514600"/>
            <a:ext cx="4876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3048120"/>
            <a:ext cx="2743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Aut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mata finito no determinís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el caso de un AFD, dado el estado actual y el siguiente carácter, se sabe exactamente a qué estado pasará el autóm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 un AFND puede haber varias alternativas a seguir para un mismo caracter. El AFND sigue todas las alternativas al mismo tiempo. Esto implica que hay más de un estado activo a la ve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(Recordar que los AFD y los AFND son equivalentes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(ab|aba)* - AF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931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(ab|aba)* - AFND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866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¿Qué queda fuera de los lenguajes regulares?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guajes con reglas más complej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jemplo: Lenguajes libres de con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la misma cantidad de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’s y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b, aabb, abab, bba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N a’s seguidas de N b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b, aabb, aaabbb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odas las cadenas con paréntesis balance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3+4)*((8-2)*5)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alanc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5+3 </a:t>
            </a:r>
            <a:r>
              <a:rPr b="0" lang="es-C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no balance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nte definir estos ejemplos utilizando ER, AFD o AFND. ¿Qué problemas encuent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Trabajo 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práctic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utorial de jFlap (10mi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ee los AFD en jFlap para los siguientes lenguaj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las palabras ab y ba. Ejemplo de cadena: 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mienza por cualquier número de a’s, y termina con una b. Ejemplo de cadena: aaaa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exactamente dos caracteres que pueden ser a o b. Ejemplo de cadena: b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enguaje que contiene a’s y b’s alternadamente. Ejemplo de cadena: abababab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a semana: Clase teórica + trabajo práct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ntrega trabajo práctico: mismo día clase teórica, 17:30 horas, sin fal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Evalu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T: Evaluaciones teóricas (2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P: Trabajos p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áctico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2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: Proyectos (3) = 4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mición con 5,5 o más, siempre que 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≥4, TP≥4, PR≥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ta Final = 70% Nota Presentaci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  <a:ea typeface="Arial"/>
              </a:rPr>
              <a:t>ón + 30% Exa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50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odolfo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Arial"/>
              </a:rPr>
              <a:t>Fundamentos de la Computaci</a:t>
            </a: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iencias de la computación: estudio de la teoría de la información y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cesos algorítimicos que crean, describen y transforma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 máquinas abstractas y los problemas que éstas pueden resol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Fundamentos de la computación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Hoy: lenguajes regulares – usando expresiones regulares y autóma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óxima clase: utilizaremos este tipo de abstracciones para definir una Máquina de Tu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áquina de Turing: es capaz de realizar operaciones matemáticas de manera mecánica. Se demostró que esta máquina permite computar cualquiera de estas operaciones y por lo tanto son equivalentes a cualquier comput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Alfabeto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6386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inito (cierto 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mero de element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No puede estar vací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 llamaremos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us elementos son símbolos que llamaremos caracte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Ejempl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,b,c,d,e,f,g,h,i,j,k,l,m,n,ñ,o,p,q,r,s,t,u,v,w,x,y,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,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0,1,2,3,4,5,6,7,8,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90000"/>
              </a:lnSpc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A,4,#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434280" y="990720"/>
            <a:ext cx="1719000" cy="2361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91320" y="3657600"/>
            <a:ext cx="327636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3399"/>
                </a:solidFill>
                <a:latin typeface="Arial"/>
              </a:rPr>
              <a:t>Cadena</a:t>
            </a:r>
            <a:endParaRPr b="0" lang="en-US" sz="4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cuencia finita de símbolos de un alfab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gunas cadenas: aaa, abba, b, bbbbbbb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gunas cadenas: auto,barco,casa,bbirv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 es el conjunto de todas las cadenas de </a:t>
            </a:r>
            <a:r>
              <a:rPr b="0" lang="en-US" sz="26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a,b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= a,b,ab,ba,aa,bb,aab,aba,abb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a,b,…,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Arial"/>
              </a:rPr>
              <a:t>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=a,b,...,abbbb,…,auto,…, barco,…. bbirvf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14:23:54Z</dcterms:created>
  <dc:creator/>
  <dc:description/>
  <dc:language>en-US</dc:language>
  <cp:lastModifiedBy>Valeria Herskovic</cp:lastModifiedBy>
  <dcterms:modified xsi:type="dcterms:W3CDTF">2010-03-25T19:32:13Z</dcterms:modified>
  <cp:revision>82</cp:revision>
  <dc:subject/>
  <dc:title>E-learning</dc:title>
</cp:coreProperties>
</file>