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A9A5-0ABD-46E1-9E6D-6D2CFFB18EF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B71F-E325-442F-81CD-3083225ECB2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BA50-5176-408B-B225-AE369EAD558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B4CD-1BAF-4B73-91A3-B87356982E5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1C97-6618-4AC3-B2B2-641BA0DF2C5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C85F-96A2-4125-8251-C84203A8460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30CF-56A5-4F69-BEA0-649FE6E7B5B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7247-04C2-43C6-9C85-666CC0B9B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027D-0ACE-4958-A782-420171F14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E50F-66F1-4676-8CD4-655FAB757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1DB7-A322-4255-AA07-02211B210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B8F23-BB9C-4ADE-A6C9-7ACB427E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FB4DD-71AC-46B6-9673-0A1D5DC8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89A21-7B27-43DA-9603-35B88329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1827-9B7C-4271-8775-E7816BC4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3009D-3986-44E6-9635-6FFDB7D4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0537A-3ED6-4D87-B1E3-B8A92812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55F92-E81E-4BEC-A7B4-24CAA824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1987-AA4C-4DB9-B427-12132C6DF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2E4F1-6180-43BE-978C-3E7ECA18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B205E-3EEC-4AFF-B9EF-CE7F5D0D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D1AEE-5E77-4C45-BC8F-92CF05A4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E3AF8-5690-4DA9-972E-0C7FF77C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0B50C-A33E-4439-B0EC-19A07501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BA86-57F8-4910-B6A7-29A5BEFB4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33BA-8331-40A0-A2EA-9E6F8AFE2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DEDE-B664-43EB-B1A7-254B95D6B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D9D9-56F2-422C-A35A-AB08D3CEB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B30E-8510-4C2F-9732-79705ADA3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01AB-2BAE-48EE-A189-7789D3EC5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5D78-C493-4520-82EF-C52E5B355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E35C-E733-4471-8A04-F61AAA9B8A93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03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09C0-45C1-41F9-978F-FB901B7F4E58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027"/>
          <p:cNvSpPr/>
          <p:nvPr/>
        </p:nvSpPr>
        <p:spPr>
          <a:xfrm>
            <a:off x="2197080" y="417816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uart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icroproces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procesador: desarrollado por Intel Corpo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minimizan los circuitos, aumenta la capacidad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ran expansión del uso de las computad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 electrónicas más ráp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istemas de tratamiento de base de d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eneralización de las apl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ce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Un computador por dent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Picture 5" descr="http://evilpixel.org/blog/images/154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onen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laca Mad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iféric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ctores de medios ópticos (CD/DVD/Blu-ra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clado/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laca Madre (motherboard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base del sistema donde se sitúan los componentes del computador: procesador, memoria, conectores, tarjetas de expan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www.germes-online.com/direct/dbimage/50140474/810ET_Motherboard.jpg"/>
          <p:cNvPicPr/>
          <p:nvPr/>
        </p:nvPicPr>
        <p:blipFill>
          <a:blip r:embed="rId1"/>
          <a:stretch/>
        </p:blipFill>
        <p:spPr>
          <a:xfrm>
            <a:off x="5148360" y="17733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ocesador (CPU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aliza todas las operaciones de cálculo y controla lo que pasa en el computador recibiendo información y dando órdenes para que los demás componentes trabaj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http://www.instablogsimages.com/images/2008/01/30/3d-cpu_5913.jpg"/>
          <p:cNvPicPr/>
          <p:nvPr/>
        </p:nvPicPr>
        <p:blipFill>
          <a:blip r:embed="rId1"/>
          <a:stretch/>
        </p:blipFill>
        <p:spPr>
          <a:xfrm>
            <a:off x="5292720" y="371628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http://www.zonalibre.com.uy/catalog/images/categorias/cpu_intel.jpg"/>
          <p:cNvPicPr/>
          <p:nvPr/>
        </p:nvPicPr>
        <p:blipFill>
          <a:blip r:embed="rId2"/>
          <a:stretch/>
        </p:blipFill>
        <p:spPr>
          <a:xfrm>
            <a:off x="5435640" y="126828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principal (R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cundaria, terciaria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VD, 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nd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mpara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06668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595600"/>
                <a:gridCol w="34704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t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 veces m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da (máx ~8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(máx ~10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principal (RAM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M: Memoria de acceso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leator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datos pueden ser leídos o escritos de manera inmediata en cualquier parte de su estruc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http://miprogramacion.files.wordpress.com/2008/04/300px-ram_n.jpg"/>
          <p:cNvPicPr/>
          <p:nvPr/>
        </p:nvPicPr>
        <p:blipFill>
          <a:blip r:embed="rId1"/>
          <a:stretch/>
        </p:blipFill>
        <p:spPr>
          <a:xfrm>
            <a:off x="5364000" y="1268280"/>
            <a:ext cx="2943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cach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especial de acceso muy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empos de acceso son nanosegun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1 y L2: poca memoria muy ráp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http://img.zdnet.com/techDirectory/CACHEMEM.GIF"/>
          <p:cNvPicPr/>
          <p:nvPr/>
        </p:nvPicPr>
        <p:blipFill>
          <a:blip r:embed="rId1"/>
          <a:stretch/>
        </p:blipFill>
        <p:spPr>
          <a:xfrm>
            <a:off x="4716360" y="1413000"/>
            <a:ext cx="40388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isco Du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a información se guarda como pequeños iman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netorre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476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Capacidad de los materiales de aumentar/disminuir su resistencia eléctrica cuando son sometidos a un campo magnét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://www.upgradecomputermemory.com/images/products/large/500gb-desktop-3-5-sata-hard-drive-dhd-s500.jpg"/>
          <p:cNvPicPr/>
          <p:nvPr/>
        </p:nvPicPr>
        <p:blipFill>
          <a:blip r:embed="rId1"/>
          <a:stretch/>
        </p:blipFill>
        <p:spPr>
          <a:xfrm>
            <a:off x="5364000" y="1125360"/>
            <a:ext cx="2476800" cy="24768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http://i.ehow.com/images/GlobalPhoto/Articles/6026/harddrive_Full.jpg"/>
          <p:cNvPicPr/>
          <p:nvPr/>
        </p:nvPicPr>
        <p:blipFill>
          <a:blip r:embed="rId2"/>
          <a:stretch/>
        </p:blipFill>
        <p:spPr>
          <a:xfrm>
            <a:off x="4932360" y="3645000"/>
            <a:ext cx="3598920" cy="239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tocadiscos"/>
          <p:cNvPicPr/>
          <p:nvPr/>
        </p:nvPicPr>
        <p:blipFill>
          <a:blip r:embed="rId3"/>
          <a:stretch/>
        </p:blipFill>
        <p:spPr>
          <a:xfrm>
            <a:off x="900000" y="4005360"/>
            <a:ext cx="37339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ciplina que estudia el tratamiento automático de la información utilizando dispositivos electrónic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es tareas 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rada: Captación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ceso: Tratamiento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ida: Transmisión de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erifér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trada y salida de informa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http://www.harting.se/imperia/md/images/lg/hartingconnectivitynetworks/products/interfaceconnectors/00_interface_connectors_overview_700_500x333.jpg"/>
          <p:cNvPicPr/>
          <p:nvPr/>
        </p:nvPicPr>
        <p:blipFill>
          <a:blip r:embed="rId1"/>
          <a:stretch/>
        </p:blipFill>
        <p:spPr>
          <a:xfrm>
            <a:off x="900000" y="357336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www.cksinfo.com/clipart/electronics/computers/connectors/PC-ports.png"/>
          <p:cNvPicPr/>
          <p:nvPr/>
        </p:nvPicPr>
        <p:blipFill>
          <a:blip r:embed="rId2"/>
          <a:stretch/>
        </p:blipFill>
        <p:spPr>
          <a:xfrm>
            <a:off x="4572000" y="1413000"/>
            <a:ext cx="4208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Lectores de medios ópticos (CD/DVD/Blu-ray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láser mide la distancia desde la capa reflectante hasta el detector del lá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lo existen 2 distancias (0 y 1) y un sector que representa el fi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5549" t="18930" r="10626" b="13382"/>
          <a:stretch/>
        </p:blipFill>
        <p:spPr>
          <a:xfrm>
            <a:off x="4859280" y="1916280"/>
            <a:ext cx="40384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desplegar de manera visual la información generada por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http://www.kentmusictechnology.co.uk/images/17%20CRT.jpg"/>
          <p:cNvPicPr/>
          <p:nvPr/>
        </p:nvPicPr>
        <p:blipFill>
          <a:blip r:embed="rId1"/>
          <a:stretch/>
        </p:blipFill>
        <p:spPr>
          <a:xfrm>
            <a:off x="5148360" y="141300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http://www.techfresh.net/wp-content/uploads/2006/11/benq-world-fastest-lcd-monitor.jpg"/>
          <p:cNvPicPr/>
          <p:nvPr/>
        </p:nvPicPr>
        <p:blipFill>
          <a:blip r:embed="rId2"/>
          <a:stretch/>
        </p:blipFill>
        <p:spPr>
          <a:xfrm>
            <a:off x="7020000" y="2568600"/>
            <a:ext cx="191304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bhphotovideo.com/images/images345x345/589452.jpg"/>
          <p:cNvPicPr/>
          <p:nvPr/>
        </p:nvPicPr>
        <p:blipFill>
          <a:blip r:embed="rId3"/>
          <a:stretch/>
        </p:blipFill>
        <p:spPr>
          <a:xfrm>
            <a:off x="4089240" y="40212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eclado / Mous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Periféricos para introducir datos al computad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http://closedstacks.files.wordpress.com/2009/01/keyboard.jpg"/>
          <p:cNvPicPr/>
          <p:nvPr/>
        </p:nvPicPr>
        <p:blipFill>
          <a:blip r:embed="rId1"/>
          <a:stretch/>
        </p:blipFill>
        <p:spPr>
          <a:xfrm>
            <a:off x="468360" y="3789360"/>
            <a:ext cx="4038480" cy="1954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http://www.pergaminovirtual.com.ar/revista/cgi-bin/hoy/archivos/2005/mouse-lector-huellas-biometrico.JPG"/>
          <p:cNvPicPr/>
          <p:nvPr/>
        </p:nvPicPr>
        <p:blipFill>
          <a:blip r:embed="rId2"/>
          <a:stretch/>
        </p:blipFill>
        <p:spPr>
          <a:xfrm>
            <a:off x="5219640" y="1125360"/>
            <a:ext cx="2521080" cy="2241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http://www.linuxla.cl/wp-content/uploads/21-07-2008/mouse.jpg"/>
          <p:cNvPicPr/>
          <p:nvPr/>
        </p:nvPicPr>
        <p:blipFill>
          <a:blip r:embed="rId3"/>
          <a:stretch/>
        </p:blipFill>
        <p:spPr>
          <a:xfrm>
            <a:off x="4859280" y="3429000"/>
            <a:ext cx="33782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¿Que necesito saber para elegir un computador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ara qué lo voy a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net, correo electrónico, procesador de text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istema operativo usar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ienso en expand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uántas personas lo usa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2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ás de 10 pers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o que se necesi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rnet, correo electrónico, procesador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requiere grandes recursos de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ga normal de procesamiento con o sin carga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, memoria,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 de datos y gráficos, uso intensivo de la memoria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395280" y="1341360"/>
            <a:ext cx="1671120" cy="4797360"/>
            <a:chOff x="395280" y="1341360"/>
            <a:chExt cx="1671120" cy="4797360"/>
          </a:xfrm>
        </p:grpSpPr>
        <p:sp>
          <p:nvSpPr>
            <p:cNvPr id="193" name="3 Flecha abajo"/>
            <p:cNvSpPr/>
            <p:nvPr/>
          </p:nvSpPr>
          <p:spPr>
            <a:xfrm>
              <a:off x="731520" y="1770120"/>
              <a:ext cx="999720" cy="3857400"/>
            </a:xfrm>
            <a:prstGeom prst="downArrow">
              <a:avLst>
                <a:gd name="adj1" fmla="val 50000"/>
                <a:gd name="adj2" fmla="val 50017"/>
              </a:avLst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4 CuadroTexto"/>
            <p:cNvSpPr/>
            <p:nvPr/>
          </p:nvSpPr>
          <p:spPr>
            <a:xfrm>
              <a:off x="514440" y="577044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á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5 CuadroTexto"/>
            <p:cNvSpPr/>
            <p:nvPr/>
          </p:nvSpPr>
          <p:spPr>
            <a:xfrm>
              <a:off x="395280" y="13413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eno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e elegir hoy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X86/x64 (AMD/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UltraSparc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DR2 o DDR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Mad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o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o 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4559400" y="1603440"/>
            <a:ext cx="411480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So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abinete (fuente de po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nitor (tamañ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sco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ctores de medios óp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á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á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y Computador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59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ellComputer"/>
          <p:cNvPicPr/>
          <p:nvPr/>
        </p:nvPicPr>
        <p:blipFill>
          <a:blip r:embed="rId2"/>
          <a:stretch/>
        </p:blipFill>
        <p:spPr>
          <a:xfrm>
            <a:off x="4800600" y="2133720"/>
            <a:ext cx="400068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004480" y="53341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abstra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00560" y="53481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191120" y="5334120"/>
            <a:ext cx="1600200" cy="457200"/>
          </a:xfrm>
          <a:prstGeom prst="leftRightArrow">
            <a:avLst>
              <a:gd name="adj1" fmla="val 50000"/>
              <a:gd name="adj2" fmla="val 6967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Definición Hardwa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onentes físicos de una computad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3068640" cy="31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webdelprofesor.ula.ve/economia/dougil/HISTORIA%20DE%20LA%20COMPUTCION_archivos/image028.jpg"/>
          <p:cNvPicPr/>
          <p:nvPr/>
        </p:nvPicPr>
        <p:blipFill>
          <a:blip r:embed="rId2"/>
          <a:stretch/>
        </p:blipFill>
        <p:spPr>
          <a:xfrm>
            <a:off x="5076720" y="2565360"/>
            <a:ext cx="2543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a 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de Turing “real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5" descr="The_LEGO_Turing_Machine"/>
          <p:cNvPicPr/>
          <p:nvPr/>
        </p:nvPicPr>
        <p:blipFill>
          <a:blip r:embed="rId1"/>
          <a:stretch/>
        </p:blipFill>
        <p:spPr>
          <a:xfrm>
            <a:off x="2050920" y="198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Prim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lbos para procesa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ituidos por tubos de vacío, desprendían bastante calor y tenían una vida relativamente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quinas grandes y p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nsumo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macenamiento de la información en tambor magnético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o de tarjetas perforadas para suministrar datos de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214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Segund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nsistor como componente principal. El componente principal es un pequeño trozo de semiconductor, y se expone en los llamados circuitos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minución del tamaño,  consumo y producción de ca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yor rapid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s internas de núcleos de ferr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macenamiento: cintas y dis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y de Moo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9" descr="http://petra.euitio.uniovi.es/~arrai/historia/trilobytes/5-Moore%20y%20la%20ley%20de%20Moore/imagenes/moore.jpg"/>
          <p:cNvPicPr/>
          <p:nvPr/>
        </p:nvPicPr>
        <p:blipFill>
          <a:blip r:embed="rId1"/>
          <a:stretch/>
        </p:blipFill>
        <p:spPr>
          <a:xfrm>
            <a:off x="7812000" y="33336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http://7ecnologia.com/wp-content/uploads/2009/04/lei_de_moore_2006svg.png"/>
          <p:cNvPicPr/>
          <p:nvPr/>
        </p:nvPicPr>
        <p:blipFill>
          <a:blip r:embed="rId2"/>
          <a:stretch/>
        </p:blipFill>
        <p:spPr>
          <a:xfrm>
            <a:off x="468360" y="1054080"/>
            <a:ext cx="71913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Título"/>
          <p:cNvSpPr/>
          <p:nvPr/>
        </p:nvSpPr>
        <p:spPr>
          <a:xfrm>
            <a:off x="35712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9 Grupo"/>
          <p:cNvGrpSpPr/>
          <p:nvPr/>
        </p:nvGrpSpPr>
        <p:grpSpPr>
          <a:xfrm>
            <a:off x="5843520" y="4454640"/>
            <a:ext cx="2696400" cy="1674720"/>
            <a:chOff x="5843520" y="4454640"/>
            <a:chExt cx="2696400" cy="167472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5843520" y="4454640"/>
              <a:ext cx="190836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8 Rectángulo"/>
            <p:cNvSpPr/>
            <p:nvPr/>
          </p:nvSpPr>
          <p:spPr>
            <a:xfrm>
              <a:off x="7755840" y="5004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Calibri"/>
                </a:rPr>
                <a:t>IBM 3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Terc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ircuitos integrados, miniaturización y reunión de centenares de elementos en una placa de silicio o (c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nor consumo de energía, reducción de espa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umenta la capacidad de almacenamiento y se 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atibilidad para compartir software entre divers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gram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mini comput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8:45:24Z</dcterms:created>
  <dc:creator>Elias Leiva-Salcedo</dc:creator>
  <dc:description/>
  <dc:language>en-US</dc:language>
  <cp:lastModifiedBy>Valeria Herskovic</cp:lastModifiedBy>
  <dcterms:modified xsi:type="dcterms:W3CDTF">2010-08-24T17:56:21Z</dcterms:modified>
  <cp:revision>178</cp:revision>
  <dc:subject/>
  <dc:title>Diapositiva 1</dc:title>
</cp:coreProperties>
</file>