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104C-4A62-4926-8980-4755B8F71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8F10-3ACD-484B-B67A-666524F27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07417-EB39-427E-B582-B2B239C9A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B135-E316-4DD0-8B03-E3F6F8011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ABFD2-0C5D-4A16-8AE4-7A480567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A73D5-8F40-4225-A84A-C351C7A0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C5FD4-0D81-4511-939A-7031147D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47F4A-8D44-46F5-9436-97108D9B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88241-E63F-4563-9640-DF542AAC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607DF-E5FF-4573-B021-098BCC20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9F96D-6058-479F-824D-BA832098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E494-40AB-41E4-9368-A30B3FCA5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A9C28-73F2-4723-8351-52EFA2C1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A253A-2309-4E77-B07B-914EB493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90308-C500-4EAC-A355-EEFC28C2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F0A88-BED3-4D0D-B84C-896CA6EC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8C414-7B97-4E72-82C9-A4823330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6694-F4C4-458D-AF0B-C117FA078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84C6-FDC5-4759-A3DE-F1149217A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D25E-467F-40A6-8736-F2769D5FC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DDD6-188F-4C6A-9B0C-4B454D7C5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2BDC5-5D00-44E5-9243-87DC1089D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EFB0-B0D9-4A28-A5CD-801AA7397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2C2B-D748-4DBA-B9F4-2F76B5E9D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é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B7C1-7CA6-4124-812E-F0CA81815122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3E36-D58D-45A6-8021-E658CBA68CC4}" type="slidenum"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ysql.com/" TargetMode="External"/><Relationship Id="rId2" Type="http://schemas.openxmlformats.org/officeDocument/2006/relationships/hyperlink" Target="http://www.postgresql.org/" TargetMode="External"/><Relationship Id="rId3" Type="http://schemas.openxmlformats.org/officeDocument/2006/relationships/hyperlink" Target="http://www.firebirdsql.org/" TargetMode="External"/><Relationship Id="rId4" Type="http://schemas.openxmlformats.org/officeDocument/2006/relationships/hyperlink" Target="http://www.sqlite.org/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3399"/>
                </a:solidFill>
                <a:latin typeface="Arial"/>
              </a:rPr>
              <a:t>Bases de Datos</a:t>
            </a:r>
            <a:endParaRPr b="0" lang="en-US" sz="5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 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gual a las Jerárquicas, pero la rel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a no es 1:N. Se usan grafos dirigi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luciona la redundancia de datos.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cil de recorr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de Re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5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06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60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656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0" idx="4"/>
            <a:endCxn id="156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0" idx="4"/>
            <a:endCxn id="167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6" idx="4"/>
            <a:endCxn id="157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6" idx="4"/>
            <a:endCxn id="158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56" idx="4"/>
            <a:endCxn id="166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2" idx="4"/>
            <a:endCxn id="146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46" idx="4"/>
            <a:endCxn id="149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46" idx="4"/>
            <a:endCxn id="151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52" idx="4"/>
            <a:endCxn id="154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78" name=""/>
          <p:cNvGrpSpPr/>
          <p:nvPr/>
        </p:nvGrpSpPr>
        <p:grpSpPr>
          <a:xfrm>
            <a:off x="6648120" y="3814920"/>
            <a:ext cx="2244960" cy="2278080"/>
            <a:chOff x="6648120" y="3814920"/>
            <a:chExt cx="2244960" cy="2278080"/>
          </a:xfrm>
        </p:grpSpPr>
        <p:cxnSp>
          <p:nvCxnSpPr>
            <p:cNvPr id="179" name=""/>
            <p:cNvCxnSpPr/>
            <p:nvPr/>
          </p:nvCxnSpPr>
          <p:spPr>
            <a:xfrm flipH="1">
              <a:off x="6648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7021440" y="501336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on las más populares hoy en d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basado e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tre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Entid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Relacion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alum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rofesor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ct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curs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lum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500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43639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84720" y="2708280"/>
            <a:ext cx="1919880" cy="457200"/>
            <a:chOff x="4284720" y="2708280"/>
            <a:chExt cx="1919880" cy="457200"/>
          </a:xfrm>
        </p:grpSpPr>
        <p:sp>
          <p:nvSpPr>
            <p:cNvPr id="189" name=""/>
            <p:cNvSpPr/>
            <p:nvPr/>
          </p:nvSpPr>
          <p:spPr>
            <a:xfrm>
              <a:off x="4284720" y="270828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9200" y="2732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315880" y="35719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2520" y="494028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6520" y="494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39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9080" y="4437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61080" y="35114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44840" y="3535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9" idx="4"/>
            <a:endCxn id="185" idx="0"/>
          </p:cNvCxnSpPr>
          <p:nvPr/>
        </p:nvCxnSpPr>
        <p:spPr>
          <a:xfrm flipH="1">
            <a:off x="3936240" y="3165480"/>
            <a:ext cx="577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9" idx="4"/>
            <a:endCxn id="196" idx="0"/>
          </p:cNvCxnSpPr>
          <p:nvPr/>
        </p:nvCxnSpPr>
        <p:spPr>
          <a:xfrm>
            <a:off x="4512960" y="316512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" name=""/>
          <p:cNvCxnSpPr>
            <a:stCxn id="185" idx="4"/>
            <a:endCxn id="186" idx="0"/>
          </p:cNvCxnSpPr>
          <p:nvPr/>
        </p:nvCxnSpPr>
        <p:spPr>
          <a:xfrm flipH="1">
            <a:off x="3144600" y="3957480"/>
            <a:ext cx="7927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85" idx="4"/>
            <a:endCxn id="187" idx="0"/>
          </p:cNvCxnSpPr>
          <p:nvPr/>
        </p:nvCxnSpPr>
        <p:spPr>
          <a:xfrm>
            <a:off x="3936600" y="395712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5" idx="4"/>
            <a:endCxn id="195" idx="0"/>
          </p:cNvCxnSpPr>
          <p:nvPr/>
        </p:nvCxnSpPr>
        <p:spPr>
          <a:xfrm>
            <a:off x="3936960" y="395748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979640" y="3789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876720" y="278136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520" y="4076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subdivid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2130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tenec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Relacional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49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13440" y="4724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3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452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87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8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61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91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5" idx="4"/>
            <a:endCxn id="209" idx="0"/>
          </p:cNvCxnSpPr>
          <p:nvPr/>
        </p:nvCxnSpPr>
        <p:spPr>
          <a:xfrm flipH="1">
            <a:off x="4009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9" idx="4"/>
            <a:endCxn id="212" idx="0"/>
          </p:cNvCxnSpPr>
          <p:nvPr/>
        </p:nvCxnSpPr>
        <p:spPr>
          <a:xfrm flipH="1">
            <a:off x="3501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9" idx="4"/>
            <a:endCxn id="214" idx="0"/>
          </p:cNvCxnSpPr>
          <p:nvPr/>
        </p:nvCxnSpPr>
        <p:spPr>
          <a:xfrm>
            <a:off x="4009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5" idx="4"/>
            <a:endCxn id="217" idx="0"/>
          </p:cNvCxnSpPr>
          <p:nvPr/>
        </p:nvCxnSpPr>
        <p:spPr>
          <a:xfrm>
            <a:off x="4512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 rot="10800000">
            <a:off x="2410920" y="349992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4160" y="38606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man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solidFill>
            <a:srgbClr val="4c6d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7400" y="3716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ne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416120" y="3814920"/>
            <a:ext cx="2891160" cy="2206440"/>
            <a:chOff x="4416120" y="3814920"/>
            <a:chExt cx="2891160" cy="2206440"/>
          </a:xfrm>
        </p:grpSpPr>
        <p:cxnSp>
          <p:nvCxnSpPr>
            <p:cNvPr id="228" name=""/>
            <p:cNvCxnSpPr>
              <a:stCxn id="217" idx="4"/>
              <a:endCxn id="214" idx="0"/>
            </p:cNvCxnSpPr>
            <p:nvPr/>
          </p:nvCxnSpPr>
          <p:spPr>
            <a:xfrm flipH="1">
              <a:off x="4416120" y="3814920"/>
              <a:ext cx="67392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5435640" y="4941720"/>
              <a:ext cx="1871640" cy="107964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Ya no h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¿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s-ES_tradnl" sz="3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ómo se representa la información?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mo tablas compuestas de tuplas (filas) y atributos (column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l ejemplo, cada fila representa a un alum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a tabla puede representarse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umno(nombre,apellido,e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317680" y="2708280"/>
          <a:ext cx="4175280" cy="1400040"/>
        </p:xfrm>
        <a:graphic>
          <a:graphicData uri="http://schemas.openxmlformats.org/drawingml/2006/table">
            <a:tbl>
              <a:tblPr/>
              <a:tblGrid>
                <a:gridCol w="1638360"/>
                <a:gridCol w="1581120"/>
                <a:gridCol w="95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2317680" y="3160800"/>
            <a:ext cx="5783400" cy="900000"/>
            <a:chOff x="2317680" y="3160800"/>
            <a:chExt cx="5783400" cy="900000"/>
          </a:xfrm>
        </p:grpSpPr>
        <p:sp>
          <p:nvSpPr>
            <p:cNvPr id="234" name=""/>
            <p:cNvSpPr/>
            <p:nvPr/>
          </p:nvSpPr>
          <p:spPr>
            <a:xfrm>
              <a:off x="2317680" y="3160800"/>
              <a:ext cx="4176720" cy="44604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70760" y="3645000"/>
              <a:ext cx="1030320" cy="415800"/>
            </a:xfrm>
            <a:prstGeom prst="wedgeRectCallout">
              <a:avLst>
                <a:gd name="adj1" fmla="val -106087"/>
                <a:gd name="adj2" fmla="val -112212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Tup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62040" y="3141720"/>
            <a:ext cx="3313080" cy="966600"/>
            <a:chOff x="662040" y="3141720"/>
            <a:chExt cx="3313080" cy="966600"/>
          </a:xfrm>
        </p:grpSpPr>
        <p:sp>
          <p:nvSpPr>
            <p:cNvPr id="237" name=""/>
            <p:cNvSpPr/>
            <p:nvPr/>
          </p:nvSpPr>
          <p:spPr>
            <a:xfrm>
              <a:off x="2319480" y="3141720"/>
              <a:ext cx="1655640" cy="96660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040" y="3500280"/>
              <a:ext cx="1368360" cy="403560"/>
            </a:xfrm>
            <a:prstGeom prst="wedgeRectCallout">
              <a:avLst>
                <a:gd name="adj1" fmla="val 69606"/>
                <a:gd name="adj2" fmla="val 11023"/>
              </a:avLst>
            </a:prstGeom>
            <a:solidFill>
              <a:srgbClr val="ff0000">
                <a:alpha val="43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tribu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Relaciones entre Tabl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 la misma manera que se usan tablas para mantener datos, se pueden especificar tablas que mantengan las 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11280" y="3213000"/>
          <a:ext cx="2952720" cy="106524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72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6156360" y="4869000"/>
          <a:ext cx="2520720" cy="1004760"/>
        </p:xfrm>
        <a:graphic>
          <a:graphicData uri="http://schemas.openxmlformats.org/drawingml/2006/table">
            <a:tbl>
              <a:tblPr/>
              <a:tblGrid>
                <a:gridCol w="1441440"/>
                <a:gridCol w="107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-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-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067280" y="3645000"/>
          <a:ext cx="1726920" cy="1339920"/>
        </p:xfrm>
        <a:graphic>
          <a:graphicData uri="http://schemas.openxmlformats.org/drawingml/2006/table">
            <a:tbl>
              <a:tblPr/>
              <a:tblGrid>
                <a:gridCol w="936360"/>
                <a:gridCol w="79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6516720" y="3573360"/>
            <a:ext cx="2016000" cy="403200"/>
          </a:xfrm>
          <a:prstGeom prst="wedgeRectCallout">
            <a:avLst>
              <a:gd name="adj1" fmla="val -85907"/>
              <a:gd name="adj2" fmla="val 9055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bla de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492000" y="3716280"/>
            <a:ext cx="1195920" cy="533520"/>
            <a:chOff x="3492000" y="3716280"/>
            <a:chExt cx="1195920" cy="533520"/>
          </a:xfrm>
        </p:grpSpPr>
        <p:sp>
          <p:nvSpPr>
            <p:cNvPr id="246" name=""/>
            <p:cNvSpPr/>
            <p:nvPr/>
          </p:nvSpPr>
          <p:spPr>
            <a:xfrm>
              <a:off x="4471920" y="403380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3492000" y="3716280"/>
              <a:ext cx="1079640" cy="433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492360" y="3716280"/>
            <a:ext cx="1224000" cy="1224000"/>
            <a:chOff x="3492360" y="3716280"/>
            <a:chExt cx="1224000" cy="1224000"/>
          </a:xfrm>
        </p:grpSpPr>
        <p:sp>
          <p:nvSpPr>
            <p:cNvPr id="249" name=""/>
            <p:cNvSpPr/>
            <p:nvPr/>
          </p:nvSpPr>
          <p:spPr>
            <a:xfrm>
              <a:off x="4500720" y="4724280"/>
              <a:ext cx="21564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492360" y="3716280"/>
              <a:ext cx="1108080" cy="11239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292720" y="4038480"/>
            <a:ext cx="934920" cy="1335240"/>
            <a:chOff x="5292720" y="4038480"/>
            <a:chExt cx="934920" cy="1335240"/>
          </a:xfrm>
        </p:grpSpPr>
        <p:sp>
          <p:nvSpPr>
            <p:cNvPr id="252" name=""/>
            <p:cNvSpPr/>
            <p:nvPr/>
          </p:nvSpPr>
          <p:spPr>
            <a:xfrm>
              <a:off x="5292720" y="40384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92800" y="4154400"/>
              <a:ext cx="834840" cy="12193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02080" y="4047840"/>
            <a:ext cx="1195200" cy="533520"/>
            <a:chOff x="3502080" y="4047840"/>
            <a:chExt cx="1195200" cy="533520"/>
          </a:xfrm>
        </p:grpSpPr>
        <p:sp>
          <p:nvSpPr>
            <p:cNvPr id="255" name=""/>
            <p:cNvSpPr/>
            <p:nvPr/>
          </p:nvSpPr>
          <p:spPr>
            <a:xfrm>
              <a:off x="4481640" y="4365720"/>
              <a:ext cx="215640" cy="215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3502080" y="4047840"/>
              <a:ext cx="1069920" cy="4604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302080" y="4394160"/>
            <a:ext cx="925560" cy="979560"/>
            <a:chOff x="5302080" y="4394160"/>
            <a:chExt cx="925560" cy="979560"/>
          </a:xfrm>
        </p:grpSpPr>
        <p:sp>
          <p:nvSpPr>
            <p:cNvPr id="258" name=""/>
            <p:cNvSpPr/>
            <p:nvPr/>
          </p:nvSpPr>
          <p:spPr>
            <a:xfrm>
              <a:off x="5302080" y="439416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2160" y="4510080"/>
              <a:ext cx="825480" cy="86364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21160" y="4724280"/>
            <a:ext cx="906480" cy="1009800"/>
            <a:chOff x="5321160" y="4724280"/>
            <a:chExt cx="906480" cy="1009800"/>
          </a:xfrm>
        </p:grpSpPr>
        <p:sp>
          <p:nvSpPr>
            <p:cNvPr id="261" name=""/>
            <p:cNvSpPr/>
            <p:nvPr/>
          </p:nvSpPr>
          <p:spPr>
            <a:xfrm>
              <a:off x="5321160" y="4724280"/>
              <a:ext cx="216000" cy="216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1240" y="4840200"/>
              <a:ext cx="806400" cy="89388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Relacio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ra identificar únicamente una tupla se utilizan las llaves prima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valor que no puede repeti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 ¿Personas? ¿Autos? ¿Curs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s atributos se caracterizan por tener un nombre y un domin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dominio dice que tipo de información puede especificarse para ese atribu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Identificadores y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13080" y="2997360"/>
            <a:ext cx="201600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13080" y="4724280"/>
            <a:ext cx="1584360" cy="936720"/>
          </a:xfrm>
          <a:prstGeom prst="wedgeRectCallout">
            <a:avLst>
              <a:gd name="adj1" fmla="val 9018"/>
              <a:gd name="adj2" fmla="val -122879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6360" y="1700280"/>
            <a:ext cx="1800360" cy="403200"/>
          </a:xfrm>
          <a:prstGeom prst="wedgeRectCallout">
            <a:avLst>
              <a:gd name="adj1" fmla="val -12435"/>
              <a:gd name="adj2" fmla="val 15866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dentific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908000" y="2552760"/>
          <a:ext cx="4978440" cy="1466640"/>
        </p:xfrm>
        <a:graphic>
          <a:graphicData uri="http://schemas.openxmlformats.org/drawingml/2006/table">
            <a:tbl>
              <a:tblPr/>
              <a:tblGrid>
                <a:gridCol w="504720"/>
                <a:gridCol w="1984320"/>
                <a:gridCol w="1544760"/>
                <a:gridCol w="944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4429080" y="2997360"/>
            <a:ext cx="151128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997360"/>
            <a:ext cx="936720" cy="1008000"/>
          </a:xfrm>
          <a:prstGeom prst="rect">
            <a:avLst/>
          </a:pr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4724280"/>
            <a:ext cx="1584360" cy="936720"/>
          </a:xfrm>
          <a:prstGeom prst="wedgeRectCallout">
            <a:avLst>
              <a:gd name="adj1" fmla="val -11625"/>
              <a:gd name="adj2" fmla="val -124236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 de Carac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5080" y="4581360"/>
            <a:ext cx="1584360" cy="935280"/>
          </a:xfrm>
          <a:prstGeom prst="wedgeRectCallout">
            <a:avLst>
              <a:gd name="adj1" fmla="val -52305"/>
              <a:gd name="adj2" fmla="val -108402"/>
            </a:avLst>
          </a:prstGeom>
          <a:solidFill>
            <a:srgbClr val="ff0000">
              <a:alpha val="43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min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teros posi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Acerca de los domini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ben ser “atómico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 valor no puede ser dividido en dominios más si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ersona(nombre, apellido, hijos)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al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¡Una persona puede tener más de un hijo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Ej. correc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sona(*id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jos(*id_persona, *id_hijo, nombre, apell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Da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caracteres con algún signifi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a Base de Da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lección ordenada de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neralmente pertenecientes al mismo con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ganizados de tal forma que puedan ser consultados posterior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mite “diagramar” una B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demás de las entidades tenemo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7450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edades o características de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isten varios tip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torios: tienen que tener un valor (nombre, fecha naci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cionales: pueden no tener ningún valor (nro. cuenta corriente, código pos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635280" y="3789360"/>
            <a:ext cx="720360" cy="360360"/>
            <a:chOff x="3635280" y="3789360"/>
            <a:chExt cx="720360" cy="360360"/>
          </a:xfrm>
        </p:grpSpPr>
        <p:sp>
          <p:nvSpPr>
            <p:cNvPr id="282" name=""/>
            <p:cNvSpPr/>
            <p:nvPr/>
          </p:nvSpPr>
          <p:spPr>
            <a:xfrm>
              <a:off x="3635280" y="3789360"/>
              <a:ext cx="384480" cy="360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19760" y="399420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635280" y="5229360"/>
            <a:ext cx="720360" cy="358560"/>
            <a:chOff x="3635280" y="5229360"/>
            <a:chExt cx="720360" cy="358560"/>
          </a:xfrm>
        </p:grpSpPr>
        <p:sp>
          <p:nvSpPr>
            <p:cNvPr id="285" name=""/>
            <p:cNvSpPr/>
            <p:nvPr/>
          </p:nvSpPr>
          <p:spPr>
            <a:xfrm>
              <a:off x="4019760" y="5382360"/>
              <a:ext cx="3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35280" y="5229360"/>
              <a:ext cx="384480" cy="3585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Vinculación o correspondencia entre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2781360"/>
            <a:ext cx="504720" cy="43164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Interrelación regular"/>
          <p:cNvPicPr/>
          <p:nvPr/>
        </p:nvPicPr>
        <p:blipFill>
          <a:blip r:embed="rId1"/>
          <a:stretch/>
        </p:blipFill>
        <p:spPr>
          <a:xfrm>
            <a:off x="2268360" y="3573360"/>
            <a:ext cx="3888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odelo Entidad-Rel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rdi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máximo y mínimo de ejemplares de una entidad que pueden estar asociados, mediante una determinada relación, con un ejemplar de otra ent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n ser de la siguiente for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0,n), (n,0), (1,n), (n,1), (0,1), (1,0), (0,0) ó (n,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Cardinalidad"/>
          <p:cNvPicPr/>
          <p:nvPr/>
        </p:nvPicPr>
        <p:blipFill>
          <a:blip r:embed="rId1"/>
          <a:stretch/>
        </p:blipFill>
        <p:spPr>
          <a:xfrm>
            <a:off x="1116000" y="4869000"/>
            <a:ext cx="69850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Metodología de Diseñ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do un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ent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as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los atributos y asociarlos a entidades y rel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dominios de los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los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bujar el diagrama entidad-rel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ar el esquema conceptual local con el problema inic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tir si algo falta o no está completamente corre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desea recoger en una base de datos la información acerca de las corridas de toros que se celebran en Españ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desea tener información acerca de cada corrida, identificada conjuntamente por un número de orden, la feria en la que se celebra y el año de celebración (por ejemplo: orden = 2, feria = San Isidro, Año = 1999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una corrida actúan una serie de toreros (mínimo 1 y máximo 3) de los que desea guardar su DNI, nombre, apodo y fecha en que se convirtió en matador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ás se desea saber quien fue el torero que lo apadrinó ese día (un torero puede apadrinar a varios toreros o a ninguno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cada corrida, un torero obtiene una serie de premios (orejas, rabos y si salió por la puerta grande o no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torero puede tener un apoderado del que es protegido. A su vez, un apoderado puede proteger a varios toreros. De cada apoderado se desea saber su DNI, nombre, dirección y teléfo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corrida se celebra en una plaza de toros de la que se desea saber su nombre que se supone único, localidad y dirección. En una misma plaza se pueden celebrar varias corridas de tor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Ejemplo (cont.)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 cada corrida son estoqueados al menos 6 toros. Cada toro viene identificado por el código de la ganadería a la que pertenece, el año en que nació y un número de orden. Además se desea mantener información acerca de su nombre y color así como el orden en que fue tore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toro pertenece a una ganadería determinada. De cada ganadería se pretende saber su código, localidad y fecha de cre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olu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03" name="" descr="Entidad-relación de los amigos de la Fiesta"/>
          <p:cNvPicPr/>
          <p:nvPr/>
        </p:nvPicPr>
        <p:blipFill>
          <a:blip r:embed="rId1"/>
          <a:stretch/>
        </p:blipFill>
        <p:spPr>
          <a:xfrm>
            <a:off x="611280" y="887400"/>
            <a:ext cx="79214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Ejemplo conjunto: </a:t>
            </a:r>
            <a:br>
              <a:rPr sz="3800"/>
            </a:b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alumnos, profesores y curso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 E-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ahora, ¿cómo consultamos la informació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Qué es un SGB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istema gestor de la base de datos)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 un programa que se ubica entre los usuarios y los datos como t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¿Cuál es su ut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ita la interacción directa con la inform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acceso a la información a nivel 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ermite un mayor grado de independencia entre las aplicaciones y la información fí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QL = Structured Query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tructu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os camp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se cumpl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ertas cond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r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mbre y apelli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de tab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dad sea mayor a 18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QL: Sintaxis re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LECT A.nombre, A.apell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OM Alumnos 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HERE A.edad&g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leccionar los nombres de todos los cursos que son dictados el 2do semestre del año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Un ejemplo más complej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ncontrar nombre y apellido de todos los alumnos que est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tomando el curso llamado “Comput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le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.nombre, a.apell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r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umnos as a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urso as 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maCurso as 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nombre = “Computación”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.id = tc.curso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c.alumno = a.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Que pasa debido a la consulta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16000" y="2924280"/>
          <a:ext cx="2881440" cy="1064880"/>
        </p:xfrm>
        <a:graphic>
          <a:graphicData uri="http://schemas.openxmlformats.org/drawingml/2006/table">
            <a:tbl>
              <a:tblPr/>
              <a:tblGrid>
                <a:gridCol w="505080"/>
                <a:gridCol w="1295280"/>
                <a:gridCol w="10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2050920" y="4581360"/>
          <a:ext cx="2016000" cy="1065240"/>
        </p:xfrm>
        <a:graphic>
          <a:graphicData uri="http://schemas.openxmlformats.org/drawingml/2006/table">
            <a:tbl>
              <a:tblPr/>
              <a:tblGrid>
                <a:gridCol w="431640"/>
                <a:gridCol w="1584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003640" y="3213000"/>
          <a:ext cx="1873080" cy="1460520"/>
        </p:xfrm>
        <a:graphic>
          <a:graphicData uri="http://schemas.openxmlformats.org/drawingml/2006/table">
            <a:tbl>
              <a:tblPr/>
              <a:tblGrid>
                <a:gridCol w="1009440"/>
                <a:gridCol w="863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m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dentificadores con “a” para alumnos y “c” para cursos, así se entiende mej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s-CL" sz="2600" spc="-1" strike="noStrike">
                <a:solidFill>
                  <a:srgbClr val="003399"/>
                </a:solidFill>
                <a:latin typeface="Arial"/>
              </a:rPr>
              <a:t>From Alumnos as a, Curso as c,TomaCurso as tc” implica la combinación de </a:t>
            </a:r>
            <a:r>
              <a:rPr b="1" lang="es-CL" sz="2600" spc="-1" strike="noStrike">
                <a:solidFill>
                  <a:srgbClr val="003399"/>
                </a:solidFill>
                <a:latin typeface="Arial"/>
              </a:rPr>
              <a:t>TODO con TOD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where c.nombre = “Computación”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0000" y="1557360"/>
          <a:ext cx="7272360" cy="43606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c.id =  tc.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00000" y="1557360"/>
          <a:ext cx="7272360" cy="235116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nd tc.alumno =  a.i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00000" y="1557360"/>
          <a:ext cx="7272360" cy="101124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ancis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select a.nombre, a.apellid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900000" y="1557360"/>
          <a:ext cx="7272360" cy="676080"/>
        </p:xfrm>
        <a:graphic>
          <a:graphicData uri="http://schemas.openxmlformats.org/drawingml/2006/table">
            <a:tbl>
              <a:tblPr/>
              <a:tblGrid>
                <a:gridCol w="586080"/>
                <a:gridCol w="1223640"/>
                <a:gridCol w="1152720"/>
                <a:gridCol w="574560"/>
                <a:gridCol w="1585800"/>
                <a:gridCol w="1151280"/>
                <a:gridCol w="998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c.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mpu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6438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Resultado Final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43280" y="1557360"/>
          <a:ext cx="2376360" cy="676080"/>
        </p:xfrm>
        <a:graphic>
          <a:graphicData uri="http://schemas.openxmlformats.org/drawingml/2006/table">
            <a:tbl>
              <a:tblPr/>
              <a:tblGrid>
                <a:gridCol w="1223640"/>
                <a:gridCol w="115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.apell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6d4e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2060280"/>
            <a:ext cx="76233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¿Preguntas?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Trabajo 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buje un modelo entidad-relación que modele la información de asociada a los pacientes de un centro méd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 modelo, debe incluir al menos la siguiente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sitas/consultas méd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ám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istorial mé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 incluir las entidades y relaciones que estime conveniente, además de las correspondientes cardi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Conceptos Básicos: 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ambién sirve par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la redundancia en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egurar la consistencia de los da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ntener la integridad ante fallas (datos malos, fallas de hardware, cortes de luz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veer algún tipo de seguridad al acceder la B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trolar el acceso concur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jorar la efici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SGB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Gra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my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Postgre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3"/>
              </a:rPr>
              <a:t>Firebi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c6d80"/>
                </a:solidFill>
                <a:uFillTx/>
                <a:latin typeface="Arial"/>
                <a:hlinkClick r:id="rId4"/>
              </a:rPr>
              <a:t>SQ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BMS Comer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S SQL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Tipos de Bases de Dat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a clasificación posible es dado el tipo de organización en la base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Jer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de 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D Rela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tructura de árbol: nodo padre tiene muchos nodos hij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y eficiente pues los sistemas de archivo son jer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qu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t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laciones son unidireccionales: 1: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ícil evitar la redundancia </a:t>
            </a:r>
            <a:r>
              <a:rPr b="0" lang="es-ES_trad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inconsist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3399"/>
                </a:solidFill>
                <a:latin typeface="Arial"/>
              </a:rPr>
              <a:t>Bases de Datos Jer</a:t>
            </a:r>
            <a:r>
              <a:rPr b="0" lang="es-ES_tradnl" sz="42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árquica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ino An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rsos y Alum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344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81880" y="3370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ut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2520" y="4653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R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54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4880" y="4653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. Sa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19880" y="4148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249228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50880" y="249228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3080" y="3357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3600" y="3357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2900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2700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429264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95360" y="2637000"/>
            <a:ext cx="1919880" cy="457200"/>
            <a:chOff x="2295360" y="2637000"/>
            <a:chExt cx="1919880" cy="457200"/>
          </a:xfrm>
        </p:grpSpPr>
        <p:sp>
          <p:nvSpPr>
            <p:cNvPr id="118" name=""/>
            <p:cNvSpPr/>
            <p:nvPr/>
          </p:nvSpPr>
          <p:spPr>
            <a:xfrm>
              <a:off x="2295360" y="2637000"/>
              <a:ext cx="457200" cy="457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9840" y="266076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ino Ani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6880" y="3500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3160" y="4869000"/>
            <a:ext cx="12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7520" y="4869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3496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0080" y="436572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1720" y="3440160"/>
            <a:ext cx="457200" cy="4572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55840" y="34639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eb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18" idx="4"/>
            <a:endCxn id="114" idx="0"/>
          </p:cNvCxnSpPr>
          <p:nvPr/>
        </p:nvCxnSpPr>
        <p:spPr>
          <a:xfrm flipH="1">
            <a:off x="1947960" y="3094200"/>
            <a:ext cx="57636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8" idx="4"/>
            <a:endCxn id="125" idx="0"/>
          </p:cNvCxnSpPr>
          <p:nvPr/>
        </p:nvCxnSpPr>
        <p:spPr>
          <a:xfrm>
            <a:off x="2523600" y="3093840"/>
            <a:ext cx="57708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114" idx="4"/>
            <a:endCxn id="115" idx="0"/>
          </p:cNvCxnSpPr>
          <p:nvPr/>
        </p:nvCxnSpPr>
        <p:spPr>
          <a:xfrm flipH="1">
            <a:off x="1154880" y="3886200"/>
            <a:ext cx="7930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14" idx="4"/>
            <a:endCxn id="116" idx="0"/>
          </p:cNvCxnSpPr>
          <p:nvPr/>
        </p:nvCxnSpPr>
        <p:spPr>
          <a:xfrm>
            <a:off x="1947600" y="3885840"/>
            <a:ext cx="1080" cy="40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14" idx="4"/>
            <a:endCxn id="124" idx="0"/>
          </p:cNvCxnSpPr>
          <p:nvPr/>
        </p:nvCxnSpPr>
        <p:spPr>
          <a:xfrm>
            <a:off x="1947960" y="3886200"/>
            <a:ext cx="72144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10" idx="4"/>
            <a:endCxn id="104" idx="0"/>
          </p:cNvCxnSpPr>
          <p:nvPr/>
        </p:nvCxnSpPr>
        <p:spPr>
          <a:xfrm flipH="1">
            <a:off x="6241680" y="2949480"/>
            <a:ext cx="50400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04" idx="4"/>
            <a:endCxn id="107" idx="0"/>
          </p:cNvCxnSpPr>
          <p:nvPr/>
        </p:nvCxnSpPr>
        <p:spPr>
          <a:xfrm flipH="1">
            <a:off x="5733360" y="3814920"/>
            <a:ext cx="5086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" name=""/>
          <p:cNvCxnSpPr>
            <a:stCxn id="104" idx="4"/>
            <a:endCxn id="109" idx="0"/>
          </p:cNvCxnSpPr>
          <p:nvPr/>
        </p:nvCxnSpPr>
        <p:spPr>
          <a:xfrm>
            <a:off x="6241680" y="3814920"/>
            <a:ext cx="40716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" name=""/>
          <p:cNvCxnSpPr>
            <a:stCxn id="110" idx="4"/>
            <a:endCxn id="112" idx="0"/>
          </p:cNvCxnSpPr>
          <p:nvPr/>
        </p:nvCxnSpPr>
        <p:spPr>
          <a:xfrm>
            <a:off x="6744960" y="2949480"/>
            <a:ext cx="57708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6" name=""/>
          <p:cNvGrpSpPr/>
          <p:nvPr/>
        </p:nvGrpSpPr>
        <p:grpSpPr>
          <a:xfrm>
            <a:off x="7021440" y="3814920"/>
            <a:ext cx="1871640" cy="2278080"/>
            <a:chOff x="7021440" y="3814920"/>
            <a:chExt cx="1871640" cy="2278080"/>
          </a:xfrm>
        </p:grpSpPr>
        <p:cxnSp>
          <p:nvCxnSpPr>
            <p:cNvPr id="137" name=""/>
            <p:cNvCxnSpPr>
              <a:stCxn id="112" idx="4"/>
              <a:endCxn id="138" idx="0"/>
            </p:cNvCxnSpPr>
            <p:nvPr/>
          </p:nvCxnSpPr>
          <p:spPr>
            <a:xfrm>
              <a:off x="7321320" y="3814920"/>
              <a:ext cx="72144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"/>
            <p:cNvSpPr/>
            <p:nvPr/>
          </p:nvSpPr>
          <p:spPr>
            <a:xfrm>
              <a:off x="7670880" y="4653000"/>
              <a:ext cx="95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. Roj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13440" y="4149720"/>
              <a:ext cx="457200" cy="457200"/>
            </a:xfrm>
            <a:prstGeom prst="ellipse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21440" y="5157720"/>
              <a:ext cx="1871640" cy="935280"/>
            </a:xfrm>
            <a:prstGeom prst="irregularSeal1">
              <a:avLst/>
            </a:prstGeom>
            <a:solidFill>
              <a:srgbClr val="4c6d4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Redunda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1:09:36Z</dcterms:created>
  <dc:creator/>
  <dc:description/>
  <dc:language>en-US</dc:language>
  <cp:lastModifiedBy>rtoledo</cp:lastModifiedBy>
  <dcterms:modified xsi:type="dcterms:W3CDTF">2010-05-14T18:12:29Z</dcterms:modified>
  <cp:revision>240</cp:revision>
  <dc:subject/>
  <dc:title>Bases de Datos</dc:title>
</cp:coreProperties>
</file>