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033B7-1E31-4CEF-B72E-A3E7B9782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DE4E9-6DC8-4E01-9EA5-EF33748BD8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4D102-CFDC-4F4A-BF30-F871B94519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BB6B1-2BBA-4287-A5C3-E1B4C49218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54219-5604-48CF-87DF-FD06A7FE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C4463-B608-40A4-827B-EBFFCDD9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65633-D373-4B0C-BA35-A1389732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78DCB-7778-498B-8936-E046C5AF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51ACA-7A6A-4A54-BED4-8C05BDF0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C6BB3-4A92-4C1B-8BEF-9B81074C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751B7-7D06-4ADE-B411-66307F30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978F9-4CC0-4903-918A-82AE9533C9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89C7C-9D4F-43AA-A717-85D81730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F19AA-21F2-47DD-80C7-BC4EAD10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857FC-A6EF-44E6-8A36-57C2227E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EEBDA-1572-44B2-ADEA-AAB762A24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D9F3A-42C0-41F8-9527-31E09AF55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B3E48-B878-4A80-820E-613ED21DA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02463-E6C3-4CBC-A4E3-A5CC8EFBF7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05B87-5331-47A9-BB7A-ABAF6FDC51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E384D-A2A2-4BD0-8112-E9BF507EF5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87B70-07F0-4A7B-8C0B-9F17DE3793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1FF54-7B21-4645-B522-7D79C2BDCB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691FB-B6DF-4883-9842-7395E407C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8B8C-37D4-4717-BFCB-05FB3FDF95B7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6524-005E-44CE-8F4C-654E6E56E8D1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office.microsoft.com/en-us/access/HA102388991033.aspx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Microsoft Access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rso Computación-Tecnología Mé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2016000" cy="1533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47240" y="6308640"/>
            <a:ext cx="42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ferencia: Apuntes Universidad de Navar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LICULA(Id, Titulo, Productora, Año, Tip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TOR(Id, Nombre, Apellido, FechaNa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TUA(Actor, Pelicul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IPO(Id, Nomb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9481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Dominios (Tipos de Datos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Text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formación alfanuméricos de hasta 255 caracte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Memo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formación alfanuméricos de gran tama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Numeros enteros y re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Date/Time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echa y h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Currency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ormatos monet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AutoNumber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 número en secuencia introducido automáticamente por A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Yes/No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Valores bin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OLE Object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 objeto OLE (imagen, sonido, hoja de cálculo </a:t>
            </a: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Hyperlink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Guardan direcciones de páginas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Relacionar Tabl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atabase Tools / Relationshi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elationships/Edit Relationship/Create N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legir qué tablas y columnas relacion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3500280"/>
            <a:ext cx="3816360" cy="2365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3280" y="3429000"/>
            <a:ext cx="3384720" cy="24843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4"/>
          <p:cNvSpPr/>
          <p:nvPr/>
        </p:nvSpPr>
        <p:spPr>
          <a:xfrm>
            <a:off x="971640" y="623736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Tools/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Ingresar info a la 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l final de la tab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84582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onsult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ara “preguntarle” algo a la base de dat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reate/Query Wizard/Simple Query Wiz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egir info que quiero en la respue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68360" y="2924280"/>
            <a:ext cx="3598920" cy="26924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4"/>
          <p:cNvSpPr/>
          <p:nvPr/>
        </p:nvSpPr>
        <p:spPr>
          <a:xfrm>
            <a:off x="971640" y="623736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Queries/New/Simple Query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uego, podemos filtrar las respues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Home/Filter/Advanced/Filter by 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lenar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oggle Fil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467480" y="6248520"/>
            <a:ext cx="433440" cy="4334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4"/>
          <p:cNvSpPr/>
          <p:nvPr/>
        </p:nvSpPr>
        <p:spPr>
          <a:xfrm>
            <a:off x="990720" y="624852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ords-&gt;Filter-&gt;Filter By Form, Apply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ermite lanzar consultas con el fin de recuperar -de una forma sencilla- información de interés de una base de datos, así como también hacer cambios sobre la mis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taxi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col1,col2,.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abla1,tabla2,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condicion AND/OR condicion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DER BY c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omo ingresar SQL en Acces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reate / Query Design / cerrar vent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QL 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Ver Resultado: Ru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916360" y="2205000"/>
            <a:ext cx="2879640" cy="1568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962520" y="3962520"/>
            <a:ext cx="1895400" cy="18669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4"/>
          <p:cNvSpPr/>
          <p:nvPr/>
        </p:nvSpPr>
        <p:spPr>
          <a:xfrm>
            <a:off x="990720" y="6165720"/>
            <a:ext cx="7181640" cy="67212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eries/New/Design View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View/SQL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ver resultado: View-&gt;DataSheet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 1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eleccione todos los datos de los actores nacidos antes de 196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olu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lect A.id, A.nombre, A.apellido, A.fechanacimient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rom Actores as 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Where A.fechanacimiento&l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#1-1-1960#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 fechas se escriben entre #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ra opci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ón: Select * (seleccionar todos los camp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Hoy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ase Microsoft Ac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bajo Pr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áctico Ac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mienzo Proyecto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 2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eleccione todos los datos de los actores nacidos antes de 1960, ordenados por apellido y nomb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olu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Actores as 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A.fechanacimiento&lt;#1-1-1960#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der By A.Apellido, A.nomb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 3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uperar el nombre de las pel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ículas animadas (Cartoon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cientes (desp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 del 200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oluci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p.titu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peliculas as p, tipo as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t.tipo=‘Cartoon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p.anno&gt;2003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p.tipo=t.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 4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Cu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les son los actores que han participado en comedia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oluci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ELECT a.apellido, a.nomb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FROM actores as a, actuan as ac,  peliculas as p, tipo as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WHERE a.id=ac.a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nd ac.pelicula=p.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nd p.tipo=t.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nd t.tipo='Comedia'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Parámetr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 que Access consulte por alg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n dato para llenar la consulta, se usan los caracteres [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jemplo: Queremos las películas de X añ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LECT p.Tit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ROM Peliculas as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WHERE p.An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[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Formulari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reate 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3524040" cy="2657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047480" y="2135160"/>
            <a:ext cx="496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gir tabla o consulta com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ente de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140360" y="3213000"/>
            <a:ext cx="4524120" cy="30099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11280" y="4797360"/>
            <a:ext cx="3313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 fichas de result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990720" y="632448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ew Form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Form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Report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e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me/Fil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5257800" cy="2233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46604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rabajo Práctico (grupos 2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rear una base de datos de Lib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lenar la BD con los datos de 5 lib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r consul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Acces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69284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icrosoft Access es un SGBD, programa para gestionar bases de datos relacio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124000" y="4005360"/>
            <a:ext cx="2870280" cy="1753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3789360"/>
            <a:ext cx="2057400" cy="1498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172480" y="3395520"/>
            <a:ext cx="198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ostgreSQ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019840" y="42339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391440" y="3852720"/>
            <a:ext cx="2384280" cy="1895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895040" y="3471840"/>
            <a:ext cx="1285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762120" y="2286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Algo de histori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cess vers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1.0 - 199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ras version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 u="sng">
                <a:solidFill>
                  <a:srgbClr val="4c6d80"/>
                </a:solidFill>
                <a:uFillTx/>
                <a:latin typeface="Arial"/>
                <a:ea typeface="ＭＳ Ｐゴシック"/>
                <a:hlinkClick r:id="rId1"/>
              </a:rPr>
              <a:t>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34120" y="380880"/>
            <a:ext cx="2012760" cy="2438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181480" y="3505320"/>
            <a:ext cx="2470320" cy="2469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372440" y="1905120"/>
            <a:ext cx="1771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Base de Dat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1760" y="1295280"/>
            <a:ext cx="769284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Una base de datos está compuesta de tablas y relaciones entre ell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ada tabla tiene atributos (columnas, campos). Un elemento (fila) de una tabla es un registr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j: Tabla Act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tributos: Nombre, apellido, fecha nacimiento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egistros: Jim Carrey 17/01/1962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 todos sus datos), Mel Gibson ..., e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6656400" cy="4343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523800" y="31572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Base de Datos en Acces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4000" y="1125360"/>
            <a:ext cx="76928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abla (Pelicula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70400" y="9810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pos (atribut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940000" y="119700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30920" y="1700280"/>
            <a:ext cx="1366560" cy="453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2560" y="4221000"/>
            <a:ext cx="6697800" cy="28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02040" y="386064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(1 fi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380360" y="4221000"/>
            <a:ext cx="504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LICULA(Id, Titulo, Productora, Año, Tip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TOR(Id, Nombre, Apellido, FechaNa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TUA(Actor, Pelicul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IPO(Id, Nomb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9481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Tablas…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ELICULA(Id, Titulo, A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ño,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CTOR(Id, Nombre, Apellido,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CTUA(Actor, Pelicul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48320" y="2819520"/>
          <a:ext cx="4038480" cy="2189160"/>
        </p:xfrm>
        <a:graphic>
          <a:graphicData uri="http://schemas.openxmlformats.org/drawingml/2006/table">
            <a:tbl>
              <a:tblPr/>
              <a:tblGrid>
                <a:gridCol w="698400"/>
                <a:gridCol w="1206360"/>
                <a:gridCol w="1123920"/>
                <a:gridCol w="1009800"/>
              </a:tblGrid>
              <a:tr h="312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ell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ui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k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n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743200" y="228600"/>
            <a:ext cx="6019920" cy="91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304920" y="2819520"/>
          <a:ext cx="4038480" cy="2189160"/>
        </p:xfrm>
        <a:graphic>
          <a:graphicData uri="http://schemas.openxmlformats.org/drawingml/2006/table">
            <a:tbl>
              <a:tblPr/>
              <a:tblGrid>
                <a:gridCol w="698400"/>
                <a:gridCol w="2330280"/>
                <a:gridCol w="628920"/>
                <a:gridCol w="380880"/>
              </a:tblGrid>
              <a:tr h="312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ICU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ñ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Guerra de los Mun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Guerra de los Mun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66880" y="5181480"/>
          <a:ext cx="4038840" cy="1251000"/>
        </p:xfrm>
        <a:graphic>
          <a:graphicData uri="http://schemas.openxmlformats.org/drawingml/2006/table">
            <a:tbl>
              <a:tblPr/>
              <a:tblGrid>
                <a:gridCol w="1905120"/>
                <a:gridCol w="2133720"/>
              </a:tblGrid>
              <a:tr h="312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icu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reaci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ón de Tabl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2296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ffice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 N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lank Database (elegir nomb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reate / 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leccionar tabla (botón derecho), Design 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pecificar nombre de tab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pecificar nombre de cada colum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pecificar tipo de datos que guardar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: Nombre? Edad? Fecha nacimien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egir Llave 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maria (Primary Ke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79520" y="4592520"/>
            <a:ext cx="4321080" cy="1444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flipH="1" flipV="1">
            <a:off x="2819160" y="4952520"/>
            <a:ext cx="338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19840" y="40878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tributo (colum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43160" y="4303800"/>
            <a:ext cx="36734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22440" y="5181480"/>
            <a:ext cx="28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 (text, number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971640" y="623736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New Blank Database, Create table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20:41:02Z</dcterms:created>
  <dc:creator>Vale</dc:creator>
  <dc:description/>
  <dc:language>en-US</dc:language>
  <cp:lastModifiedBy>VHerskovic</cp:lastModifiedBy>
  <dcterms:modified xsi:type="dcterms:W3CDTF">2010-10-12T21:26:53Z</dcterms:modified>
  <cp:revision>67</cp:revision>
  <dc:subject/>
  <dc:title>(Microsoft Office) Excel y Access</dc:title>
</cp:coreProperties>
</file>