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C3D-2A2D-4A14-A739-4D6A0D0A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2947-2448-4729-B5A9-DC81012B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C5DF-4811-418A-9734-48C0FD1F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E0B8-35D5-4B5B-BD81-8920FA178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1983-2C5F-4178-A839-4AB156129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0F41-B646-4AD8-B904-BF1BD39C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A8DA-273D-43D3-93C0-DA111829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87C-D5E1-40A5-B657-2DF2A33B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C886-9A9A-4170-AE9A-FDB472AB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C771-1352-4007-AB1E-88ED9111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41C-D93C-4E99-BA73-D868874B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0AC2-5D53-4149-B745-CB1B5A80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84ED-D779-430A-B907-6755A5075B7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ntent.onlinejacc.org/content/vol50/issue20/images/large/07026599.gr1.jpe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GAMIENTO Y MAPAS DE G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RSO DE GENETICA TECNOLOGÍA MEDICA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 DR. RAUL GODOY – HERRERA, PROGRAMA DE GENETICA, FACULTAD DE MEDIC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 DOS LOCI HETEROCIGOTOS CADA UNO: A,a y B,b. HAY CUATRO POSIBLES TIPOS DE GAME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b aB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parentales o no recombinantes (en roj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pos recombinantes (en neg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fracción de recombinación, es la proporción en que se rompe el ligamiento en la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647800" y="1609560"/>
            <a:ext cx="3848400" cy="36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1197000"/>
            <a:ext cx="6400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frecuencia de recombinación varía entre diferentes genes y esto se utliza para consreuir mapas genéticos. Las presuncione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1.- los genes están dispuestos linealmente en los crom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2.- la frecuencia de recombinación depende de la distancia física entre ge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3.- entonces los genes se pueden disponer en línea recta a distancias que son proporcionales a la fracción de recombinación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es genes (loci): YELLOW, WHITE Y MINI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-W: 1.3 %; W-MI: 32.6 %; Y-MI: 33.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ORDEN DE LOS GENES SE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 - W  - 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ADITIVIDAD NO SE MANTIENE CUANDO LAS DISTANCIAS, ES DECIR CUANDO LAS FRACCIONES DE RECOMBINACION, SON MAYORES DEL 10 %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 DESVIACIONES DE LA ADITIVIDAD SE DEBEN A LOS DOBLES ENTRECRUZAMIEN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DISTANCIA ENTRE GENES SE DEFINIÓ MAS PRECISAMENTE POR HALDANE (191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DISTANCIA ENTRE DOS GENES CORRESPONDE AL PROMEDIO DE RECOMBINACIONES ENTRE DOS LOCI EN LA MEI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A UNIDAD DE DISTANCIA ES EL CENTIMORGAN (cM). Dos loci están a 1cM si en promedio hay una recombinación entre ellos por cada 100 mei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especie humana los primeros genes que se localizaron fueron los correspondientes a hemofilia y daltonismo, en el cromosoma X (Bell y Haldane, 1937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UPOS DE LIGAMIENTO: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 AUTOSOMAS, 1 PARA 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OTRO PARA EL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862280" y="1619280"/>
            <a:ext cx="5419440" cy="361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42920" y="47628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jo mayor de histocompatibilidad. CROMOSOMA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1154160"/>
            <a:ext cx="568800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PAS GENE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084400"/>
            <a:ext cx="6400800" cy="38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MAPAS CROMOSÓMICOS SON UNA MANERA NATURAL DE ORGANIZAR DATOS SOBRE LOS CROMOSO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 INFORMACIÓN ESTÁ REFERID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ECER LA POSICION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-  LOS GE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- PUNTOS DE ROTURA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- UBICACIÓN DE CENTROMEROS Y TELOM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POS DE MAPAS GENET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- MAPAS OBTENIDOS A TRAVES DE FRECUENCIAS DE ROTURA DEL LIGAMIENTO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- MAPAS CITOGENET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- MAPAS FIS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NANDO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TRAVES DE ELEMENTOS TRANSPONIB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PAS FISICOS, CORRESPONDEN A MAPAS DE GENES EN QUE ESTAS ENTIDADES SON OBJETOS CONCRETOS Y LAS DISTANCIAS SON FÍSICAS Y SE EXPRESAN EN MILES O MILLONES DE PARES DE B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PAS FISICOS INCLUYEN TAMBIEN FRAGMENTOS DE RESTRICCION Y FRAGMENTOS CLONADOS DE CROMOS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PAS GENE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 MAPAS GENETICOS SON DISTINTOS A OTROS MAPAS PORQU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- LAS DISTANCIAS ENTRE GENES SE EXPRESAN COMO FRECUENCIAS DE RECOMBIN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- LA TASA DE RECOMBINACIÓN VARIA A LO LARGO DELCROMOSOMA. POR LO TANTO LA DISTANCIA ENTRE GENES NO ES PROPORCIONAL A UNA DISTAMCIA FI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igure 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1125360"/>
            <a:ext cx="475956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63640" y="1050840"/>
            <a:ext cx="5688000" cy="46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14680" y="15238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5T14:32:01Z</dcterms:created>
  <dc:creator>Raul Godoy</dc:creator>
  <dc:description/>
  <dc:language>en-US</dc:language>
  <cp:lastModifiedBy>Fac. de Medicina</cp:lastModifiedBy>
  <dcterms:modified xsi:type="dcterms:W3CDTF">2010-09-06T15:54:13Z</dcterms:modified>
  <cp:revision>28</cp:revision>
  <dc:subject/>
  <dc:title>Diapositiva 1</dc:title>
</cp:coreProperties>
</file>