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047B-DC98-4C31-AC6D-291D302C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9995-4867-4036-A984-DF007E3F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C8BB-C9CC-4169-9012-F2F129C3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5E3C-1004-4F84-801B-759B3591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2D9B-4D37-496B-BD13-4F70B61E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DA9F-BD99-41E0-B909-C13BD476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B6F2-6110-49C3-9ACC-63106613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7C29-6257-4D44-B007-87BFEAD7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20D3-5365-4D6E-9047-B98FF8CC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F002-9511-4306-B92B-08E037C1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1DAF-F64A-4463-BE9D-066C2B17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BC71-049A-4495-9A37-7BAC77DF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AAB9-B67B-4BCD-8F03-FA39165B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77C4-02A3-457D-84E1-DC4A3E20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1F89-7D46-4468-A09F-E01E09CD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5DE5-63F6-4DA0-9101-AAFF172B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0759-A355-493B-B572-6E5B3C7B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961C-DF5A-4ACB-BFA5-84886EEE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9E83-46E7-465A-B931-575F49E1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06A8-E351-4179-B24F-D2637A1F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35CB-EF6B-43A1-9852-28020882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DC6E-9DEB-4960-A5C2-4CA2C5BA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730F-22AF-4C97-A5DA-4E964702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E8E-73AF-4EE7-A963-256D0D7E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CBD0-3353-4DE3-852E-EF14EC3410D4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7FF5-4007-49BD-B9BA-DEC9B46E854D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Bases para la formulación de un Plan Estratégi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lementos de un plan de trabaj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isión y Vis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ntedec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bjetivos y me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Formulación de Objetivo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scriben los propósitos de un determinado pl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o que se pretende logr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virán como criterio para la selección de cursos de ac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ueden referirse a situaciones deseadas o valores que se desea implant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Formulación de Objetivo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laros y Precis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ducentes a un plan de acción vi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Formulación de Objetivo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ueden ser Generales o Específic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odemos encontrar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O. de Producto: Bien o servicio entregado a la comunidad. N° de consultas, sesiones educativa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O. de Efectos: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mbio de conducta esperado o inesperado como consecuencia de la utilización de los productos. Bajo consumo de grasas saturadas, realización de actividad física moderada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O. Proceso: Orientados a mejorar el proceso de gestión de las acciones en march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O. de Impacto: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Modificación en la condición biológica y/o socioeconómica de la población,  como consecuencia de los efectos. Disminución de prevalencia de Obesidad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Formulación de Meta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 que se pretende logr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tienen medidas especificas de log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tienen periodo de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Generales o especific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 producto, efecto e impac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Formulación de Meta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laras y Precis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presadas en una dimensión tempor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valuab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alist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416800" cy="12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la comuna de Providencia, al año 2009, una de sus prioridades de intervención fue las Enfermedades C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9280" y="2492280"/>
          <a:ext cx="8798040" cy="3702240"/>
        </p:xfrm>
        <a:graphic>
          <a:graphicData uri="http://schemas.openxmlformats.org/drawingml/2006/table">
            <a:tbl>
              <a:tblPr/>
              <a:tblGrid>
                <a:gridCol w="781200"/>
                <a:gridCol w="3540240"/>
                <a:gridCol w="447660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321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A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minuir la prevalencia de HTA descompensada.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rar que los pacientes HT bajo control adecuen su ingesta de sodio a la recomendación entregada. 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er la cobertura de los controles nutricionales a los pacientes HT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minuir la prevalencia de HTA descompensada en un 5%, en un año.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rar que al menos un 10% de los pacientes HT bajo control adecuen su ingesta de sodio a la recomendación entregada, entre un control y otro. 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er la cobertura de los controles nutricionales en el 85%, durante el año.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Que voy a realizar para lograr mis objetivos y me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sulta nutricional con consejer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trol Sa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pervisión PNAC Y PAC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un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sponde a la pregunta ¿quien lo va a hacer.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expresa en hrs/ s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calcula para cada a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r ejemp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sulta Nutricional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10 hr/ s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cursos materi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sponde a la pregunta ¿con qué lo va a hac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expresa en cantid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calcula para cada a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r ejemp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sulta Nutricional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1 Box equip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828800" y="914400"/>
            <a:ext cx="16765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IMAGEN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OBJETIV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1981080"/>
            <a:ext cx="2133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IAGNOSTIC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Y PROGNOSI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133720"/>
            <a:ext cx="34290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OBJETIVOS</a:t>
            </a:r>
            <a:r>
              <a:rPr b="1" lang="es-ES_tradnl" sz="2400" spc="-1" strike="noStrike">
                <a:solidFill>
                  <a:srgbClr val="336666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ESPECIFIC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2971800"/>
            <a:ext cx="16765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ESTRATEGI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4343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POLITICA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434340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PROGRAMA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5486400"/>
            <a:ext cx="20574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SEGUIMIENTO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Y EVALUACIO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55840" y="260280"/>
            <a:ext cx="4516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Verdana"/>
              </a:rPr>
              <a:t>METODO DE PLANIFICAC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2209680"/>
            <a:ext cx="2133360" cy="0"/>
          </a:xfrm>
          <a:prstGeom prst="line">
            <a:avLst/>
          </a:prstGeom>
          <a:ln w="936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4038480"/>
            <a:ext cx="21337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ANALISIS D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COHERENCI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02" name=""/>
          <p:cNvCxnSpPr/>
          <p:nvPr/>
        </p:nvCxnSpPr>
        <p:spPr>
          <a:xfrm>
            <a:off x="3504960" y="1371240"/>
            <a:ext cx="3810600" cy="610200"/>
          </a:xfrm>
          <a:prstGeom prst="curvedConnector2">
            <a:avLst/>
          </a:prstGeom>
          <a:ln w="936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94" idx="3"/>
            <a:endCxn id="101" idx="2"/>
          </p:cNvCxnSpPr>
          <p:nvPr/>
        </p:nvCxnSpPr>
        <p:spPr>
          <a:xfrm>
            <a:off x="4419360" y="2361960"/>
            <a:ext cx="1905480" cy="2400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336666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endCxn id="93" idx="3"/>
          </p:cNvCxnSpPr>
          <p:nvPr/>
        </p:nvCxnSpPr>
        <p:spPr>
          <a:xfrm>
            <a:off x="3505320" y="3184560"/>
            <a:ext cx="3056400" cy="32400"/>
          </a:xfrm>
          <a:prstGeom prst="curvedConnector5">
            <a:avLst>
              <a:gd name="adj1" fmla="val 44881"/>
              <a:gd name="adj2" fmla="val 744943"/>
              <a:gd name="adj3" fmla="val 44881"/>
            </a:avLst>
          </a:prstGeom>
          <a:ln w="936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657240" y="5638320"/>
            <a:ext cx="3810600" cy="457920"/>
          </a:xfrm>
          <a:prstGeom prst="curvedConnector2">
            <a:avLst/>
          </a:prstGeom>
          <a:ln w="9360">
            <a:solidFill>
              <a:srgbClr val="336666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97" idx="2"/>
            <a:endCxn id="98" idx="3"/>
          </p:cNvCxnSpPr>
          <p:nvPr/>
        </p:nvCxnSpPr>
        <p:spPr>
          <a:xfrm rot="5400000">
            <a:off x="3237480" y="5371920"/>
            <a:ext cx="915120" cy="22932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07" name=""/>
          <p:cNvCxnSpPr/>
          <p:nvPr/>
        </p:nvCxnSpPr>
        <p:spPr>
          <a:xfrm flipH="1" rot="16200000">
            <a:off x="989640" y="5333760"/>
            <a:ext cx="838800" cy="22932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08" name=""/>
          <p:cNvCxnSpPr/>
          <p:nvPr/>
        </p:nvCxnSpPr>
        <p:spPr>
          <a:xfrm flipH="1" rot="16200000">
            <a:off x="3161520" y="3543120"/>
            <a:ext cx="457920" cy="1143720"/>
          </a:xfrm>
          <a:prstGeom prst="bentConnector3">
            <a:avLst>
              <a:gd name="adj1" fmla="val 49960"/>
            </a:avLst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09" name=""/>
          <p:cNvCxnSpPr/>
          <p:nvPr/>
        </p:nvCxnSpPr>
        <p:spPr>
          <a:xfrm rot="5400000">
            <a:off x="1599480" y="3581280"/>
            <a:ext cx="457920" cy="1067760"/>
          </a:xfrm>
          <a:prstGeom prst="bentConnector3">
            <a:avLst>
              <a:gd name="adj1" fmla="val 49960"/>
            </a:avLst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 flipV="1">
            <a:off x="2590920" y="3885840"/>
            <a:ext cx="0" cy="1600200"/>
          </a:xfrm>
          <a:prstGeom prst="line">
            <a:avLst/>
          </a:prstGeom>
          <a:ln w="9360">
            <a:solidFill>
              <a:srgbClr val="3366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1" idx="3"/>
            <a:endCxn id="96" idx="2"/>
          </p:cNvCxnSpPr>
          <p:nvPr/>
        </p:nvCxnSpPr>
        <p:spPr>
          <a:xfrm flipV="1" rot="16200000">
            <a:off x="3996360" y="2631960"/>
            <a:ext cx="244800" cy="5037840"/>
          </a:xfrm>
          <a:prstGeom prst="curvedConnector5">
            <a:avLst>
              <a:gd name="adj1" fmla="val -48011"/>
              <a:gd name="adj2" fmla="val 49996"/>
              <a:gd name="adj3" fmla="val -48011"/>
            </a:avLst>
          </a:prstGeom>
          <a:ln w="9360">
            <a:solidFill>
              <a:srgbClr val="336666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2590920" y="1828800"/>
            <a:ext cx="0" cy="3049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2590920"/>
            <a:ext cx="0" cy="380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95" idx="3"/>
            <a:endCxn id="101" idx="0"/>
          </p:cNvCxnSpPr>
          <p:nvPr/>
        </p:nvCxnSpPr>
        <p:spPr>
          <a:xfrm>
            <a:off x="3504960" y="3428640"/>
            <a:ext cx="3886920" cy="610200"/>
          </a:xfrm>
          <a:prstGeom prst="curvedConnector2">
            <a:avLst/>
          </a:prstGeom>
          <a:ln w="9360">
            <a:solidFill>
              <a:srgbClr val="336666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6707880" y="6248520"/>
            <a:ext cx="2158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imes New Roman"/>
              </a:rPr>
              <a:t>MIDEPLAN -199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779200" y="298440"/>
            <a:ext cx="4580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Verdana"/>
              </a:rPr>
              <a:t>PROCESO DE PLANIFICAC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257480"/>
            <a:ext cx="3505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1.POLITICAS NACIONAL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2324160"/>
            <a:ext cx="25146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2.ANALISIS DE L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ESTRUCTURA Y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FUNCIONAMIENT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EL SISTEM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4381560"/>
            <a:ext cx="22860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6.METODOS D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SEGUIMIENTO 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EVALUACIO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5448240"/>
            <a:ext cx="25146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5.INSTRUMENTOS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ISPONIBL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15000" y="438156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4.CURSOS D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ACCION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POSIBL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2400480"/>
            <a:ext cx="205740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3.DEMANDAS Y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ASPIRACION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3009960"/>
            <a:ext cx="2514600" cy="0"/>
          </a:xfrm>
          <a:prstGeom prst="line">
            <a:avLst/>
          </a:prstGeom>
          <a:ln w="936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7" idx="1"/>
            <a:endCxn id="118" idx="0"/>
          </p:cNvCxnSpPr>
          <p:nvPr/>
        </p:nvCxnSpPr>
        <p:spPr>
          <a:xfrm flipV="1" rot="10800000">
            <a:off x="2171160" y="1599120"/>
            <a:ext cx="1028880" cy="724680"/>
          </a:xfrm>
          <a:prstGeom prst="curved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3"/>
            <a:endCxn id="122" idx="0"/>
          </p:cNvCxnSpPr>
          <p:nvPr/>
        </p:nvCxnSpPr>
        <p:spPr>
          <a:xfrm>
            <a:off x="6705360" y="1599840"/>
            <a:ext cx="267120" cy="801000"/>
          </a:xfrm>
          <a:prstGeom prst="curved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0" idx="1"/>
            <a:endCxn id="119" idx="2"/>
          </p:cNvCxnSpPr>
          <p:nvPr/>
        </p:nvCxnSpPr>
        <p:spPr>
          <a:xfrm rot="10800000">
            <a:off x="2056680" y="5371560"/>
            <a:ext cx="991440" cy="572040"/>
          </a:xfrm>
          <a:prstGeom prst="curved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1" idx="2"/>
            <a:endCxn id="120" idx="3"/>
          </p:cNvCxnSpPr>
          <p:nvPr/>
        </p:nvCxnSpPr>
        <p:spPr>
          <a:xfrm rot="5400000">
            <a:off x="5828760" y="5105160"/>
            <a:ext cx="572040" cy="1105560"/>
          </a:xfrm>
          <a:prstGeom prst="curved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8" idx="2"/>
            <a:endCxn id="121" idx="1"/>
          </p:cNvCxnSpPr>
          <p:nvPr/>
        </p:nvCxnSpPr>
        <p:spPr>
          <a:xfrm flipH="1" rot="16200000">
            <a:off x="3238560" y="2400120"/>
            <a:ext cx="1410480" cy="3543840"/>
          </a:xfrm>
          <a:prstGeom prst="curved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2" idx="2"/>
            <a:endCxn id="121" idx="0"/>
          </p:cNvCxnSpPr>
          <p:nvPr/>
        </p:nvCxnSpPr>
        <p:spPr>
          <a:xfrm rot="5400000">
            <a:off x="6361920" y="3771720"/>
            <a:ext cx="915120" cy="30564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9" idx="1"/>
            <a:endCxn id="118" idx="1"/>
          </p:cNvCxnSpPr>
          <p:nvPr/>
        </p:nvCxnSpPr>
        <p:spPr>
          <a:xfrm flipH="1" rot="10800000">
            <a:off x="914040" y="2894760"/>
            <a:ext cx="2160" cy="1982160"/>
          </a:xfrm>
          <a:prstGeom prst="curvedConnector5">
            <a:avLst>
              <a:gd name="adj1" fmla="val -14400000"/>
              <a:gd name="adj2" fmla="val 49990"/>
              <a:gd name="adj3" fmla="val -14400000"/>
            </a:avLst>
          </a:prstGeom>
          <a:ln w="9360">
            <a:solidFill>
              <a:srgbClr val="336666"/>
            </a:solidFill>
            <a:prstDash val="dash"/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6707880" y="6172200"/>
            <a:ext cx="2158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imes New Roman"/>
              </a:rPr>
              <a:t>MIDEPLAN -199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779200" y="298440"/>
            <a:ext cx="4580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Verdana"/>
              </a:rPr>
              <a:t>PROCESO DE PLANIFICAC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1230480"/>
            <a:ext cx="3505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iagnostico Alimentario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Nutriciona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3860640"/>
            <a:ext cx="22860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efinición de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cursos de acció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59280" y="5157720"/>
            <a:ext cx="25146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efinición de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Imagen Objetiv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24360" y="386064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efinición de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prioridad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2133720"/>
            <a:ext cx="205740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Análisis de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Factibilidad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2205000"/>
            <a:ext cx="22860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Seguimiento y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evaluació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61009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6666"/>
                </a:solidFill>
                <a:latin typeface="Arial"/>
              </a:rPr>
              <a:t>Formulación de Objetivos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616572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6666"/>
                </a:solidFill>
                <a:latin typeface="Arial"/>
              </a:rPr>
              <a:t>Formulación de Metas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997360"/>
            <a:ext cx="5867280" cy="4103640"/>
          </a:xfrm>
          <a:prstGeom prst="ellipse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32000" y="33577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6666"/>
                </a:solidFill>
                <a:latin typeface="Verdana"/>
              </a:rPr>
              <a:t>Plan de trabaj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ocumento que materializa el proceso de Planifica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fine el futuro deseado por la institución y las acciones necesarias para lograr ese futu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ermite establecer acuerdos y compromisos institucionales, en torno a determinados resultados esper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rdena las iniciativas del equipo planific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biera considerar iniciativas orientadas a lograra una mayor efectividad en la disminución de problemas nutricion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 discute en tor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Por qué se va a actu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Para qu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Qué se va a hac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A quien esta dirigid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Cómo se va hac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Quien lo va hac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Con qué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Cuándo y dond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Consideracio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problemas y necesidades de la población son ilimitadas y los recursos escas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problemas de salud prevalentes van cambiando en 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s acciones de salud son por naturaleza complej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rabajo con la comun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Consideracio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Modelo de Salud Integral con enfoque familiar y comunitario se debe expresar en todos los momentos de la planificación, de modo que lo que se proponga realizar el equipo local considere a las personas, familias y comunidad como recursos para la mantención y recuperación de la salu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5:15:41Z</dcterms:created>
  <dc:creator>Usuario</dc:creator>
  <dc:description/>
  <dc:language>en-US</dc:language>
  <cp:lastModifiedBy>Usuario</cp:lastModifiedBy>
  <dcterms:modified xsi:type="dcterms:W3CDTF">2011-03-10T12:53:24Z</dcterms:modified>
  <cp:revision>20</cp:revision>
  <dc:subject/>
  <dc:title>Bases para la formulación de un Plan Estratégico</dc:title>
</cp:coreProperties>
</file>