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268-24FC-4B32-8DE1-BC711056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834-ED9B-44C4-AF0F-8115F4A7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379-B44D-427F-96A3-783493DD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C72-30A1-4FDF-80AD-84308079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6A1-5F50-4F3D-AD3D-2BE301FB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79A-1774-456D-883C-C4911B24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199-14F9-45DD-823F-165D4D1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C07-8C45-4421-B57B-F04D49E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73B-070C-4005-8380-B5CB349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C26-B628-43C9-8DAE-23FF3F6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186-B1C5-440B-AC55-5453767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9DB-83AC-41B2-A59B-949A465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F0C3-F68A-4C59-B2F5-2F705FAC8DC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mento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tes que presentan al menos una de las dos siguientes caracterís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tructura de complemento: preposición + F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emplazo por un pronombre átono con el que presenta concorda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ronombres átonos 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nombres (reemplazan semánticamente a nomina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tónicos (como los pronombres núcleos de F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determinan directamente al verb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v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recuer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611280" y="765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 CuadroTexto"/>
          <p:cNvSpPr/>
          <p:nvPr/>
        </p:nvSpPr>
        <p:spPr>
          <a:xfrm>
            <a:off x="611280" y="148428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 CuadroTexto"/>
          <p:cNvSpPr/>
          <p:nvPr/>
        </p:nvSpPr>
        <p:spPr>
          <a:xfrm>
            <a:off x="611280" y="191628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611280" y="2565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8 CuadroTexto"/>
          <p:cNvSpPr/>
          <p:nvPr/>
        </p:nvSpPr>
        <p:spPr>
          <a:xfrm>
            <a:off x="611280" y="29973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61128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a los pres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0 CuadroTexto"/>
          <p:cNvSpPr/>
          <p:nvPr/>
        </p:nvSpPr>
        <p:spPr>
          <a:xfrm>
            <a:off x="611280" y="3860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1 CuadroTexto"/>
          <p:cNvSpPr/>
          <p:nvPr/>
        </p:nvSpPr>
        <p:spPr>
          <a:xfrm>
            <a:off x="611280" y="4724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18864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O, LA, LOS, LAS, en concordancia de género y número con la FN reemplazada, ese complemento es 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E o LES, en concordancia de número con la FN reemplazada, o por SE cuando hay otro p.a., ese complemento es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tiene estructura de complemento, pero no es posible reemplazarlo por ningún p.a., ese complemento es CIRCUNST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CuadroTexto"/>
          <p:cNvSpPr/>
          <p:nvPr/>
        </p:nvSpPr>
        <p:spPr>
          <a:xfrm>
            <a:off x="611280" y="1197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611280" y="2133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</a:t>
            </a:r>
            <a:r>
              <a:rPr b="1" lang="es-ES" sz="2000" spc="-1" strike="noStrike">
                <a:solidFill>
                  <a:srgbClr val="376092"/>
                </a:solidFill>
                <a:latin typeface="Arial"/>
              </a:rPr>
              <a:t>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1 CuadroTexto"/>
          <p:cNvSpPr/>
          <p:nvPr/>
        </p:nvSpPr>
        <p:spPr>
          <a:xfrm>
            <a:off x="611280" y="32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2 CuadroTexto"/>
          <p:cNvSpPr/>
          <p:nvPr/>
        </p:nvSpPr>
        <p:spPr>
          <a:xfrm>
            <a:off x="4140360" y="6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4067280" y="155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CuadroTexto"/>
          <p:cNvSpPr/>
          <p:nvPr/>
        </p:nvSpPr>
        <p:spPr>
          <a:xfrm>
            <a:off x="3059280" y="249228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5 CuadroTexto"/>
          <p:cNvSpPr/>
          <p:nvPr/>
        </p:nvSpPr>
        <p:spPr>
          <a:xfrm>
            <a:off x="5796000" y="249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6 CuadroTexto"/>
          <p:cNvSpPr/>
          <p:nvPr/>
        </p:nvSpPr>
        <p:spPr>
          <a:xfrm>
            <a:off x="4284720" y="3716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39640" y="465300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studiantes está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bsolutamente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260280"/>
          <a:ext cx="8785440" cy="5904000"/>
        </p:xfrm>
        <a:graphic>
          <a:graphicData uri="http://schemas.openxmlformats.org/drawingml/2006/table">
            <a:tbl>
              <a:tblPr/>
              <a:tblGrid>
                <a:gridCol w="2195640"/>
                <a:gridCol w="2197080"/>
                <a:gridCol w="2195640"/>
                <a:gridCol w="2197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 verificarlo, puede reemplazarse por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pid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O LA LOS LAS y SE, según concordancia de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ne preposición      &lt; a &gt; más FN o simplemente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le dolió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a sen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ol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E LES y SE. Según concordancia de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presenta preposición &lt; a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es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 personal átono LO neutro en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jetivo, frase adjetiva, frase nominal, cláusul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fui a Valparaí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reemplazo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CIRCUNST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 cualquier preposición +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v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539640" y="342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escuchará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7 CuadroTexto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menz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ab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 avisó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ord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4:30:52Z</dcterms:created>
  <dc:creator>medicina</dc:creator>
  <dc:description/>
  <dc:language>en-US</dc:language>
  <cp:lastModifiedBy>medicina</cp:lastModifiedBy>
  <dcterms:modified xsi:type="dcterms:W3CDTF">2011-11-18T21:14:37Z</dcterms:modified>
  <cp:revision>10</cp:revision>
  <dc:subject/>
  <dc:title>Diapositiva 1</dc:title>
</cp:coreProperties>
</file>