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BBA-F3C9-42F7-9E6C-CBF1DFFF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0EB-ABC4-4C02-B1C5-A086CF83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2BC-DBAC-48A0-8FC6-61EB48BE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153-B5F8-4BB7-8C50-AED235BB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205B-F33E-49F3-8A5E-A02C6F1D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5489-7EB2-40D3-A5D4-92078BE8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1FD2-3D2D-40F3-AB71-ADFD1ED9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5FF0-B7F3-44DE-BAC7-86158619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BC9F-E5E9-4515-B9B3-F31DD368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8818-8D63-458D-BC0D-38814F37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1EBD-FB8F-4960-9A43-ADD63C52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DF8-D338-4F6D-A390-7D3BD450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6CF1-0B43-4324-BD5D-298190D7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66EE-4716-4B53-A4F6-CF84D882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29C7-AB30-4E94-AB8B-B4AEE2E3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6746-DFF2-43DD-9CEF-042A65C1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9C84-F82B-4F9C-91DB-826EBDB7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82947-9EF5-4167-A154-F7B50FA1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CC7E-C569-4AC9-BCA0-704BC13C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734EF-39DC-4766-BAAC-A86A3B99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0BBE9-1F5E-4ECB-BA96-41600F06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F6668-0BE3-45D7-A06D-D532C65D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503-C2AD-4C84-AEED-847B77D9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5EA40-500B-450F-BD17-087FCE20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DF9D-CEA6-48C1-86D1-3D15F57C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9EC31-2133-4172-A8D0-48BD3D9B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A37A-94AF-466B-9C34-2015DA1E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B785-399C-41A6-8FEF-CFDF2D98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D5441-3AC9-48C1-A988-C6E0C227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A250C-D51C-49A9-AB0B-3E509767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D3030-A985-4E69-9419-49956E08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3E9C5-F075-43D4-821F-FAC9741E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43A66-348D-4A03-91A9-873155EE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B00-E6B7-437F-B387-3AF4DD36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C6B6B-17FE-4333-9A91-F4B08B23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3F9EA-EF2F-4329-B7E3-FE52A9EC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1E3A-97C6-4805-A33E-60F16352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971C3-F065-43AC-9AA9-E8BC4498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6CB97-9F71-40DB-BED3-F9F30C15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B620B-45E6-4095-8ADC-817B9434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E98A5-3B22-4D90-8E45-1B9451F4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46E90-35EB-4A2F-A793-87D48533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8E16A-3904-4324-9643-D6D787E1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64DE8-7FF1-4228-ABB8-CF01ACD1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20A-EB19-42E6-AC0C-18ABFD59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AF545-BDE3-40F2-9F11-17F702C4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3FF1E-105A-4DA7-94F1-F0B8B231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4DF47-4D48-48EC-B382-4364BBE8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89DF0-CCD2-491B-B4CC-55F07352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9606F-2636-4110-975B-5B224F44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10543-D120-4E7B-86F4-044E39A6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837BA-6A3C-4756-B5E2-C438872B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2B967-F0A9-4775-9724-DA8FFFD3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56DEC-4EE8-4658-97D9-A79C579F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6F433-6852-4D87-BD62-43304D35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5BE-49C2-4D59-AE26-A2B3382D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20A5D-5009-49D5-B8DD-C657E203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B5003-0865-43B8-A9A5-3CEB83E8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37F20-C82A-4409-AE60-61E88351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B0CCA-BAAD-487D-87B0-CC5256D9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83FCF-3DA3-4D3E-A647-95999138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3FC20-2522-4700-B56D-33CA0501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21B9B-04AC-4955-A8DA-F70B587C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774FD-727F-47E8-81FA-F1ED53B9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510EB-3B72-409E-B876-8606CBEF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506B0-4C1A-46CC-ABF9-A60BD718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7607-4F1F-4CA7-BFE5-9E053D30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466FF-AB26-47B2-A946-7D076F03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A9A57-363A-43FF-A885-79B09A31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7B23C-F523-4D3F-A51E-54DF5757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5A786-5347-417D-B504-9A1516C9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2EB5B-163A-4AF0-9019-61FD08A6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797C8-D354-40D9-A012-CAD8FF80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C809C-3102-4D7A-B160-081EEB9F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73701-223F-4622-B702-A5C7FE67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F4CAA-190E-47E7-BC96-84E6B8E5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D8C78-268E-44A9-AAE7-C9C1D5EF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64C-75C9-44BA-A17E-062AE979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9598E-9120-4401-94F2-39857B6E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29AF2-D474-41D4-A6B8-321A4979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C0725-4387-4F8C-8FD2-F3388E60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38B07-5FAC-4C49-9E96-19BCFC58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1B5F6-B1EA-414D-A136-C0FCB581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973DA-9E96-4102-B56A-E473E141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CAC31-3233-445D-A009-E15D316A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225EC-934D-41DC-B08B-D2AF757C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3C850-D5BD-4E2E-8462-405ED5BB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EDFB4-B408-497D-8B40-B789614C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E60-22D5-4EF0-8F0B-7C6DF9C8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10C55-CE6C-4CCA-AA45-3A53CA8A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93C73-AEEE-4578-96BD-EED8F831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3BEED-5CC8-4FB4-AA85-9EB01558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3C530-0817-4E48-975C-51B9AB76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16833-6476-4E20-8F27-A991EE76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D69D2-5440-4722-9334-2F6C141E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E7AFD-3B97-4BDE-A7CE-CCD7E858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C041-C825-4C85-A6C2-FDB024EB0D1A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61D7-DD10-4DFF-9330-6B176555B95D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DA97-B08B-4817-9B5C-10516000FB55}" type="slidenum">
              <a:rPr b="0" lang="es-MX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34EC-3266-4AB4-AE4C-8D4E853EE7B3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035B-0082-450A-8862-3C39E358356F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2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5028-D975-4F67-9D24-82780A45162A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2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E38E-138B-4178-82B2-2C5EC742F5BA}" type="slidenum">
              <a:rPr b="0" lang="es-MX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2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655B-171B-4ADC-AD96-CD3D58D60406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Cláusulas sustantiv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versaban con los que ya no participan ta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versaban co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ya no participan ta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versaban co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ya no participan ta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e llegó una consulta sobre cómo obtener más in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versaban co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ya no participan ta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e llegó una consulta sobre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cómo obtener más in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Distintas posibilidades de estructurar cláusulas sustantiv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 infinit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Me solicitaron </a:t>
            </a: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recolectar firmas de apoyo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 relativos sin refer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Los que siguen sin clases </a:t>
            </a: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son los secundario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 subjunciones “que” o “si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Los invito a </a:t>
            </a: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que propongan idea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No saben </a:t>
            </a: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si marzo será un mes relajado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 interrogativas indirect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Tienes que decirme </a:t>
            </a: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qué fue lo que le escribist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3:38:20Z</dcterms:created>
  <dc:creator>Cristian Peñaloza</dc:creator>
  <dc:description/>
  <dc:language>en-US</dc:language>
  <cp:lastModifiedBy>medicina</cp:lastModifiedBy>
  <dcterms:modified xsi:type="dcterms:W3CDTF">2011-12-05T20:49:57Z</dcterms:modified>
  <cp:revision>12</cp:revision>
  <dc:subject/>
  <dc:title>Frase nominal</dc:title>
</cp:coreProperties>
</file>