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61F-198C-4B97-875F-CEB4B2CC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67B-771E-45BE-A936-9E29F81E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EC0-E2DA-4ACB-BB93-6CC66693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339-432F-4BF2-B6CC-6A5C4FFE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A219-8CF3-4C0A-A4DB-CDEE32CC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870-60B8-438B-9182-A674B831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5D7-4289-46DB-9ABD-66955ED2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D5D-1325-4A6C-8140-71CCFCD9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EE7-C79C-4B46-8DAD-85CAC7EB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9C0-2CA0-425C-87E6-B39D403C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AF0-27D8-48F6-AAEB-E10A9DC9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541-6AEB-4792-8075-CF9C97AF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9E17-5FA5-4EB4-8FE9-8A55511037C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 o   pronombres personales áto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16000" y="549360"/>
          <a:ext cx="6985080" cy="19368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erminan de manera directa a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 de ellos funciona como pronombre que reemplaza un CD o un 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, por lo tanto, se clasifica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direct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in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16000" y="549360"/>
          <a:ext cx="6985080" cy="19368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emplazo pronominal para identificación de función sintáct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vimos en la biblioteca / *Le vimos en la bibliote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traje la medicina / le traje la medic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1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medicina que la prometí / la medicina que le prome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2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raciones con pronominales reflej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solito todas las mañan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sujeto del verbo es, a la vez, el ob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el pelo solito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es una parte semántica d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lava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no coincide con 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” no es reflejo (es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licu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),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erb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rbos que se construyen con un pronom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nominal es parte de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r lo tanto, el pronominal no tiene función sintáct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ugarse des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4:14:58Z</dcterms:created>
  <dc:creator>medicina</dc:creator>
  <dc:description/>
  <dc:language>en-US</dc:language>
  <cp:lastModifiedBy>medicina</cp:lastModifiedBy>
  <dcterms:modified xsi:type="dcterms:W3CDTF">2011-12-05T20:50:59Z</dcterms:modified>
  <cp:revision>6</cp:revision>
  <dc:subject/>
  <dc:title>Los pronominales o   pronombres personales átonos</dc:title>
</cp:coreProperties>
</file>