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B3C-AF9C-4199-92D3-1E7A89CE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E88D-7EEA-4419-BA6D-05F038FE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B44-7146-4AF2-A8D7-3C65B510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6E0-549A-4D1C-B8A9-ADD5356D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76DC-841F-47CE-81C9-123DA917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4DF2-2414-491B-9EF0-5595ADE5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ADD9-8339-4272-A87F-561E661C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4B15-9D2C-4217-8340-1032C0A8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FB46-580A-40EF-82F9-62CAC903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0A00-5AB0-48E4-9247-9B90A47C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F37B-5990-47E6-9982-9F4754A8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B3E-D123-406F-AC0E-DC041ACF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EBC8-2601-45DB-B63E-02F8AD8A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E86B-7DE0-4F80-88F6-88DCFB9B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9DCD-3670-46F1-9303-BE3D338A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A07E-A57C-48FF-B19D-ACCF1E59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F7EC-9A46-4045-8782-C9B8B177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099-1591-4798-8174-D7667452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D92-1743-4BBD-ABE0-B60E8B03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016-E5CA-4AFD-98EF-132F2727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EA7-2962-48EE-AAFE-0857A0ED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EC0-6FDA-4488-BC76-C39E3EC5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BBC-B518-4655-ACDB-8E802804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C4BC-3F9B-497A-BF51-D1FF5131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0E34-08AF-44E0-9BCF-4EC128815FC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5365-CF57-4666-BB37-C9BBC8D1168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Asignatur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Epidemiología y Salud Públ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03280" y="1844640"/>
            <a:ext cx="6515280" cy="38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2421000"/>
            <a:ext cx="74293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1916280"/>
            <a:ext cx="12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OBL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nive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56720" y="3357720"/>
            <a:ext cx="36036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GEN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5734080"/>
            <a:ext cx="11602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1628640"/>
            <a:ext cx="36036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ORG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Z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69120" y="473040"/>
            <a:ext cx="492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Verdana"/>
              </a:rPr>
              <a:t>Concepto de Salud </a:t>
            </a:r>
            <a:r>
              <a:rPr b="0" i="1" lang="es-ES" sz="2400" spc="-1" strike="noStrike">
                <a:solidFill>
                  <a:srgbClr val="5f5f5f"/>
                </a:solidFill>
                <a:latin typeface="Verdana"/>
              </a:rPr>
              <a:t>Determi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66"/>
                </a:solidFill>
                <a:latin typeface="Verdana"/>
              </a:rPr>
              <a:t>(Esquema simplificado de J. Fre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2565360"/>
            <a:ext cx="11890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OC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565360"/>
            <a:ext cx="13888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GRUP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2565360"/>
            <a:ext cx="10461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NDIVID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3141720"/>
            <a:ext cx="122400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ul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de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i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conó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3141720"/>
            <a:ext cx="115272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ant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ique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l Produ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str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y Cl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3068640"/>
            <a:ext cx="1513080" cy="27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ndi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ateriale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l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Viv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ten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al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ndi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del proc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uta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ort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7280" y="40766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95640" y="3716280"/>
            <a:ext cx="863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4365720"/>
            <a:ext cx="9144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ociales y 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141720"/>
            <a:ext cx="1297080" cy="17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Estructur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y fun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corpo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Susceptibil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individu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5084640"/>
            <a:ext cx="109836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G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MÓRB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0" y="3933720"/>
            <a:ext cx="27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80000" y="4724280"/>
            <a:ext cx="27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38606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472428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43640" y="393372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236000" y="443700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6165720"/>
            <a:ext cx="4176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rebuchet MS"/>
              </a:rPr>
              <a:t>PROCESO SALUD – ENFERMEDAD - M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Determinantes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Trebuchet MS"/>
              </a:rPr>
              <a:t>(Modelo Explicativo Canadiense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torno Socioeconóm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greso y posición 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des de apoyo 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du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mpleo y condiciones de trabaj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torno Fís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ábitos Personales de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pacidad Individual y Aptitudes de Adapt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racterísticas biológ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icios de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tros: desarrollo del niño; gén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Equidad y Salu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ta idealiz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rreras que limitan el acceso a la sal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tuaciones de inequidad a nivel mundi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ariables que inciden en la inequidad en sal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El completo estado de bienest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físico, mental y social del individuo, 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familia y la sociedad en su conjunto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y no sólo la ausencia de enfermed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(OMS, 194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rebuchet MS"/>
              </a:rPr>
              <a:t>derecho humano fundament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rebuchet MS"/>
              </a:rPr>
              <a:t>imperativo social y económico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(Alma Ata, 197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lud como proyecto social, no como utop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tencial biológico expresado en un amb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lud relativa, más que absolu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junto complejo y dinámico. Dimension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ológ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cológ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conóm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ultu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sonal y való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Evolució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ficultad para definir límites entre salud y enferme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unidad: rol de mayor participación y responsa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cepto dinám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ultado de la relación población – medio ambi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pacidades de tolerancia, compensación y adapt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Nuevo Enfoqu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safíos aún pendie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jos de “producir salud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rticipación de distintos secto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ograr situación de bienest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Desarrollo Human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Relación estrecha entre salud y desarroll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Salud ligada  a modos de vi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omponentes interrelacionados en nivel de salud individual y pobla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bjetivo último del desarrollo: crear condiciones para vida prolongada, saludable y creativ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esarrollo humano: dos dimension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Desarrollo de capacidad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Uso de esas capacidda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Ejemplo: IDH (salud; educación; nivel e ingreso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3200" spc="-1" strike="noStrike">
                <a:solidFill>
                  <a:srgbClr val="5f5f5f"/>
                </a:solidFill>
                <a:latin typeface="Trebuchet MS"/>
              </a:rPr>
              <a:t>Concepto Dinámic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ambios inten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Glob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onvergencia entre problemas del desarrollo y sub desarrollo. Desarrollo económico marcado por la desigual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esarrollo – Subdesarrol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Pobreza – Rique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Urbano - Rur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Biología y sociedad se revelan y reflejan en la salu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Determinant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ed multicausal de factores biológicos y socia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Organización so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tructura económ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Nivel de Democra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Fecundida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colar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Urbaniz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tilos de Vi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s-ES" sz="3200" spc="-1" strike="noStrike">
                <a:solidFill>
                  <a:srgbClr val="5f5f5f"/>
                </a:solidFill>
                <a:latin typeface="Trebuchet MS"/>
              </a:rPr>
              <a:t>Determinantes </a:t>
            </a:r>
            <a:r>
              <a:rPr b="0" lang="es-ES" sz="2000" spc="-1" strike="noStrike">
                <a:solidFill>
                  <a:srgbClr val="006666"/>
                </a:solidFill>
                <a:latin typeface="Trebuchet MS"/>
              </a:rPr>
              <a:t>(Informe Lalonde, Canadá 1974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30400" y="37162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6440" y="2133720"/>
            <a:ext cx="1927080" cy="7038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19120" y="3789360"/>
            <a:ext cx="1892160" cy="398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stilos de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80280" y="3789360"/>
            <a:ext cx="2154240" cy="398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01560" y="5300640"/>
            <a:ext cx="2322000" cy="398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rvicios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3068640"/>
            <a:ext cx="2016000" cy="194472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22:40:01Z</dcterms:created>
  <dc:creator>mele</dc:creator>
  <dc:description/>
  <dc:language>en-US</dc:language>
  <cp:lastModifiedBy>Ministerio</cp:lastModifiedBy>
  <dcterms:modified xsi:type="dcterms:W3CDTF">2011-11-14T14:05:56Z</dcterms:modified>
  <cp:revision>24</cp:revision>
  <dc:subject/>
  <dc:title>Concepto de Salud</dc:title>
</cp:coreProperties>
</file>