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7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7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0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5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3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7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5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3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7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7880" y="761760"/>
            <a:ext cx="7788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7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0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4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343400" y="0"/>
            <a:ext cx="4495680" cy="6984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008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77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85800" y="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epartamento de Cirugía</a:t>
            </a:r>
            <a:endParaRPr b="1" lang="en-US" sz="1600" spc="-1" strike="noStrike">
              <a:solidFill>
                <a:srgbClr val="ffff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Unidad Cirugía Endocrino</a:t>
            </a:r>
            <a:endParaRPr b="1" lang="en-US" sz="1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" name="Oval 7"/>
          <p:cNvSpPr/>
          <p:nvPr/>
        </p:nvSpPr>
        <p:spPr>
          <a:xfrm>
            <a:off x="228600" y="6172200"/>
            <a:ext cx="228600" cy="228600"/>
          </a:xfrm>
          <a:prstGeom prst="ellipse">
            <a:avLst/>
          </a:prstGeom>
          <a:solidFill>
            <a:srgbClr val="ffdc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85800" y="7621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45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ATOLOGÍA BENIGNA DE TIROIDES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752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00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7752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00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1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00"/>
                </a:solidFill>
                <a:latin typeface="Bookman Old Style"/>
              </a:rPr>
              <a:t>DR. FRANCISCO RODRIGUEZ MOREN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ATOLOGIA CONGENITA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77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Quiste Branquial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: más frecuente derivado de la segunda hendidura branqui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Higroma Quístic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groma quístico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pic>
        <p:nvPicPr>
          <p:cNvPr id="88" name="6 Marcador de contenido" descr="20120927_084054.jpg"/>
          <p:cNvPicPr/>
          <p:nvPr/>
        </p:nvPicPr>
        <p:blipFill>
          <a:blip r:embed="rId1"/>
          <a:stretch/>
        </p:blipFill>
        <p:spPr>
          <a:xfrm>
            <a:off x="126216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9" name="7 Marcador de contenido" descr="20120927_084114.jpg"/>
          <p:cNvPicPr/>
          <p:nvPr/>
        </p:nvPicPr>
        <p:blipFill>
          <a:blip r:embed="rId2"/>
          <a:stretch/>
        </p:blipFill>
        <p:spPr>
          <a:xfrm>
            <a:off x="522432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90" name="8 Marcador de contenido" descr="20120927_095423.jpg"/>
          <p:cNvPicPr/>
          <p:nvPr/>
        </p:nvPicPr>
        <p:blipFill>
          <a:blip r:embed="rId3"/>
          <a:stretch/>
        </p:blipFill>
        <p:spPr>
          <a:xfrm>
            <a:off x="126216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9 Marcador de contenido" descr="20120927_115326.jpg"/>
          <p:cNvPicPr/>
          <p:nvPr/>
        </p:nvPicPr>
        <p:blipFill>
          <a:blip r:embed="rId4"/>
          <a:stretch/>
        </p:blipFill>
        <p:spPr>
          <a:xfrm>
            <a:off x="522432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ATOLOGIA INFLAMATORIA: TIROIDITIS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Tiroiditis Agudas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rigen bacteriano ( Gram +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ost. Infecciones Vecina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olor – Fiebre – Eritema – Leucocitosi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Tto. Antibiótic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bsceso  -&gt; Drenaje Quirúrgic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Tiroiditis Subagudas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Etiología probable vir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Evolución 1 – 6 me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umento de volumen doloroso sin eritem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Fiebre moderada y decaimient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creta leucocitosis. Aumento VH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o anticuerpos antitiroídeo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Frecuente síntomas de tirotoxicosi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Tratamiento Médic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ATOLOGÍA INFLAMATORIA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Tiroiditis Crónica (Hashimoto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tiología Autoinmu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 linfoplasmocitari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Títulos altos anticuerpos antitiroídeo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Aumento de TSH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Hipotiroidism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&gt; frecuencia sexo femenin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Aumento de volumen moderado, ocacionalmente nodula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Biopsia por punción, buen rendimient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ATOLOGÍA INFLAMATORIA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Tiroiditis de Riedel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Fibrosis de tejido tiroíde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Dg. Diferencial con Cáncer de Tiroid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Biopsia Quirúrg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 tiene tratamiento específic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ATOLOGÍA HIPERPLÁSICA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Bocios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umento de volumen difuso o nodular del Tiroide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ustrato anatomopatológico: Hiperplasia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atología más frecuente del Tiroide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Zonas endémicas (Prev. &gt; 5% de la población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Etiología desconocida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línica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&gt; frec. Asintomáticos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Bocio difuso simple: adolescentes sexo femenino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Bocio nodular: &gt; de 30 año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omas compresivos (Bocios muy grandes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fonía, adenopatías: sospecha Ca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BOCIO NODULAR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Frecuencia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USA: 4%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hile: &gt; 5%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umenta con la edad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25% de las autopsia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&gt; frecuencia mujeres 30 – 40 año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natomía Patológica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iperplasia nodula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Quiste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Tiroiditi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denoma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arcinoma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BOCIO UNINODULAR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Frecuencia: 1% a 5%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&gt; frecuencia asintomáticos sin alteración de la funció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&gt; frecuencia hipocaptante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Estudio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9940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namnesi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9940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Ex. Físico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9940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intigrama tiroídeo.(Hipo, normo, hipercaptante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9940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Ecotomografía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9940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unción citológica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99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Tratamiento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9940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Médico: Tiroxina -&gt; Supresión de TSH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9940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Quirúrgico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90152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ospecha de Ca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90152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iños – Adolescente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90152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ódulo frío &gt; 1 cm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90152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omas Compresivo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901520" indent="-2192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Falla del tratamiento médico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9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499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BOCIO MULTINODULAR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&gt; Frecuencia sexo femenino, &gt; 30 año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Baja frecuencia de malignización (5% a 10%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dicaciones quirúrgic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ódulo prominente. (Hipocaptant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Brusco crecimiento del bocio o de un nódul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Bocio retroesternal o endotoráxic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íntomas compresivo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gnos de malignida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Falla del tratamiento médic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oexistencia con hipertiroidism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Bocio multinodular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pic>
        <p:nvPicPr>
          <p:cNvPr id="107" name="6 Marcador de contenido" descr="20121212_172502.jpg"/>
          <p:cNvPicPr/>
          <p:nvPr/>
        </p:nvPicPr>
        <p:blipFill>
          <a:blip r:embed="rId1"/>
          <a:stretch/>
        </p:blipFill>
        <p:spPr>
          <a:xfrm>
            <a:off x="126216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08" name="7 Marcador de contenido" descr="20140423_124556.jpg"/>
          <p:cNvPicPr/>
          <p:nvPr/>
        </p:nvPicPr>
        <p:blipFill>
          <a:blip r:embed="rId2"/>
          <a:stretch/>
        </p:blipFill>
        <p:spPr>
          <a:xfrm>
            <a:off x="522432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8 Marcador de contenido" descr="BMN.jpg"/>
          <p:cNvPicPr/>
          <p:nvPr/>
        </p:nvPicPr>
        <p:blipFill>
          <a:blip r:embed="rId3"/>
          <a:stretch/>
        </p:blipFill>
        <p:spPr>
          <a:xfrm>
            <a:off x="1258920" y="4473720"/>
            <a:ext cx="2665440" cy="1834920"/>
          </a:xfrm>
          <a:prstGeom prst="rect">
            <a:avLst/>
          </a:prstGeom>
          <a:ln w="0">
            <a:noFill/>
          </a:ln>
        </p:spPr>
      </p:pic>
      <p:pic>
        <p:nvPicPr>
          <p:cNvPr id="110" name="9 Marcador de contenido" descr="BMN (2).jpg"/>
          <p:cNvPicPr/>
          <p:nvPr/>
        </p:nvPicPr>
        <p:blipFill>
          <a:blip r:embed="rId4"/>
          <a:stretch/>
        </p:blipFill>
        <p:spPr>
          <a:xfrm>
            <a:off x="5292720" y="4473720"/>
            <a:ext cx="2592360" cy="18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ATOLOGÍA BENIGNA DE TIROIDES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atología Congénita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-22392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Quiste Tirogloso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-22392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igroma quístic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-22392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Quiste branqui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-22392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lteraciones de la migració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-22392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genesia – Hipoplasia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atología Inflamatoria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-22392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Tiroiditi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atología Hiperplásica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-22392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Bocios Difuso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-22392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Bocios Nodulare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atología Tumoral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-22392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denoma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3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c45"/>
                </a:solidFill>
                <a:latin typeface="Arial"/>
              </a:rPr>
              <a:t>Caso Clínico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Hombre de 35 añ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otivo de consulta: hallazgo de aumento de volumen asintomático cervical anterio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Se le indica estudi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Se pierde de control por 5 añ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ulta por síntomas compresiv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xamen físico destaca gran aumento de volumen cervical anterio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c45"/>
                </a:solidFill>
                <a:latin typeface="Arial"/>
              </a:rPr>
              <a:t>Examen Físico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00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9" descr="Bocio endotorácico 005"/>
          <p:cNvPicPr/>
          <p:nvPr/>
        </p:nvPicPr>
        <p:blipFill>
          <a:blip r:embed="rId1"/>
          <a:stretch/>
        </p:blipFill>
        <p:spPr>
          <a:xfrm>
            <a:off x="126216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Bocio endotorácico 004"/>
          <p:cNvPicPr/>
          <p:nvPr/>
        </p:nvPicPr>
        <p:blipFill>
          <a:blip r:embed="rId2"/>
          <a:stretch/>
        </p:blipFill>
        <p:spPr>
          <a:xfrm>
            <a:off x="522432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Bocio endotorácico 006"/>
          <p:cNvPicPr/>
          <p:nvPr/>
        </p:nvPicPr>
        <p:blipFill>
          <a:blip r:embed="rId3"/>
          <a:stretch/>
        </p:blipFill>
        <p:spPr>
          <a:xfrm>
            <a:off x="126216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c45"/>
                </a:solidFill>
                <a:latin typeface="Arial"/>
              </a:rPr>
              <a:t>Tomografía Axial Computada</a:t>
            </a:r>
            <a:br>
              <a:rPr sz="2800"/>
            </a:br>
            <a:r>
              <a:rPr b="1" lang="es-ES_tradnl" sz="2800" spc="-1" strike="noStrike">
                <a:solidFill>
                  <a:srgbClr val="ffdc45"/>
                </a:solidFill>
                <a:latin typeface="Arial"/>
              </a:rPr>
              <a:t>Cervical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00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Bocio endotorácico 001"/>
          <p:cNvPicPr/>
          <p:nvPr/>
        </p:nvPicPr>
        <p:blipFill>
          <a:blip r:embed="rId1"/>
          <a:stretch/>
        </p:blipFill>
        <p:spPr>
          <a:xfrm>
            <a:off x="126216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Bocio endotorácico 002"/>
          <p:cNvPicPr/>
          <p:nvPr/>
        </p:nvPicPr>
        <p:blipFill>
          <a:blip r:embed="rId2"/>
          <a:stretch/>
        </p:blipFill>
        <p:spPr>
          <a:xfrm>
            <a:off x="522432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Bocio endotorácico 003"/>
          <p:cNvPicPr/>
          <p:nvPr/>
        </p:nvPicPr>
        <p:blipFill>
          <a:blip r:embed="rId3"/>
          <a:stretch/>
        </p:blipFill>
        <p:spPr>
          <a:xfrm>
            <a:off x="126216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c45"/>
                </a:solidFill>
                <a:latin typeface="Arial"/>
              </a:rPr>
              <a:t>Tratamiento: Tiroidectomía total bilateral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pic>
        <p:nvPicPr>
          <p:cNvPr id="124" name="Picture 8" descr="Bocio endotorácico 007"/>
          <p:cNvPicPr/>
          <p:nvPr/>
        </p:nvPicPr>
        <p:blipFill>
          <a:blip r:embed="rId1"/>
          <a:stretch/>
        </p:blipFill>
        <p:spPr>
          <a:xfrm>
            <a:off x="126216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6400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Bocio endotorácico 008"/>
          <p:cNvPicPr/>
          <p:nvPr/>
        </p:nvPicPr>
        <p:blipFill>
          <a:blip r:embed="rId2"/>
          <a:stretch/>
        </p:blipFill>
        <p:spPr>
          <a:xfrm>
            <a:off x="126216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Bocio endotorácico 009"/>
          <p:cNvPicPr/>
          <p:nvPr/>
        </p:nvPicPr>
        <p:blipFill>
          <a:blip r:embed="rId3"/>
          <a:stretch/>
        </p:blipFill>
        <p:spPr>
          <a:xfrm>
            <a:off x="522432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ATOLOGIA CONGENITA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7880" y="1980720"/>
            <a:ext cx="7856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genesia</a:t>
            </a: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- Hipoplasia: Muy poco frecuen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lteraciones de la Migración</a:t>
            </a: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ublingu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Intralingu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relarínge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Retroesten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Quiste Tirogloso: Niños – Adolescent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mbos sexo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ubmentonian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Movilidad con movimientos lingua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Tratamiento Quirúrgico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7788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dc45"/>
                </a:solidFill>
                <a:latin typeface="Arial"/>
              </a:rPr>
              <a:t>Tiroides Ectópico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752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00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7752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00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6 Imagen" descr="Tiroides ectópico1.jpg"/>
          <p:cNvPicPr/>
          <p:nvPr/>
        </p:nvPicPr>
        <p:blipFill>
          <a:blip r:embed="rId1"/>
          <a:stretch/>
        </p:blipFill>
        <p:spPr>
          <a:xfrm>
            <a:off x="1071720" y="228600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dc45"/>
                </a:solidFill>
                <a:latin typeface="Arial"/>
              </a:rPr>
              <a:t>Tiroides Ectópico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7752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7752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00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6 Marcador de contenido" descr="Tiroides ectópico2.jpg"/>
          <p:cNvPicPr/>
          <p:nvPr/>
        </p:nvPicPr>
        <p:blipFill>
          <a:blip r:embed="rId1"/>
          <a:stretch/>
        </p:blipFill>
        <p:spPr>
          <a:xfrm>
            <a:off x="928800" y="1981080"/>
            <a:ext cx="6937200" cy="52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dc45"/>
                </a:solidFill>
                <a:latin typeface="Arial"/>
              </a:rPr>
              <a:t>Tiroides Ectópico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00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7752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00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23438" t="26319" r="25291" b="13573"/>
          <a:stretch/>
        </p:blipFill>
        <p:spPr>
          <a:xfrm>
            <a:off x="1455840" y="1981080"/>
            <a:ext cx="6473880" cy="56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dc45"/>
                </a:solidFill>
                <a:latin typeface="Arial"/>
              </a:rPr>
              <a:t>Tiroides Ectópico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00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7752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00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60962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dc45"/>
                </a:solidFill>
                <a:latin typeface="Arial"/>
              </a:rPr>
              <a:t>Tiroides Ectópico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00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7752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00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57200" y="1876320"/>
            <a:ext cx="666756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7880" y="761760"/>
            <a:ext cx="7788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dc45"/>
                </a:solidFill>
                <a:latin typeface="Arial"/>
              </a:rPr>
              <a:t>QUISTE TIROGLOSO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pic>
        <p:nvPicPr>
          <p:cNvPr id="81" name="Picture 9" descr="Quiste Tirogloso 005"/>
          <p:cNvPicPr/>
          <p:nvPr/>
        </p:nvPicPr>
        <p:blipFill>
          <a:blip r:embed="rId1"/>
          <a:stretch/>
        </p:blipFill>
        <p:spPr>
          <a:xfrm>
            <a:off x="126216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Quiste Tirogloso 008"/>
          <p:cNvPicPr/>
          <p:nvPr/>
        </p:nvPicPr>
        <p:blipFill>
          <a:blip r:embed="rId2"/>
          <a:stretch/>
        </p:blipFill>
        <p:spPr>
          <a:xfrm>
            <a:off x="522432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Quiste Tirogloso 009"/>
          <p:cNvPicPr/>
          <p:nvPr/>
        </p:nvPicPr>
        <p:blipFill>
          <a:blip r:embed="rId3"/>
          <a:stretch/>
        </p:blipFill>
        <p:spPr>
          <a:xfrm>
            <a:off x="126216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Quiste Tirogloso 010"/>
          <p:cNvPicPr/>
          <p:nvPr/>
        </p:nvPicPr>
        <p:blipFill>
          <a:blip r:embed="rId4"/>
          <a:stretch/>
        </p:blipFill>
        <p:spPr>
          <a:xfrm>
            <a:off x="522432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3T16:40:35Z</dcterms:created>
  <dc:creator>Francisco Rodriguez.</dc:creator>
  <dc:description/>
  <dc:language>en-US</dc:language>
  <cp:lastModifiedBy>audcirugia1</cp:lastModifiedBy>
  <dcterms:modified xsi:type="dcterms:W3CDTF">2015-04-22T14:43:54Z</dcterms:modified>
  <cp:revision>22</cp:revision>
  <dc:subject/>
  <dc:title>PATOLOGIA BENIGNA DE TIROIDES</dc:title>
</cp:coreProperties>
</file>