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751-EE1B-41B2-9C0B-754073F56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FFD-90A4-4166-B4AF-D60AFA22B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C2E-26ED-4DCA-B1E6-877EEC11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E31-32BC-40DE-8E04-42FDB19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20B-3B32-4450-93AA-C9324B1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3F9-296A-4010-9672-2919F012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1F7-6F47-4853-ABC7-443EBBC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351-1D03-4522-8D34-DEC4168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B1D-07C0-45EC-BBC3-C07D134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B65-D726-4E29-9EA3-AE22099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327-BAA9-443E-9DDE-5A52D96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467-E3EB-4FC3-AD6B-CEE7572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E62-BA0C-4F09-B9B4-96F0C18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713-8275-4575-A096-A698F14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DAC-A4F9-4A3C-B4AC-109E954186E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tologia Respiratoria al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ac Cereb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Sin 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599840"/>
            <a:ext cx="40384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Con Contras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5 Imagen" descr=""/>
          <p:cNvPicPr/>
          <p:nvPr/>
        </p:nvPicPr>
        <p:blipFill>
          <a:blip r:embed="rId1"/>
          <a:srcRect l="65503" t="34213" r="4729" b="4887"/>
          <a:stretch/>
        </p:blipFill>
        <p:spPr>
          <a:xfrm>
            <a:off x="395280" y="836640"/>
            <a:ext cx="295272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6 Imagen" descr=""/>
          <p:cNvPicPr/>
          <p:nvPr/>
        </p:nvPicPr>
        <p:blipFill>
          <a:blip r:embed="rId2"/>
          <a:srcRect l="32870" t="22559" r="32126" b="0"/>
          <a:stretch/>
        </p:blipFill>
        <p:spPr>
          <a:xfrm>
            <a:off x="5724360" y="2384280"/>
            <a:ext cx="2613240" cy="2951280"/>
          </a:xfrm>
          <a:prstGeom prst="rect">
            <a:avLst/>
          </a:prstGeom>
          <a:ln w="0">
            <a:noFill/>
          </a:ln>
        </p:spPr>
      </p:pic>
      <p:sp>
        <p:nvSpPr>
          <p:cNvPr id="78" name="1 Rectángulo"/>
          <p:cNvSpPr/>
          <p:nvPr/>
        </p:nvSpPr>
        <p:spPr>
          <a:xfrm>
            <a:off x="826920" y="416736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solicita TAC cerebro y cavidades paranasales con y sin contraste que muestra abscesos epidurales multilobulados bifrontales y pansinusitis, no se describen otras alter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ciente evoluciona estable, afebril, sin déficit ni focalidad neurológica, sin signos meníngeos. Posterior a HC se administra 1a dosis de ATB: ceftriaxona (50mg/kg) + metronidazol (10mg/kg) + vancomicina (15mg/kg).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o se realiza evaluación neuroquirúrgica en 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884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0056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6 Marcador de contenido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64968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ctante de 8 meses, con coriza sensación febril ,tos seca rechazo parcial de alim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tiolog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RS, VEB, V herpes, metaneumovi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4 Marcador de contenido" descr=""/>
          <p:cNvPicPr/>
          <p:nvPr/>
        </p:nvPicPr>
        <p:blipFill>
          <a:blip r:embed="rId1"/>
          <a:srcRect l="10670" t="4490" r="12008" b="0"/>
          <a:stretch/>
        </p:blipFill>
        <p:spPr>
          <a:xfrm>
            <a:off x="1227240" y="2417760"/>
            <a:ext cx="2455920" cy="3032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2 años 3meses con fiebre 39,2 tos escasa coriza, adenopatía cervical anterior, ojo roj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ti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iagnós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Marcador de contenido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383000" cy="300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8 años, con odinofagia , febril 39ªC sin tos sin cori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gnóstic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to, 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plicacion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purativas, No supura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ar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4 Marcador de contenido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 de 12 años febril 38,5ºC, adenopatías cervicales dolor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 examen : imagen mas hepatoesplenomega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iagnóstic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4 Marcador de contenido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652560" cy="369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aciente de 4 años, hace tres dias cursa con coriza y escasa tos  ; hoy febril hasta 38,6 otalgia derech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iagnostic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tiologi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 pneumoniae 4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H influenzae no capsulado29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 piogenes 7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oraxella Catarrhalis 4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ratamien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&lt;6meses v/s &gt;2 añ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mpli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ven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4 Marcador de contenido" descr=""/>
          <p:cNvPicPr/>
          <p:nvPr/>
        </p:nvPicPr>
        <p:blipFill>
          <a:blip r:embed="rId1"/>
          <a:stretch/>
        </p:blipFill>
        <p:spPr>
          <a:xfrm>
            <a:off x="652320" y="2016000"/>
            <a:ext cx="364824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inusit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Nicolas 7años 3m  sin antecedentes mórbidos.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Sin sinusitis previas, sin rinitis alérgica ni atopia, sin inmunodefici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mo antecedente el 5/12 consulta por rinorrea, fiebre y cefalea, se diagnostica sinusitis aguda y se indica tratamiento con amoxicilina por 10 días, evoluciona favorable, afebril, asintomático. Termina tratamiento el 15/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Desde ayer inicia cefalea y fiebre 38,2°c, sin coriza ni tos. Además aumento de volumen frontal, sin antecedente de traumatismo. Sin déficit ni focalidad neurológica, sin convulsion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sulta hoy a SUI, al ex físico conciente, vigil, cooperador, en Glasgow 15 y en región frontal aumento de volumen sin signos de inflamación, de consistencia firme, no doloroso. Otoscopia y rinoscopia norm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xs generales: GB 11130 (pmn 74%, linfo 19%) Hb 9,7 Plaq 377 VHS 72 PCR 49. Perfil bioquimico normal. PT 45% (se sugiere repetir) y TTPK 30. HC I y II tomados.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49:36Z</dcterms:created>
  <dc:creator>Estar Pediatria</dc:creator>
  <dc:description/>
  <dc:language>en-US</dc:language>
  <cp:lastModifiedBy>usuario</cp:lastModifiedBy>
  <dcterms:modified xsi:type="dcterms:W3CDTF">2017-04-25T13:48:17Z</dcterms:modified>
  <cp:revision>19</cp:revision>
  <dc:subject/>
  <dc:title>Patologia Respiratoria alta</dc:title>
</cp:coreProperties>
</file>