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58CE-EF2F-4E0C-8B57-286743102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F10E-728C-4963-8A4B-E9480B98E3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FB8A10-8C08-4799-BD60-B4F7C456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F9F9E4-ECF9-40D9-A143-CB4371C2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DF7C37-4DAD-42A6-81ED-B55C2A33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834931-06CA-4CB1-B39E-5FE851AD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895F0A-CA39-4F03-98C1-A0B312C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E203D1-E9E3-43F2-8542-D6DD0004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3B1925-D148-4667-8ECF-E2BF52B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CE2FB4-668C-47DD-B8D3-A5EF1F56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C2A612-59F0-4D92-94E7-695C12E9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F7EAAA-5E6C-4E02-A0AF-F62AE53D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C381-1882-4B21-9F83-7A03ED119B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98211-9E70-4ED7-B862-BEB4B57B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B99AC-6D96-4E6F-866F-226C77B2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87056C-1EF6-4FFA-A676-E4EA648A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EB18F-2A36-4B9D-835E-08459CF2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54B5BC-FB08-4919-AA71-AB38FDE5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0131F8-4855-4890-9E91-73B412B0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0356B-A4CD-400C-8329-A9D63778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261BDD-78B2-4143-8F26-B20ACC8E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D03F18-B5D0-4E15-BA37-EED8D1E8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B42A4-425A-4984-BA81-BDDD17FD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85A2-D44A-4821-A704-8031C817BCB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AFC1D0-A65F-4737-9677-DB323344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36D8-655B-4F78-A00D-49CC4B829A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4124-E61F-4BF0-BA94-90E16FE47A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3FEC-F346-4F4E-8CD4-787AD066E8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64BA-CE1F-48A3-BE92-3959CA283D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9CF0-7FBB-4F5A-B508-6000DD9709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0679-C7C1-4FF7-BEE4-B0B6FDA369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EC4D-2103-4B05-AC62-DF64F3574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E62D-46A4-47B7-8D6A-C859406B4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9480-9604-4285-A2B6-A2EFEDFD66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47BC-0317-4FE1-8277-50C4650A7B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F232-43F0-4A95-9724-FE7F436A8B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53C5-C85D-4DA4-B5BC-52699EDF0A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056E-808E-4235-A721-8949BAC915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5A7DF-F86B-4593-AB7F-641EEF04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6136B-A3BD-413C-AFD3-D08373FC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42AE7-F8E1-4E52-88AB-8D0D96C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239DE-6A1A-4E23-BD1D-7186F0AE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6DE9C-9072-4648-BD85-4E783930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408B-FB0B-4B99-8FB8-CA13DF1133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AB697-EB58-4B91-B56C-7486E1BF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103D5-B819-453E-933D-B46D5442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7C048-AC95-450A-9353-FBA8D31D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19804-4874-49C0-B525-40F58C49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8F999-C3E7-41C4-A167-5B36B50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C3C5B-8BA8-4D90-A884-1CC78C84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C089D-89DC-424C-812D-7D118AC7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2C9FB-F1FE-4FBB-8AB3-4FEBECEA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A4BDA-86EE-410F-8400-67FBF305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9DC85-F76A-4CC6-BEAC-9A05BE40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BFFB-D3AC-43DB-A644-460643D145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E0F58-9DAD-4BED-B816-81A9E1F7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7A402-642C-4D76-8B5C-763E568B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5C2D3-8F39-4B61-951D-C33C6737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03BA2-012A-4134-B649-AA22E0F9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49209-56A0-4A4B-8238-C35F64ED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9899F-C110-4F36-A2AA-7F0E985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E1C67-61CF-4636-8F62-B087499C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4E6E3-645C-430A-BD1E-A401ADED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91875-3FDC-41E1-817B-F7B4F2FE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E909F-2542-41BA-BE9D-CDB92E6D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6D4A-311B-423C-9D4A-B2AC955264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BD979-2A7B-411A-A7EC-CDABB962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E41445-EFCD-4856-933B-72C22309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D48C2-7CF4-4E5B-BACB-E3C5D538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E38AD2-4C02-4F8C-8724-B19F55A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56282-14E2-4A19-AA70-09BC5F8E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C77C9-183A-4958-91C8-41602B27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B527B5-D7EA-42D8-9CB8-E37F18B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42C44-DC7D-4676-AE26-86F7921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BB6126-5ED5-4B89-BDE0-69375BEE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10AC7-BDFF-4ADF-9C06-E30353EF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4D85-CBC9-4C72-9345-E506F0F81C5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898B5-4A9C-4261-A90F-0FC95361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AE363-A736-4BAD-A6C5-350709A6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9E163B-875B-4733-A682-D6A0544C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91135E-B6C8-4B0E-940C-3C527A2E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C376CE-0407-411F-A786-7D8483F7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416CB9-F759-4078-AA83-6C7CAEF7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11014-8474-4870-9BD6-977BE232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87717-943B-4A15-84F6-FD4F35D3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55C51C-CBA4-4965-AF98-8595F26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90ED37-AB01-4767-A5EA-A1AAAA42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5BC8-B5C1-47FC-8137-457A0D802E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578010-A684-4785-A4AC-B7CF1CAD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7DB41-2BC7-4C88-A70A-9845DD04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489A79-64C3-496F-9508-5AAEB26B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72DFE5-2D90-4092-A6B4-A51C92D0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D7870A-366A-4DDE-B76C-EB8DBBC5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EEB47-5871-4F05-A468-EB555F98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1E8DD6-D6B2-40AC-97D1-648FCF96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5A9B31-ED08-40BA-81DA-9BBDD570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D1BCCF-DB8E-40EA-A839-F3D059BF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0DDB91-B00A-44E9-8151-DA251780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0200-A826-45A2-B8D8-0FDB553C6C2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9C95D-1D4F-4BF2-B634-D0316A9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1C17F-6C03-429E-94C7-78040452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D3495-F34E-4933-B3EE-FCDB5158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0DD0F-C5E8-4207-883D-94889B79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6C735B-7160-4586-8BB7-A3D26F19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8E2F8-1F72-4484-9267-4FBAFE02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ADF97-C3AB-4EEE-A5FD-0CA5904C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36033-772E-4EAD-9311-0342F5EA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D7D93-D20B-48F9-8A16-3AB5E3ED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03E47-9337-4198-A0C7-200DC447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3715-4FCB-4619-B297-4F73C2251F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AF2A1-A385-4FC1-A7C9-94D1C461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034C0-4ECF-4693-95BE-49DAABD3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68EEA-061A-407C-87AD-0F682C8C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C1CA3-0097-4D9E-83C1-24BFCC5F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CE8CF-58BF-4CA9-8F04-B03CA71E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D29D9-AAA1-423C-8533-C5D38218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30D4F-9B80-4868-9959-25480577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AFBF1C-271F-4971-9F2C-D51A93C2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6B773F-CFE3-4A05-9FE5-46DDB13F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2AFEF0-6CED-4CB7-A5D9-AAEE9051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andes.cl/index.html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uandes.cl/index.html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6840" y="6399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5DE5-41E9-49AE-BFD2-99E2EE0E7A1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á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á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á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C13F-BE23-467D-843A-635CD8CA54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4680" y="5791320"/>
            <a:ext cx="838440" cy="7444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791320"/>
            <a:ext cx="838440" cy="74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476840" y="6399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BFC5-EA56-4AB4-9861-4FF7D2A3679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á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á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á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AC2B-BA0D-4AF7-9585-012A3D28E7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á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á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á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6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7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8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DE5C-945A-4B84-9842-B39C03E71BC8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á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á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á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83DD-D800-4518-856A-415A04553CD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á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á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á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2D3B-F75D-40F2-9009-69F8128C7C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á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á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á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C9F-0A69-459B-AC4F-B3FA44C3D3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0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F7F8-B86E-4BD7-9E87-B660AAC1418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á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á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á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ángulo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1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2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1DFD-F722-45B5-870B-291AA529B29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3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andes.cl/index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slkidstuff.com/images/fever.gif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tubotica.net/images/GifsConsejos/Bano.jpg&amp;imgrefurl=http://www.tubotica.net/consejos/Ninos/Fiebre.htm&amp;h=459&amp;w=459&amp;prev=/images?q=fiebre&amp;start=80&amp;svnum=10&amp;hl=es&amp;lr=&amp;ie=UTF-8&amp;oe=UTF-8&amp;sa=N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267680" cy="1994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ÍNDROME FEBRIL EN PEDIATRÍ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55280" y="479700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DR. RODRIGO VÁSQUEZ DE KARTZO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PROFESOR ASOCI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FACULTAD DE MEDIC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 Bold"/>
              </a:rPr>
              <a:t>202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9844" t="22417" r="20090" b="22365"/>
          <a:stretch/>
        </p:blipFill>
        <p:spPr>
          <a:xfrm>
            <a:off x="3378240" y="2463840"/>
            <a:ext cx="227340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IPOS DE FIEB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Contínua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Las variaciones diarias son menores de 1 °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Intermitent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uando existen periodos afebriles menores a un día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Recurrent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xisten periodos afebriles de varios días (2 – 5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Ondulant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Fiebre irregular, resultante de la combinación de varios tipo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DIAGNÓSTICO DIFERENCIAL DE FIEBRE AGUDA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nfermedad de vías aéreas superi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nfermedad respiratoria ba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Trastornos gastrointestina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Infecciones musculoesqueletic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Infección urinar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Bacteriem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Calibri Bold"/>
              </a:rPr>
              <a:t>TIPOS DE FIEB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Bold"/>
              </a:rPr>
              <a:t>CAUSAS DE FIEBRE PROLONGAD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792440" indent="-381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92440" indent="-381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olagenopatí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92440" indent="-381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Neoplasi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TIPOS DE FIEBRE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52280" y="21333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 Bold"/>
              </a:rPr>
              <a:t>CAUSAS INFECCIOSAS DE FIEBRE PROLONGADA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Fiebre tifoide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Tuberculos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Paludism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Neumoní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Absceso hepát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Salmonellosis no tífic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Mononucleosis infeccios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ndocarditis infeccios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Toxoplasmos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Abscesos profundo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FISIOPATOLOG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PIROGENOS ENDÓGEN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olipéptidos producidos por el huésped en respuesta a una infección, lesión, inflamación o provocación antigénic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rea preóptica del hipotálamo anterior (centro termoregulador) responde ante estimulos de pirógenos endógenos elevando la temperatura. Intermediario: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PGE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Calibri Bold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FISIOPATOLOGIA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2433600"/>
            <a:ext cx="7702560" cy="44244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Hipotálamo regula temperatura interna en aproximadamente  37 °c por capacidad de equilibrar la pérdida de calor de la periferia con producción de calor  en tejidos (higado y músculo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Pirógenos endógenos (polipeptidos)  producidos por el huésped en respuesta a infección , lesión, inflamación.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(IL1-IL6-FN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Hipotálamo: Síntesis de prostaglandin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5791320"/>
            <a:ext cx="838440" cy="7444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opat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925040" cy="501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1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34280" cy="62006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RIESGOS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Temperaturas &gt; 5 º c del valor habitual (41- 42ºc) tienen riesgo para la vida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metabólic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sintesis de ac. nucléic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sintesis de proteín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permeabilid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ambios en el pH intracelul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POSIBLES EFECTOS BENEFICOS DE LA FIEB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5400" y="1852560"/>
            <a:ext cx="8226360" cy="500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Alta temperatura impide multiplicación de algunos microorganismo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Bold Italic"/>
              </a:rPr>
              <a:t>Neisseria meningitid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 Italic"/>
              </a:rPr>
              <a:t>Trepone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Bold Italic"/>
              </a:rPr>
              <a:t>Streptococcus pneumonia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lgunos vir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SÍNDROME FEBRIL EN PEDIATR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GENERALIDAD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DEFINI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AUS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NFOQU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TRATAMI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RECOMENDACIO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5940360" y="2133720"/>
            <a:ext cx="20541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000" y="281160"/>
            <a:ext cx="7769160" cy="1319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POSIBLES EFECTOS BENEFICOS DE LA FIEB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2409840" y="205740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3"/>
          <p:cNvSpPr/>
          <p:nvPr/>
        </p:nvSpPr>
        <p:spPr>
          <a:xfrm>
            <a:off x="6934320" y="3384720"/>
            <a:ext cx="1917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Trat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de la sifi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iglo X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75f55"/>
                </a:solidFill>
                <a:latin typeface="Calibri Bold"/>
              </a:rPr>
              <a:t>POSIBLES EFECTOS BENEFICOS DE LA FIEBRE</a:t>
            </a:r>
            <a:endParaRPr b="0" lang="en-US" sz="33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5400" y="1852560"/>
            <a:ext cx="8226360" cy="500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Aumenta la respuesta inflamatoria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agocito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Migración de leucocit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ransformación de linfocit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o de la producción de interferó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alibri Bold"/>
              </a:rPr>
              <a:t>POSIBLES EFECTOS ADVERSOS DE LA FIEB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 tº&gt; 40 º c  la fagocitosis para </a:t>
            </a:r>
            <a:r>
              <a:rPr b="0" i="1" lang="en-US" sz="2400" spc="-1" strike="noStrike">
                <a:solidFill>
                  <a:srgbClr val="000000"/>
                </a:solidFill>
                <a:latin typeface="Calibri Bold Italic"/>
              </a:rPr>
              <a:t>Staphilococcus</a:t>
            </a:r>
            <a:r>
              <a:rPr b="0" i="1" lang="en-US" sz="2400" spc="-1" strike="noStrike">
                <a:solidFill>
                  <a:srgbClr val="0000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disminuye así como las funciones celular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aumenta en 10%-12% el metabolismo basal por cada grado de elevació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a el consumo de oxíge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a la producción de dioxido de carbon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Aumenta requerimientos de agua lib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onvulsiones febriles en niños susceptib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de 40º   causa edema cerebral en anima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" descr=""/>
          <p:cNvPicPr/>
          <p:nvPr/>
        </p:nvPicPr>
        <p:blipFill>
          <a:blip r:embed="rId1"/>
          <a:stretch/>
        </p:blipFill>
        <p:spPr>
          <a:xfrm>
            <a:off x="1547640" y="1278000"/>
            <a:ext cx="6048720" cy="4672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FIEBRE EN RECIEN NACIDOS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iebre es un signo poco frecuente en lactantes menore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mente 1% de los lactantes menores de 12 meses de edad tiene fiebre &gt; 38 ºc al ser llevados a un policlínic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enores de 3 meses de  edad, la IBG se asocia más frecuentemente con grados bajos de temperatura (38.1 – 38.9 °c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PREGUNTAS FRENTE A UN LACTANTE CON FIEBRE SIN FOCO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Puede este niño tener una infección grav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Que elementos de la historia y del EF lo suguieren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Que examenes debemos tomar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s necesario hospitalizarlo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Puede tener una bacteremia oculta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Cual es el riesgo de desarrollar una MBA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Cual es el beneficio de tratarlo empíricamente con antibióticos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ACTORES DE RIESGO PARA BACTEREMIA OCULTA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RITERIOS CLÍN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dad &lt; 2 añ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Fiebre &gt; 39.4 ° 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pariencia tóx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Irritabilidad, decai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Somnole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ermedad subyacen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ntecedente de contacto con </a:t>
            </a:r>
            <a:r>
              <a:rPr b="0" lang="en-US" sz="2600" spc="-1" strike="noStrike">
                <a:solidFill>
                  <a:srgbClr val="000000"/>
                </a:solidFill>
                <a:latin typeface="Calibri Bold Italic"/>
              </a:rPr>
              <a:t>N. meningitidi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ACTORES DE RIESGO PARA BACTEREMIA OCULTA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RITERIOS DE LABORATO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Leucocitosis &gt; 15.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baciliformes &gt; 5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MN &gt; 10.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Granulaciones tóxicas en hemogram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ACTORES DE RIESGO PARA BACTEREMIA OCULTA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CRITERIOS DE ROCHE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aciente con buena aparie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Previamente san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No infección bacteriana loc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Leucocitos : 5.000 a 15.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OC: Norm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 caso de diarrea: &lt; 5 leucocitos/camp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Marcador de contenido 4" descr="Tabla&#10;&#10;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944640" y="115920"/>
            <a:ext cx="6983280" cy="6751440"/>
          </a:xfrm>
          <a:prstGeom prst="rect">
            <a:avLst/>
          </a:prstGeom>
          <a:ln w="0">
            <a:noFill/>
          </a:ln>
        </p:spPr>
      </p:pic>
      <p:pic>
        <p:nvPicPr>
          <p:cNvPr id="514" name="CuadroTexto 5" descr=""/>
          <p:cNvPicPr/>
          <p:nvPr/>
        </p:nvPicPr>
        <p:blipFill>
          <a:blip r:embed="rId2"/>
          <a:stretch/>
        </p:blipFill>
        <p:spPr>
          <a:xfrm>
            <a:off x="5486400" y="571680"/>
            <a:ext cx="322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GENERALIDA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80760" y="2125440"/>
            <a:ext cx="5491080" cy="47322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Es uno de los síntomas más frecuentes de enfermedad en pediatría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Representa entre el 20 – 30 % de las consultas en consultori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Causa más frecuente  de tratamiento farmacológico  en pediatría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</a:rPr>
              <a:t>Definición de fiebre depende de la patología de base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74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Marcador de contenido 4" descr="Tabla&#10;&#10;Descripción generada automáticamente"/>
          <p:cNvPicPr/>
          <p:nvPr/>
        </p:nvPicPr>
        <p:blipFill>
          <a:blip r:embed="rId1"/>
          <a:stretch/>
        </p:blipFill>
        <p:spPr>
          <a:xfrm>
            <a:off x="309600" y="115920"/>
            <a:ext cx="8439120" cy="6588000"/>
          </a:xfrm>
          <a:prstGeom prst="rect">
            <a:avLst/>
          </a:prstGeom>
          <a:ln w="0">
            <a:noFill/>
          </a:ln>
        </p:spPr>
      </p:pic>
      <p:pic>
        <p:nvPicPr>
          <p:cNvPr id="516" name="CuadroTexto 5" descr=""/>
          <p:cNvPicPr/>
          <p:nvPr/>
        </p:nvPicPr>
        <p:blipFill>
          <a:blip r:embed="rId2"/>
          <a:stretch/>
        </p:blipFill>
        <p:spPr>
          <a:xfrm>
            <a:off x="5549760" y="571680"/>
            <a:ext cx="3238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Marcador de contenido 4" descr="Tabla&#10;&#10;Descripción generada automáticamente"/>
          <p:cNvPicPr/>
          <p:nvPr/>
        </p:nvPicPr>
        <p:blipFill>
          <a:blip r:embed="rId1"/>
          <a:stretch/>
        </p:blipFill>
        <p:spPr>
          <a:xfrm>
            <a:off x="684360" y="-1440"/>
            <a:ext cx="7716600" cy="6859440"/>
          </a:xfrm>
          <a:prstGeom prst="rect">
            <a:avLst/>
          </a:prstGeom>
          <a:ln w="0">
            <a:noFill/>
          </a:ln>
        </p:spPr>
      </p:pic>
      <p:pic>
        <p:nvPicPr>
          <p:cNvPr id="518" name="CuadroTexto 5" descr=""/>
          <p:cNvPicPr/>
          <p:nvPr/>
        </p:nvPicPr>
        <p:blipFill>
          <a:blip r:embed="rId2"/>
          <a:stretch/>
        </p:blipFill>
        <p:spPr>
          <a:xfrm>
            <a:off x="5486400" y="419040"/>
            <a:ext cx="32004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Imagen 4" descr="Captura de pantalla 2014-09-30 a la(s) 10.14.24.png"/>
          <p:cNvPicPr/>
          <p:nvPr/>
        </p:nvPicPr>
        <p:blipFill>
          <a:blip r:embed="rId1"/>
          <a:stretch/>
        </p:blipFill>
        <p:spPr>
          <a:xfrm>
            <a:off x="1332000" y="260280"/>
            <a:ext cx="61862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Imagen 1" descr="Captura de pantalla 2014-09-30 a la(s) 10.18.36.png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FIEBRE EN NIÑOS DE 3 A 36 MES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50560" y="1844640"/>
            <a:ext cx="8488440" cy="50133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FIEBRE &lt; 48 HR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(edad 3-36 meses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Factores de riesgo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 Bold"/>
              </a:rPr>
              <a:t>Sin factores de riesgo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685080" y="2819520"/>
            <a:ext cx="1524240" cy="685800"/>
            <a:chOff x="685080" y="2819520"/>
            <a:chExt cx="1524240" cy="685800"/>
          </a:xfrm>
        </p:grpSpPr>
        <p:sp>
          <p:nvSpPr>
            <p:cNvPr id="524" name="Rectangle 4"/>
            <p:cNvSpPr/>
            <p:nvPr/>
          </p:nvSpPr>
          <p:spPr>
            <a:xfrm>
              <a:off x="760320" y="2819520"/>
              <a:ext cx="13716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"/>
            <p:cNvSpPr/>
            <p:nvPr/>
          </p:nvSpPr>
          <p:spPr>
            <a:xfrm>
              <a:off x="685080" y="285768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T &gt; 40 °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etequ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atologia de b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stado general afec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"/>
          <p:cNvGrpSpPr/>
          <p:nvPr/>
        </p:nvGrpSpPr>
        <p:grpSpPr>
          <a:xfrm>
            <a:off x="6477120" y="3124080"/>
            <a:ext cx="1295280" cy="838080"/>
            <a:chOff x="6477120" y="3124080"/>
            <a:chExt cx="1295280" cy="838080"/>
          </a:xfrm>
        </p:grpSpPr>
        <p:sp>
          <p:nvSpPr>
            <p:cNvPr id="527" name="Rectangle 7"/>
            <p:cNvSpPr/>
            <p:nvPr/>
          </p:nvSpPr>
          <p:spPr>
            <a:xfrm>
              <a:off x="6477120" y="3124080"/>
              <a:ext cx="1295280" cy="838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"/>
            <p:cNvSpPr/>
            <p:nvPr/>
          </p:nvSpPr>
          <p:spPr>
            <a:xfrm>
              <a:off x="6534000" y="3130920"/>
              <a:ext cx="11800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Antipire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Alt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Control en 24 hr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9"/>
          <p:cNvGrpSpPr/>
          <p:nvPr/>
        </p:nvGrpSpPr>
        <p:grpSpPr>
          <a:xfrm>
            <a:off x="711360" y="3809880"/>
            <a:ext cx="1546920" cy="609480"/>
            <a:chOff x="711360" y="3809880"/>
            <a:chExt cx="1546920" cy="609480"/>
          </a:xfrm>
        </p:grpSpPr>
        <p:sp>
          <p:nvSpPr>
            <p:cNvPr id="530" name="Rectangle 10"/>
            <p:cNvSpPr/>
            <p:nvPr/>
          </p:nvSpPr>
          <p:spPr>
            <a:xfrm>
              <a:off x="760320" y="3809880"/>
              <a:ext cx="1449360" cy="609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1"/>
            <p:cNvSpPr/>
            <p:nvPr/>
          </p:nvSpPr>
          <p:spPr>
            <a:xfrm>
              <a:off x="711360" y="3962160"/>
              <a:ext cx="1546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Valorar HG, PC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Orina, Rx. Torax, cultiv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2"/>
          <p:cNvGrpSpPr/>
          <p:nvPr/>
        </p:nvGrpSpPr>
        <p:grpSpPr>
          <a:xfrm>
            <a:off x="3087720" y="3276720"/>
            <a:ext cx="909360" cy="457200"/>
            <a:chOff x="3087720" y="3276720"/>
            <a:chExt cx="909360" cy="457200"/>
          </a:xfrm>
        </p:grpSpPr>
        <p:sp>
          <p:nvSpPr>
            <p:cNvPr id="533" name="AutoShape 13"/>
            <p:cNvSpPr/>
            <p:nvPr/>
          </p:nvSpPr>
          <p:spPr>
            <a:xfrm>
              <a:off x="3122640" y="3276720"/>
              <a:ext cx="83808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3" y="0"/>
                  </a:moveTo>
                  <a:cubicBezTo>
                    <a:pt x="659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659" y="21600"/>
                    <a:pt x="1473" y="21600"/>
                  </a:cubicBezTo>
                  <a:lnTo>
                    <a:pt x="20127" y="21600"/>
                  </a:lnTo>
                  <a:cubicBezTo>
                    <a:pt x="20941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0941" y="0"/>
                    <a:pt x="20127" y="0"/>
                  </a:cubicBezTo>
                  <a:lnTo>
                    <a:pt x="1473" y="0"/>
                  </a:lnTo>
                  <a:close/>
                  <a:moveTo>
                    <a:pt x="1473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4"/>
            <p:cNvSpPr/>
            <p:nvPr/>
          </p:nvSpPr>
          <p:spPr>
            <a:xfrm>
              <a:off x="3087720" y="3390840"/>
              <a:ext cx="909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9640" tIns="38160" bIns="38160" anchor="ctr">
              <a:spAutoFit/>
            </a:bodyPr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Rx y orina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5"/>
          <p:cNvGrpSpPr/>
          <p:nvPr/>
        </p:nvGrpSpPr>
        <p:grpSpPr>
          <a:xfrm>
            <a:off x="2895480" y="4114800"/>
            <a:ext cx="1371600" cy="533520"/>
            <a:chOff x="2895480" y="4114800"/>
            <a:chExt cx="1371600" cy="533520"/>
          </a:xfrm>
        </p:grpSpPr>
        <p:sp>
          <p:nvSpPr>
            <p:cNvPr id="536" name="Rectangle 16"/>
            <p:cNvSpPr/>
            <p:nvPr/>
          </p:nvSpPr>
          <p:spPr>
            <a:xfrm>
              <a:off x="2895480" y="4114800"/>
              <a:ext cx="1371600" cy="5335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3079800" y="4228920"/>
              <a:ext cx="1001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Tto atb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valuar ingre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990720" y="4648320"/>
            <a:ext cx="914400" cy="380880"/>
            <a:chOff x="990720" y="4648320"/>
            <a:chExt cx="914400" cy="380880"/>
          </a:xfrm>
        </p:grpSpPr>
        <p:sp>
          <p:nvSpPr>
            <p:cNvPr id="539" name="AutoShape 19"/>
            <p:cNvSpPr/>
            <p:nvPr/>
          </p:nvSpPr>
          <p:spPr>
            <a:xfrm>
              <a:off x="990720" y="4648320"/>
              <a:ext cx="91440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5" y="0"/>
                  </a:moveTo>
                  <a:cubicBezTo>
                    <a:pt x="504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504" y="21600"/>
                    <a:pt x="1125" y="21600"/>
                  </a:cubicBezTo>
                  <a:lnTo>
                    <a:pt x="20475" y="21600"/>
                  </a:lnTo>
                  <a:cubicBezTo>
                    <a:pt x="21096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1096" y="0"/>
                    <a:pt x="20475" y="0"/>
                  </a:cubicBezTo>
                  <a:lnTo>
                    <a:pt x="1125" y="0"/>
                  </a:lnTo>
                  <a:close/>
                  <a:moveTo>
                    <a:pt x="1125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0"/>
            <p:cNvSpPr/>
            <p:nvPr/>
          </p:nvSpPr>
          <p:spPr>
            <a:xfrm>
              <a:off x="1007640" y="4724280"/>
              <a:ext cx="879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0000" tIns="38160" bIns="38160" anchor="ctr">
              <a:spAutoFit/>
            </a:bodyPr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Rx y orina 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21"/>
          <p:cNvGrpSpPr/>
          <p:nvPr/>
        </p:nvGrpSpPr>
        <p:grpSpPr>
          <a:xfrm>
            <a:off x="1066680" y="5257800"/>
            <a:ext cx="762120" cy="457200"/>
            <a:chOff x="1066680" y="5257800"/>
            <a:chExt cx="762120" cy="457200"/>
          </a:xfrm>
        </p:grpSpPr>
        <p:sp>
          <p:nvSpPr>
            <p:cNvPr id="542" name="AutoShape 22"/>
            <p:cNvSpPr/>
            <p:nvPr/>
          </p:nvSpPr>
          <p:spPr>
            <a:xfrm>
              <a:off x="1066680" y="5257800"/>
              <a:ext cx="76212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" y="0"/>
                  </a:moveTo>
                  <a:cubicBezTo>
                    <a:pt x="725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725" y="21600"/>
                    <a:pt x="1620" y="21600"/>
                  </a:cubicBezTo>
                  <a:lnTo>
                    <a:pt x="19980" y="21600"/>
                  </a:lnTo>
                  <a:cubicBezTo>
                    <a:pt x="20875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0875" y="0"/>
                    <a:pt x="19980" y="0"/>
                  </a:cubicBezTo>
                  <a:lnTo>
                    <a:pt x="1620" y="0"/>
                  </a:lnTo>
                  <a:close/>
                  <a:moveTo>
                    <a:pt x="1620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3"/>
            <p:cNvSpPr/>
            <p:nvPr/>
          </p:nvSpPr>
          <p:spPr>
            <a:xfrm>
              <a:off x="1183680" y="5295960"/>
              <a:ext cx="526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9280" tIns="38160" bIns="38160" anchor="ctr">
              <a:spAutoFit/>
            </a:bodyPr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CR 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HG 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24"/>
          <p:cNvGrpSpPr/>
          <p:nvPr/>
        </p:nvGrpSpPr>
        <p:grpSpPr>
          <a:xfrm>
            <a:off x="3200400" y="5257800"/>
            <a:ext cx="685800" cy="533520"/>
            <a:chOff x="3200400" y="5257800"/>
            <a:chExt cx="685800" cy="533520"/>
          </a:xfrm>
        </p:grpSpPr>
        <p:sp>
          <p:nvSpPr>
            <p:cNvPr id="545" name="AutoShape 25"/>
            <p:cNvSpPr/>
            <p:nvPr/>
          </p:nvSpPr>
          <p:spPr>
            <a:xfrm>
              <a:off x="3200400" y="5257800"/>
              <a:ext cx="685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0" y="0"/>
                  </a:moveTo>
                  <a:cubicBezTo>
                    <a:pt x="940" y="0"/>
                    <a:pt x="0" y="1209"/>
                    <a:pt x="0" y="2700"/>
                  </a:cubicBezTo>
                  <a:lnTo>
                    <a:pt x="0" y="18900"/>
                  </a:lnTo>
                  <a:cubicBezTo>
                    <a:pt x="0" y="20391"/>
                    <a:pt x="940" y="21600"/>
                    <a:pt x="2100" y="21600"/>
                  </a:cubicBezTo>
                  <a:lnTo>
                    <a:pt x="19500" y="21600"/>
                  </a:lnTo>
                  <a:cubicBezTo>
                    <a:pt x="20660" y="21600"/>
                    <a:pt x="21600" y="20391"/>
                    <a:pt x="21600" y="18900"/>
                  </a:cubicBezTo>
                  <a:lnTo>
                    <a:pt x="21600" y="2700"/>
                  </a:lnTo>
                  <a:cubicBezTo>
                    <a:pt x="21600" y="1209"/>
                    <a:pt x="20660" y="0"/>
                    <a:pt x="19500" y="0"/>
                  </a:cubicBezTo>
                  <a:lnTo>
                    <a:pt x="2100" y="0"/>
                  </a:lnTo>
                  <a:close/>
                  <a:moveTo>
                    <a:pt x="2100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6"/>
            <p:cNvSpPr/>
            <p:nvPr/>
          </p:nvSpPr>
          <p:spPr>
            <a:xfrm>
              <a:off x="3264840" y="5334120"/>
              <a:ext cx="555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8920" tIns="38160" bIns="38160" anchor="ctr">
              <a:spAutoFit/>
            </a:bodyPr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PCR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HG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7"/>
          <p:cNvGrpSpPr/>
          <p:nvPr/>
        </p:nvGrpSpPr>
        <p:grpSpPr>
          <a:xfrm>
            <a:off x="6737400" y="4952880"/>
            <a:ext cx="1001520" cy="609480"/>
            <a:chOff x="6737400" y="4952880"/>
            <a:chExt cx="1001520" cy="609480"/>
          </a:xfrm>
        </p:grpSpPr>
        <p:sp>
          <p:nvSpPr>
            <p:cNvPr id="548" name="AutoShape 28"/>
            <p:cNvSpPr/>
            <p:nvPr/>
          </p:nvSpPr>
          <p:spPr>
            <a:xfrm>
              <a:off x="6780240" y="4952880"/>
              <a:ext cx="91440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9"/>
            <p:cNvSpPr/>
            <p:nvPr/>
          </p:nvSpPr>
          <p:spPr>
            <a:xfrm>
              <a:off x="6737400" y="5028840"/>
              <a:ext cx="100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LC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Atb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valuar ingre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Line 30"/>
          <p:cNvSpPr/>
          <p:nvPr/>
        </p:nvSpPr>
        <p:spPr>
          <a:xfrm>
            <a:off x="1447920" y="3581280"/>
            <a:ext cx="1440" cy="152640"/>
          </a:xfrm>
          <a:prstGeom prst="line">
            <a:avLst/>
          </a:prstGeom>
          <a:ln w="3816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1447920" y="4495680"/>
            <a:ext cx="1440" cy="76320"/>
          </a:xfrm>
          <a:prstGeom prst="line">
            <a:avLst/>
          </a:prstGeom>
          <a:ln w="3816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2"/>
          <p:cNvSpPr/>
          <p:nvPr/>
        </p:nvSpPr>
        <p:spPr>
          <a:xfrm>
            <a:off x="1447920" y="5105520"/>
            <a:ext cx="144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33"/>
          <p:cNvCxnSpPr/>
          <p:nvPr/>
        </p:nvCxnSpPr>
        <p:spPr>
          <a:xfrm flipV="1">
            <a:off x="2268000" y="3644640"/>
            <a:ext cx="791640" cy="289440"/>
          </a:xfrm>
          <a:prstGeom prst="straightConnector1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</p:cxnSp>
      <p:sp>
        <p:nvSpPr>
          <p:cNvPr id="554" name="Line 34"/>
          <p:cNvSpPr/>
          <p:nvPr/>
        </p:nvSpPr>
        <p:spPr>
          <a:xfrm>
            <a:off x="3505320" y="3809880"/>
            <a:ext cx="1440" cy="304920"/>
          </a:xfrm>
          <a:prstGeom prst="line">
            <a:avLst/>
          </a:prstGeom>
          <a:ln w="3816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AutoShape 35"/>
          <p:cNvCxnSpPr/>
          <p:nvPr/>
        </p:nvCxnSpPr>
        <p:spPr>
          <a:xfrm>
            <a:off x="1979280" y="4941720"/>
            <a:ext cx="1152720" cy="432720"/>
          </a:xfrm>
          <a:prstGeom prst="straightConnector1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</p:cxnSp>
      <p:cxnSp>
        <p:nvCxnSpPr>
          <p:cNvPr id="556" name="AutoShape 36"/>
          <p:cNvCxnSpPr/>
          <p:nvPr/>
        </p:nvCxnSpPr>
        <p:spPr>
          <a:xfrm flipV="1">
            <a:off x="4066920" y="5373360"/>
            <a:ext cx="2592720" cy="72000"/>
          </a:xfrm>
          <a:prstGeom prst="straightConnector1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</p:cxnSp>
      <p:grpSp>
        <p:nvGrpSpPr>
          <p:cNvPr id="557" name="Group 37"/>
          <p:cNvGrpSpPr/>
          <p:nvPr/>
        </p:nvGrpSpPr>
        <p:grpSpPr>
          <a:xfrm>
            <a:off x="723240" y="5943600"/>
            <a:ext cx="1524240" cy="762120"/>
            <a:chOff x="723240" y="5943600"/>
            <a:chExt cx="1524240" cy="762120"/>
          </a:xfrm>
        </p:grpSpPr>
        <p:sp>
          <p:nvSpPr>
            <p:cNvPr id="558" name="Rectangle 38"/>
            <p:cNvSpPr/>
            <p:nvPr/>
          </p:nvSpPr>
          <p:spPr>
            <a:xfrm>
              <a:off x="836640" y="5943600"/>
              <a:ext cx="1295280" cy="762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"/>
            <p:cNvSpPr/>
            <p:nvPr/>
          </p:nvSpPr>
          <p:spPr>
            <a:xfrm>
              <a:off x="723240" y="601992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Estado general afec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LC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Ingreso a observ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 Bold"/>
                  <a:ea typeface="ヒラギノ角ゴ ProN W3"/>
                </a:rPr>
                <a:t>Valorar atb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Line 40"/>
          <p:cNvSpPr/>
          <p:nvPr/>
        </p:nvSpPr>
        <p:spPr>
          <a:xfrm>
            <a:off x="1447920" y="5791320"/>
            <a:ext cx="1440" cy="7596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7086600" y="2743200"/>
            <a:ext cx="1440" cy="30492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42"/>
          <p:cNvSpPr/>
          <p:nvPr/>
        </p:nvSpPr>
        <p:spPr>
          <a:xfrm flipH="1">
            <a:off x="1905120" y="2057400"/>
            <a:ext cx="1676160" cy="38088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43"/>
          <p:cNvSpPr/>
          <p:nvPr/>
        </p:nvSpPr>
        <p:spPr>
          <a:xfrm>
            <a:off x="5486400" y="2057400"/>
            <a:ext cx="1447920" cy="380880"/>
          </a:xfrm>
          <a:prstGeom prst="line">
            <a:avLst/>
          </a:prstGeom>
          <a:ln w="28440">
            <a:solidFill>
              <a:srgbClr val="b26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4360" y="1976400"/>
            <a:ext cx="7997760" cy="4881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Medidas general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porte extra de líqui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Ropa adecu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Ventilación de la habit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700280"/>
            <a:ext cx="256068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4360" y="1976400"/>
            <a:ext cx="7997760" cy="4881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Solo administrar antitérmicos  en caso 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alta ( &gt; 39 °c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Riesgo de convulsión febr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Niño con molesti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descompensa o altera la condición basal (ICC, anemi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5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Que medicamentos utiliza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8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AINE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Bloquean producción PGE2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(IBUPROFENO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tipirét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algés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tiinflamatori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Dosis: 5 – 10 mg/kg/dosis cada  8 hor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8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ACETAMINOFENO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Inhibe  acción de pirógenos endógenos en centro termorregulador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(PARACETAMO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tipirét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826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Bold"/>
              </a:rPr>
              <a:t>Efecto analgésic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TRATAMI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28600" y="213336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vitar el uso 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Fricciones con alcohol .....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Hipoglicemia, intoxic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Baños con agua fria ......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vasoconstricción y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↑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 temp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b26b0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Aspirina ......</a:t>
            </a:r>
            <a:r>
              <a:rPr b="0" lang="en-US" sz="26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 Bold"/>
              </a:rPr>
              <a:t>Síndrome de Reyé, broncoconstricción, hemorrag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2789280" cy="241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CASO CLÍNICO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23b0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Acude al servicio de urgencias paciente de 15 dias de edad quien presenta cuadro desde hoy con fiebre de 38°c  y rinorrea serosa. Buen aspecto. EF es negativ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oque diagnósti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Conduc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Calibri Bold"/>
              </a:rPr>
              <a:t>GENERALIDAD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50920" y="2420640"/>
            <a:ext cx="7889760" cy="44370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1030320" indent="-53352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EMPERATURA NORMAL: 36.8 c +/- 0.4 ° oral y axilar. La temp. rectal es 0.6 c  may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030320" indent="-53352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VARIACIÓN DE LA TEMPERATURA EN 24 HOR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Bold"/>
              </a:rPr>
              <a:t>Temperatura más baja : en la mañana temprano (02:00-04:00 hrs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1411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Bold"/>
              </a:rPr>
              <a:t>Temperatura más alta: en la tarde (16:00-18:00 hrs.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6661080" y="189000"/>
            <a:ext cx="2239920" cy="24480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4344840" y="6388200"/>
            <a:ext cx="45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0CE5-02F0-4B36-BF5D-E8BC5DE4974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CASO CLÍNICO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Paciente de 10 meses de edad con cuadro de 1 día de evolución con fiebre 39 °c. Se alimenta adecuadamente. No otra sintomatología. Buen aspect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oque diagnósti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Conduc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CASO CLÍNICO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5400" y="1765440"/>
            <a:ext cx="8226360" cy="5092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Paciente de 3 años de edad con cuadro de 2 días de evolución con fiebre 38.5 ºc.  FC 170/ min  PA 90/45. Llene capilar 4-5 se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Enfoque diagnósti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Conduc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2398680" cy="32763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295280" y="5562720"/>
            <a:ext cx="229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Oral: hasta 37.8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5486400" y="4724280"/>
            <a:ext cx="229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Rectal: hasta 38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486400" y="5486400"/>
            <a:ext cx="229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Axilar: hasta 37.8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6706440" y="2251080"/>
            <a:ext cx="190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Calibri Bold"/>
              </a:rPr>
              <a:t>NUEVOS MÉTODOS DE MEDICIÓN DE TEMPERATUR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6706440" y="2251080"/>
            <a:ext cx="190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1687680" cy="19051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"/>
          <p:cNvPicPr/>
          <p:nvPr/>
        </p:nvPicPr>
        <p:blipFill>
          <a:blip r:embed="rId3"/>
          <a:stretch/>
        </p:blipFill>
        <p:spPr>
          <a:xfrm>
            <a:off x="5672160" y="2362320"/>
            <a:ext cx="2671920" cy="3276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4496040" cy="1635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"/>
          <p:cNvPicPr/>
          <p:nvPr/>
        </p:nvPicPr>
        <p:blipFill>
          <a:blip r:embed="rId5"/>
          <a:stretch/>
        </p:blipFill>
        <p:spPr>
          <a:xfrm>
            <a:off x="826920" y="2421000"/>
            <a:ext cx="2089440" cy="2016000"/>
          </a:xfrm>
          <a:prstGeom prst="rect">
            <a:avLst/>
          </a:prstGeom>
          <a:ln w="0">
            <a:noFill/>
          </a:ln>
        </p:spPr>
      </p:pic>
      <p:sp>
        <p:nvSpPr>
          <p:cNvPr id="460" name="Line 10"/>
          <p:cNvSpPr/>
          <p:nvPr/>
        </p:nvSpPr>
        <p:spPr>
          <a:xfrm flipH="1">
            <a:off x="826920" y="2421000"/>
            <a:ext cx="2089440" cy="20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"/>
          <p:cNvSpPr/>
          <p:nvPr/>
        </p:nvSpPr>
        <p:spPr>
          <a:xfrm>
            <a:off x="826920" y="2421000"/>
            <a:ext cx="2089440" cy="20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2627280"/>
            <a:ext cx="5184720" cy="4230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FIEBRE EN NEUTROPENIA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Neutropenia: se refiere a disminución de neutrófilos (leve &lt;1.500, moderado entre 500 y 1.000, severa &lt;500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8264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Bold"/>
              </a:rPr>
              <a:t>Fiebre: 38.3 c en una sola toma o 38º mantenidos en 1 hor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5286240" y="2637000"/>
            <a:ext cx="38577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37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FIEBRE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levación de la tº corporal a valores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≥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 38 ° c  rect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HIPERPIREXIA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levación de la t°a valores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≥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 41 ° c debida a fieb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 Bold"/>
              </a:rPr>
              <a:t>HIPERTERMIA:</a:t>
            </a:r>
            <a:r>
              <a:rPr b="0" lang="en-US" sz="29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 Bold"/>
              </a:rPr>
              <a:t>Elevación de la t° corporal sin que medien cambios en el set point  del centro termoregulador (alteración en el aporte, producción y/o  eliminación de calor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177840" y="190440"/>
            <a:ext cx="2541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Í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 Bold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AGUDA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emperatura &gt; 38 °c  de menos de 7 días de evolu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SIN FOCO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de &lt; 1 semana de evolución sin evidencia de foco claro en la anamnesis y exámen físic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PROLONGADA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ebre  &gt; 7 o 14 días de evolució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Bold"/>
              </a:rPr>
              <a:t>FIEBRE DE ORIGEN DESCONOCIDO (FOD):</a:t>
            </a:r>
            <a:r>
              <a:rPr b="0" lang="en-US" sz="2400" spc="-1" strike="noStrike">
                <a:solidFill>
                  <a:srgbClr val="ffff00"/>
                </a:solidFill>
                <a:latin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Proceso febril de al menos 14 días de duración con estudios de laboratorio de primera fa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0" y="228600"/>
            <a:ext cx="275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 Bold"/>
                <a:ea typeface="ヒラギノ角ゴ ProN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ヒラギノ角ゴ ProN W3"/>
              </a:rPr>
              <a:t>SINDROME FE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Rodrigo Vásquez</dc:creator>
  <dc:description/>
  <cp:keywords/>
  <dc:language>en-US</dc:language>
  <cp:lastModifiedBy>Rodrigo Vásquez De Kartzow</cp:lastModifiedBy>
  <dcterms:modified xsi:type="dcterms:W3CDTF">2022-04-04T11:56:16Z</dcterms:modified>
  <cp:revision>16</cp:revision>
  <dc:subject/>
  <dc:title>SÍNDROME MENINGEO</dc:title>
</cp:coreProperties>
</file>