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DB5E-54F4-448A-9EE8-E55D994CD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632C-6F78-4BDB-A551-99280668360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DA3871-A78B-43C5-8129-6A9D33E3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5115E3-5BB3-4654-B374-B2F200B0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1FBE5E-45A6-40F4-B7D3-0FCEEBC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A47E0A-DF37-4212-BB3D-48618195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7F4A42-7EE3-4313-B1FA-E0C9D607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FA123C-36D6-4507-9B88-B3F33BC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3BF9AA-FCFB-468A-A9A2-987B781F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3783E3-0F16-4F9F-99B1-CC70610F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52A920-C175-4ED6-A571-46D3217D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1614E1-3AC8-4613-B739-D22F72A8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AA99-766D-4ECA-8957-C386A341EAD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85458-CCA6-4B74-90BA-BA01499B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96343C-5F19-45EB-8B9E-49BDF533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E5D7B-ACC1-4D46-B789-FAEFFA5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95536E-6C63-4B20-B498-B740083C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D5B4BC-0FC0-4335-8652-8438FF5D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C80D26-C63E-4DC7-BF46-F5831E1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133980-B601-4349-B5EA-F87FE511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E6C396-2A54-4214-AFF2-48D2FEF7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25794D-8584-43D4-8104-E48DF9FB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252797-1B7B-4497-AFDD-D7973301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4DB7-C87E-4B00-87A1-B9D125D8DCB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1C3B2F-C5A8-4B4E-9189-BA12652A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88F83-6888-4B3D-A2A2-E2A6929658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8408-E46B-4758-BF3D-1A717E006F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6A2E-DE8B-4CA1-A09A-ACC140B159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FDED-9CEB-4B97-9583-CF1E772A1D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1DA8-C86E-41C8-8EF7-7D188F70C5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4D9C-5171-4824-82AB-0E83F55A6A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5EC0-517E-46B8-BAA3-78B278B19B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ECA3-6F29-4C45-AE5A-D701473EF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BB2A-7F74-49A6-9455-15D6B50F69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417B-4EF1-4DBB-8633-5E99413E31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C206-5E3F-45CA-B226-4128D8F8FB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9ECF-F07F-433E-8D85-D39F357C5D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1F5B-F6C9-43FD-BAA8-237DC43AEF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8A535-23F7-4503-BEB9-87F87B54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B1419-0C25-4AA6-84DD-B65D8BF0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9478E-F40A-4606-B14B-30D6101A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63590-E6D2-4419-A8BA-1B2235D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3FE04-3CBF-4D99-8CBC-6F12D4ED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792E-4A8B-473B-ACE7-945C80DF55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C23CC-5177-44C9-9440-392BFFE4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F345F-F809-4F95-8C8B-C8A3E696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A91EC-1243-4FBF-9687-BA5E285E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1E0C-E721-4BE6-87AE-BAE76298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59D41-4E55-43AE-983B-3D859D8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AC671-B01B-4FEC-A070-5E72A7FA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67D14-4CF5-4F59-B7A8-2878E67F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6F751-CC2E-4696-8B47-BE0C58DC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A633A-E9F7-4C8A-94B9-6DE940B2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2F822-745E-4730-A3F1-0F511025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16EC-D82C-4CAD-8D43-9F55F1EB55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C777C-97CF-4EC8-BD23-26494EFC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DE0AD-7671-488F-A539-266B9B42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45D7E-C4DA-42FC-9C45-739BD495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45404-C44C-4EB0-A963-E01A7911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8199B-B9B0-4A17-9D99-6255B54C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9FAD3-75BA-4A25-B693-648FF444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5A0E5-7A79-4728-921E-C8636577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16D1A-80AC-48E8-8710-F8FC4FEA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9B978-3735-419F-9022-D7AF808B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2C1F5-FFC1-4E35-A2BF-9296E459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9E71-5B5C-49F2-ABB7-949E633506B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3F28D-9057-4EEA-AE3F-90ECDB41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191AF-3066-4E6F-92C6-6E87A4E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5A0B3-3F5F-4499-92FF-A01B522F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624AE0-0154-477B-832B-EA71C196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98831-847B-4CB0-89C6-8C5BF7C5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B2826-335D-4FF6-A6F0-0CFFFC1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71793-D4C5-45D7-AEA8-55E8783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6EE21-4431-4F67-8A6F-B9C79B7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7AADE-3912-4D1F-89DC-286AEF71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27792-92DF-47C1-A06A-51A81548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B1B2-C2F6-46A6-9E9C-7D7BAD33C8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424C1D-AFF5-4BB0-BC47-FDBFD728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33C90-281C-400F-AC56-23CD4248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ACE4E2-CEC4-40A7-B64E-00F3DDE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E98092-7860-4DC9-BDA5-2BC80F19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596171-0B0A-4F92-80DC-4E476835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B9FEB2-80AB-4250-A6E7-64B308B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90CE86-057F-4C69-BDCA-BEB03F63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A5AD6D-10C8-459C-B629-ECA10E0A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D4DAD6-FEF7-4047-B5C6-F5F6B158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86D005-D388-42AC-A186-9E9F681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2583-C3F0-4C1D-B393-25788D7A8F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0A02DA-C6F7-4638-9DA5-76722887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BA8FC-02AE-428C-BB67-E7B8F233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5999CD-B6CF-4105-ABD7-5BF3675E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811F79-7BE8-4F47-8A79-660EBE0C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CC95F4-9DA9-4746-BD6A-063FF46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00B26-EC51-431E-A513-FF03EFD7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951903-8EF4-40F8-91F9-74D12388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91AAA5-24C8-4408-ADB8-2A183F52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CAC2D0-7882-4418-BF25-ED6EFDC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52AB6-10A4-4BE4-A606-69EA3BB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9CAF-1BB0-45B4-A47A-F510553E79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FF42AC-D3B6-4A66-AD81-9D70335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050EED-4073-45CC-B867-0DD61D85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8B7049-4F71-450E-8648-3C090125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4444F7-B20B-4F8A-AEBA-9A0FF114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91930D-9D00-4BF0-8931-A7716170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BC8C2-BF78-43BA-8CD6-58B75BF2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3C745-5935-4FA7-A9D4-8A6ADA41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FE8F2-F25D-4725-98F4-6969A13A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7F63B-20F6-4AF5-9DCC-B0D35FFA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BE7DC-0FBE-446C-ABDA-8B8E32B4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4CA8-FF18-4CD7-8144-FC9C85EAB7B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72470-9DE0-4CCB-AD9F-3AC62D0E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9AD03-EE74-4B77-B56F-302C0F56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2E9C9-1994-4587-A37B-2D034B76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BA400-8B1B-4906-8F83-DAC7BD51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D4E2D2-A09F-463B-8618-7AEEB08B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7597C-731D-4D94-90FD-34A99B15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14B54-2ED1-45C0-8656-C7E38F25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95F2C7-8917-481B-8725-F15D8C57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D44690-7377-4EF0-83E1-B4034FE9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D15909-03DD-496B-B0F5-A185F138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andes.cl/index.html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uandes.cl/index.html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6840" y="6399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6358-979A-48A7-BEB3-9BB321B1FBC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á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á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á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C7C1-9B78-4F01-930F-17A12F0274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838440" cy="7444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791320"/>
            <a:ext cx="838440" cy="74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476840" y="6399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879D-A217-4729-898C-E59D65EA353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á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á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á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C1BA-4987-4EB3-8C36-98FD34A517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á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á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á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6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7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8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1319-6DEE-48FF-8CF2-B12191C2DE0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á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á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á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77B7-5422-4062-9B22-8621E94CCB1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á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á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á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5784-80F7-49DC-ABDA-1A711E71E8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á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á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á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0807-D021-47D4-A00B-DD4DC8FE1F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0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1C4F-D1B3-43DE-8D0E-E560350145A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á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á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á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ángulo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1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2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4FEE-8A1B-4D05-8BEE-5A25B83B8A6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3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andes.cl/index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slkidstuff.com/images/fever.gif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tubotica.net/images/GifsConsejos/Bano.jpg&amp;imgrefurl=http://www.tubotica.net/consejos/Ninos/Fiebre.htm&amp;h=459&amp;w=459&amp;prev=/images?q=fiebre&amp;start=80&amp;svnum=10&amp;hl=es&amp;lr=&amp;ie=UTF-8&amp;oe=UTF-8&amp;sa=N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267680" cy="1994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ÍNDROME FEBRIL EN PEDIATRÍ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55280" y="479700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DR. RODRIGO VÁSQUEZ DE KARTZO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PROFESOR ASOCI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FACULTAD DE MEDIC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202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9844" t="22417" r="20090" b="22365"/>
          <a:stretch/>
        </p:blipFill>
        <p:spPr>
          <a:xfrm>
            <a:off x="3378240" y="2463840"/>
            <a:ext cx="227340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IPOS DE FIEB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Contínua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Las variaciones diarias son menores de 1 °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Intermitent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uando existen periodos afebriles menores a un día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Recurrent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xisten periodos afebriles de varios días (2 – 5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Ondulant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Fiebre irregular, resultante de la combinación de varios tipo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DIAGNÓSTICO DIFERENCIAL DE FIEBRE AGUDA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nfermedad de vías aéreas superi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nfermedad respiratoria ba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Trastornos gastrointestina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Infecciones musculoesqueletic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Infección urinar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Bacteriem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Calibri Bold"/>
              </a:rPr>
              <a:t>TIPOS DE FIEB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Bold"/>
              </a:rPr>
              <a:t>CAUSAS DE FIEBRE PROLONGAD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792440" indent="-381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92440" indent="-381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olagenopatí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92440" indent="-381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Neoplasi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TIPOS DE FIEBRE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52280" y="21333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 Bold"/>
              </a:rPr>
              <a:t>CAUSAS INFECCIOSAS DE FIEBRE PROLONGADA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Fiebre tifoide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Tuberculos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Paludism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Neumoní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Absceso hepát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Salmonellosis no tífic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Mononucleosis infeccios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ndocarditis infeccios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Toxoplasmos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Abscesos profundo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FISIOPATOLOG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PIROGENOS ENDÓGEN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olipéptidos producidos por el huésped en respuesta a una infección, lesión, inflamación o provocación antigénic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rea preóptica del hipotálamo anterior (centro termoregulador) responde ante estimulos de pirógenos endógenos elevando la temperatura. Intermediario: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PGE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Calibri Bold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FISIOPATOLOGIA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2433600"/>
            <a:ext cx="7702560" cy="44244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Hipotálamo regula temperatura interna en aproximadamente  37 °c por capacidad de equilibrar la pérdida de calor de la periferia con producción de calor  en tejidos (higado y múscul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Pirógenos endógenos (polipeptidos)  producidos por el huésped en respuesta a infección , lesión, inflamación.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(IL1-IL6-FN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Hipotálamo: Síntesis de prostaglandin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5791320"/>
            <a:ext cx="838440" cy="7444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opat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925040" cy="501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1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34280" cy="62006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RIESGOS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Temperaturas &gt; 5 º c del valor habitual (41- 42ºc) tienen riesgo para la vida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metabólic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sintesis de ac. nucléic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sintesis de proteín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permeabilid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el pH intracelul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POSIBLES EFECTOS BENEFICOS DE LA FIEB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5400" y="1852560"/>
            <a:ext cx="8226360" cy="500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Alta temperatura impide multiplicación de algunos microorganismo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Bold Italic"/>
              </a:rPr>
              <a:t>Neisseria meningitid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 Italic"/>
              </a:rPr>
              <a:t>Trepone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Bold Italic"/>
              </a:rPr>
              <a:t>Streptococcus pneumonia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lgunos vir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SÍNDROME FEBRIL EN PEDIATR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GENERALIDAD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DEFINI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AUS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NFOQ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TRATAMI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RECOMENDACIO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5940360" y="2133720"/>
            <a:ext cx="20541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000" y="281160"/>
            <a:ext cx="7769160" cy="1319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POSIBLES EFECTOS BENEFICOS DE LA FIEB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2409840" y="205740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3"/>
          <p:cNvSpPr/>
          <p:nvPr/>
        </p:nvSpPr>
        <p:spPr>
          <a:xfrm>
            <a:off x="6934320" y="3384720"/>
            <a:ext cx="191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Trat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de la sifi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iglo X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75f55"/>
                </a:solidFill>
                <a:latin typeface="Calibri Bold"/>
              </a:rPr>
              <a:t>POSIBLES EFECTOS BENEFICOS DE LA FIEBRE</a:t>
            </a:r>
            <a:endParaRPr b="0" lang="en-US" sz="33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5400" y="1852560"/>
            <a:ext cx="8226360" cy="500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Aumenta la respuesta inflamatoria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agocito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Migración de leucocit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ransformación de linfocit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o de la producción de interferó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POSIBLES EFECTOS ADVERSOS DE LA FIEB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 tº&gt; 40 º c  la fagocitosis para </a:t>
            </a:r>
            <a:r>
              <a:rPr b="0" i="1" lang="en-US" sz="2400" spc="-1" strike="noStrike">
                <a:solidFill>
                  <a:srgbClr val="000000"/>
                </a:solidFill>
                <a:latin typeface="Calibri Bold Italic"/>
              </a:rPr>
              <a:t>Staphilococcus</a:t>
            </a:r>
            <a:r>
              <a:rPr b="0" i="1" lang="en-US" sz="2400" spc="-1" strike="noStrike">
                <a:solidFill>
                  <a:srgbClr val="0000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disminuye así como las funciones celular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aumenta en 10%-12% el metabolismo basal por cada grado de elevació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a el consumo de oxíge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a la producción de dioxido de carbo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a requerimientos de agua lib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onvulsiones febriles en niños susceptib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de 40º   causa edema cerebral en anima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" descr=""/>
          <p:cNvPicPr/>
          <p:nvPr/>
        </p:nvPicPr>
        <p:blipFill>
          <a:blip r:embed="rId1"/>
          <a:stretch/>
        </p:blipFill>
        <p:spPr>
          <a:xfrm>
            <a:off x="1547640" y="1278000"/>
            <a:ext cx="6048720" cy="4672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FIEBRE EN RECIEN NACIDOS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iebre es un signo poco frecuente en lactantes menore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mente 1% de los lactantes menores de 12 meses de edad tiene fiebre &gt; 38 ºc al ser llevados a un policlínic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enores de 3 meses de  edad, la IBG se asocia más frecuentemente con grados bajos de temperatura (38.1 – 38.9 °c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PREGUNTAS FRENTE A UN LACTANTE CON FIEBRE SIN FOCO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Puede este niño tener una infección grav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Que elementos de la historia y del EF lo suguieren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Que examenes debemos tomar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s necesario hospitalizarlo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Puede tener una bacteremia oculta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Cual es el riesgo de desarrollar una MBA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Cual es el beneficio de tratarlo empíricamente con antibióticos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ACTORES DE RIESGO PARA BACTEREMIA OCULTA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RITERIOS CLÍN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dad &lt; 2 añ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Fiebre &gt; 39.4 ° 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pariencia tóx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Irritabilidad, decai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Somnole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ermedad subyacen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ntecedente de contacto con </a:t>
            </a:r>
            <a:r>
              <a:rPr b="0" lang="en-US" sz="2600" spc="-1" strike="noStrike">
                <a:solidFill>
                  <a:srgbClr val="000000"/>
                </a:solidFill>
                <a:latin typeface="Calibri Bold Italic"/>
              </a:rPr>
              <a:t>N. meningitidi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ACTORES DE RIESGO PARA BACTEREMIA OCULTA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RITERIOS DE LABORATO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Leucocitosis &gt; 15.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baciliformes &gt; 5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MN &gt; 10.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Granulaciones tóxicas en hemogram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ACTORES DE RIESGO PARA BACTEREMIA OCULTA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RITERIOS DE ROCHE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aciente con buena aparie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reviamente san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No infección bacteriana loc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Leucocitos : 5.000 a 15.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OC: Norm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 caso de diarrea: &lt; 5 leucocitos/camp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Marcador de contenido 4" descr="Tabla&#10;&#10;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944640" y="115920"/>
            <a:ext cx="6983280" cy="6751440"/>
          </a:xfrm>
          <a:prstGeom prst="rect">
            <a:avLst/>
          </a:prstGeom>
          <a:ln w="0">
            <a:noFill/>
          </a:ln>
        </p:spPr>
      </p:pic>
      <p:pic>
        <p:nvPicPr>
          <p:cNvPr id="514" name="CuadroTexto 5" descr=""/>
          <p:cNvPicPr/>
          <p:nvPr/>
        </p:nvPicPr>
        <p:blipFill>
          <a:blip r:embed="rId2"/>
          <a:stretch/>
        </p:blipFill>
        <p:spPr>
          <a:xfrm>
            <a:off x="5486400" y="571680"/>
            <a:ext cx="322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GENERALIDA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80760" y="2125440"/>
            <a:ext cx="5491080" cy="47322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s uno de los síntomas más frecuentes de enfermedad en pediatría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Representa entre el 20 – 30 % de las consultas en consultori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Causa más frecuente  de tratamiento farmacológico  en pediatría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Definición de fiebre depende de la patología de base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74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Marcador de contenido 4" descr="Tabla&#10;&#10;Descripción generada automáticamente"/>
          <p:cNvPicPr/>
          <p:nvPr/>
        </p:nvPicPr>
        <p:blipFill>
          <a:blip r:embed="rId1"/>
          <a:stretch/>
        </p:blipFill>
        <p:spPr>
          <a:xfrm>
            <a:off x="309600" y="115920"/>
            <a:ext cx="8439120" cy="6588000"/>
          </a:xfrm>
          <a:prstGeom prst="rect">
            <a:avLst/>
          </a:prstGeom>
          <a:ln w="0">
            <a:noFill/>
          </a:ln>
        </p:spPr>
      </p:pic>
      <p:pic>
        <p:nvPicPr>
          <p:cNvPr id="516" name="CuadroTexto 5" descr=""/>
          <p:cNvPicPr/>
          <p:nvPr/>
        </p:nvPicPr>
        <p:blipFill>
          <a:blip r:embed="rId2"/>
          <a:stretch/>
        </p:blipFill>
        <p:spPr>
          <a:xfrm>
            <a:off x="5549760" y="571680"/>
            <a:ext cx="3238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Marcador de contenido 4" descr="Tabla&#10;&#10;Descripción generada automáticamente"/>
          <p:cNvPicPr/>
          <p:nvPr/>
        </p:nvPicPr>
        <p:blipFill>
          <a:blip r:embed="rId1"/>
          <a:stretch/>
        </p:blipFill>
        <p:spPr>
          <a:xfrm>
            <a:off x="684360" y="-1440"/>
            <a:ext cx="7716600" cy="6859440"/>
          </a:xfrm>
          <a:prstGeom prst="rect">
            <a:avLst/>
          </a:prstGeom>
          <a:ln w="0">
            <a:noFill/>
          </a:ln>
        </p:spPr>
      </p:pic>
      <p:pic>
        <p:nvPicPr>
          <p:cNvPr id="518" name="CuadroTexto 5" descr=""/>
          <p:cNvPicPr/>
          <p:nvPr/>
        </p:nvPicPr>
        <p:blipFill>
          <a:blip r:embed="rId2"/>
          <a:stretch/>
        </p:blipFill>
        <p:spPr>
          <a:xfrm>
            <a:off x="5486400" y="419040"/>
            <a:ext cx="32004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Imagen 4" descr="Captura de pantalla 2014-09-30 a la(s) 10.14.24.png"/>
          <p:cNvPicPr/>
          <p:nvPr/>
        </p:nvPicPr>
        <p:blipFill>
          <a:blip r:embed="rId1"/>
          <a:stretch/>
        </p:blipFill>
        <p:spPr>
          <a:xfrm>
            <a:off x="1332000" y="260280"/>
            <a:ext cx="61862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Imagen 1" descr="Captura de pantalla 2014-09-30 a la(s) 10.18.36.png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IEBRE EN NIÑOS DE 3 A 36 MES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50560" y="1844640"/>
            <a:ext cx="8488440" cy="50133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FIEBRE &lt; 48 HR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(edad 3-36 meses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Factores de riesgo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Sin factores de riesgo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685080" y="2819520"/>
            <a:ext cx="1524240" cy="685800"/>
            <a:chOff x="685080" y="2819520"/>
            <a:chExt cx="1524240" cy="685800"/>
          </a:xfrm>
        </p:grpSpPr>
        <p:sp>
          <p:nvSpPr>
            <p:cNvPr id="524" name="Rectangle 4"/>
            <p:cNvSpPr/>
            <p:nvPr/>
          </p:nvSpPr>
          <p:spPr>
            <a:xfrm>
              <a:off x="760320" y="2819520"/>
              <a:ext cx="13716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"/>
            <p:cNvSpPr/>
            <p:nvPr/>
          </p:nvSpPr>
          <p:spPr>
            <a:xfrm>
              <a:off x="685080" y="285768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T &gt; 40 °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etequ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atologia de 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stado general afec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"/>
          <p:cNvGrpSpPr/>
          <p:nvPr/>
        </p:nvGrpSpPr>
        <p:grpSpPr>
          <a:xfrm>
            <a:off x="6477120" y="3124080"/>
            <a:ext cx="1295280" cy="838080"/>
            <a:chOff x="6477120" y="3124080"/>
            <a:chExt cx="1295280" cy="838080"/>
          </a:xfrm>
        </p:grpSpPr>
        <p:sp>
          <p:nvSpPr>
            <p:cNvPr id="527" name="Rectangle 7"/>
            <p:cNvSpPr/>
            <p:nvPr/>
          </p:nvSpPr>
          <p:spPr>
            <a:xfrm>
              <a:off x="6477120" y="3124080"/>
              <a:ext cx="1295280" cy="838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"/>
            <p:cNvSpPr/>
            <p:nvPr/>
          </p:nvSpPr>
          <p:spPr>
            <a:xfrm>
              <a:off x="6534000" y="3130920"/>
              <a:ext cx="11800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Antipire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Alt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Control en 24 hr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9"/>
          <p:cNvGrpSpPr/>
          <p:nvPr/>
        </p:nvGrpSpPr>
        <p:grpSpPr>
          <a:xfrm>
            <a:off x="711360" y="3809880"/>
            <a:ext cx="1546920" cy="609480"/>
            <a:chOff x="711360" y="3809880"/>
            <a:chExt cx="1546920" cy="609480"/>
          </a:xfrm>
        </p:grpSpPr>
        <p:sp>
          <p:nvSpPr>
            <p:cNvPr id="530" name="Rectangle 10"/>
            <p:cNvSpPr/>
            <p:nvPr/>
          </p:nvSpPr>
          <p:spPr>
            <a:xfrm>
              <a:off x="760320" y="3809880"/>
              <a:ext cx="1449360" cy="609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1"/>
            <p:cNvSpPr/>
            <p:nvPr/>
          </p:nvSpPr>
          <p:spPr>
            <a:xfrm>
              <a:off x="711360" y="3962160"/>
              <a:ext cx="1546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Valorar HG, PC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Orina, Rx. Torax, cultiv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2"/>
          <p:cNvGrpSpPr/>
          <p:nvPr/>
        </p:nvGrpSpPr>
        <p:grpSpPr>
          <a:xfrm>
            <a:off x="3087720" y="3276720"/>
            <a:ext cx="909360" cy="457200"/>
            <a:chOff x="3087720" y="3276720"/>
            <a:chExt cx="909360" cy="457200"/>
          </a:xfrm>
        </p:grpSpPr>
        <p:sp>
          <p:nvSpPr>
            <p:cNvPr id="533" name="AutoShape 13"/>
            <p:cNvSpPr/>
            <p:nvPr/>
          </p:nvSpPr>
          <p:spPr>
            <a:xfrm>
              <a:off x="3122640" y="3276720"/>
              <a:ext cx="83808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3" y="0"/>
                  </a:moveTo>
                  <a:cubicBezTo>
                    <a:pt x="659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659" y="21600"/>
                    <a:pt x="1473" y="21600"/>
                  </a:cubicBezTo>
                  <a:lnTo>
                    <a:pt x="20127" y="21600"/>
                  </a:lnTo>
                  <a:cubicBezTo>
                    <a:pt x="20941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0941" y="0"/>
                    <a:pt x="20127" y="0"/>
                  </a:cubicBezTo>
                  <a:lnTo>
                    <a:pt x="1473" y="0"/>
                  </a:lnTo>
                  <a:close/>
                  <a:moveTo>
                    <a:pt x="1473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4"/>
            <p:cNvSpPr/>
            <p:nvPr/>
          </p:nvSpPr>
          <p:spPr>
            <a:xfrm>
              <a:off x="3087720" y="3390840"/>
              <a:ext cx="909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9640" tIns="38160" bIns="38160" anchor="ctr">
              <a:spAutoFit/>
            </a:bodyPr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Rx y orina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5"/>
          <p:cNvGrpSpPr/>
          <p:nvPr/>
        </p:nvGrpSpPr>
        <p:grpSpPr>
          <a:xfrm>
            <a:off x="2895480" y="4114800"/>
            <a:ext cx="1371600" cy="533520"/>
            <a:chOff x="2895480" y="4114800"/>
            <a:chExt cx="1371600" cy="533520"/>
          </a:xfrm>
        </p:grpSpPr>
        <p:sp>
          <p:nvSpPr>
            <p:cNvPr id="536" name="Rectangle 16"/>
            <p:cNvSpPr/>
            <p:nvPr/>
          </p:nvSpPr>
          <p:spPr>
            <a:xfrm>
              <a:off x="2895480" y="4114800"/>
              <a:ext cx="1371600" cy="5335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3079800" y="4228920"/>
              <a:ext cx="1001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Tto atb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valuar ingre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990720" y="4648320"/>
            <a:ext cx="914400" cy="380880"/>
            <a:chOff x="990720" y="4648320"/>
            <a:chExt cx="914400" cy="380880"/>
          </a:xfrm>
        </p:grpSpPr>
        <p:sp>
          <p:nvSpPr>
            <p:cNvPr id="539" name="AutoShape 19"/>
            <p:cNvSpPr/>
            <p:nvPr/>
          </p:nvSpPr>
          <p:spPr>
            <a:xfrm>
              <a:off x="990720" y="4648320"/>
              <a:ext cx="91440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5" y="0"/>
                  </a:moveTo>
                  <a:cubicBezTo>
                    <a:pt x="504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504" y="21600"/>
                    <a:pt x="1125" y="21600"/>
                  </a:cubicBezTo>
                  <a:lnTo>
                    <a:pt x="20475" y="21600"/>
                  </a:lnTo>
                  <a:cubicBezTo>
                    <a:pt x="21096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1096" y="0"/>
                    <a:pt x="20475" y="0"/>
                  </a:cubicBezTo>
                  <a:lnTo>
                    <a:pt x="1125" y="0"/>
                  </a:lnTo>
                  <a:close/>
                  <a:moveTo>
                    <a:pt x="1125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0"/>
            <p:cNvSpPr/>
            <p:nvPr/>
          </p:nvSpPr>
          <p:spPr>
            <a:xfrm>
              <a:off x="1007640" y="4724280"/>
              <a:ext cx="879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0000" tIns="38160" bIns="38160" anchor="ctr">
              <a:spAutoFit/>
            </a:bodyPr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Rx y orina 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21"/>
          <p:cNvGrpSpPr/>
          <p:nvPr/>
        </p:nvGrpSpPr>
        <p:grpSpPr>
          <a:xfrm>
            <a:off x="1066680" y="5257800"/>
            <a:ext cx="762120" cy="457200"/>
            <a:chOff x="1066680" y="5257800"/>
            <a:chExt cx="762120" cy="457200"/>
          </a:xfrm>
        </p:grpSpPr>
        <p:sp>
          <p:nvSpPr>
            <p:cNvPr id="542" name="AutoShape 22"/>
            <p:cNvSpPr/>
            <p:nvPr/>
          </p:nvSpPr>
          <p:spPr>
            <a:xfrm>
              <a:off x="1066680" y="5257800"/>
              <a:ext cx="76212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" y="0"/>
                  </a:moveTo>
                  <a:cubicBezTo>
                    <a:pt x="725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725" y="21600"/>
                    <a:pt x="1620" y="21600"/>
                  </a:cubicBezTo>
                  <a:lnTo>
                    <a:pt x="19980" y="21600"/>
                  </a:lnTo>
                  <a:cubicBezTo>
                    <a:pt x="20875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0875" y="0"/>
                    <a:pt x="19980" y="0"/>
                  </a:cubicBezTo>
                  <a:lnTo>
                    <a:pt x="1620" y="0"/>
                  </a:lnTo>
                  <a:close/>
                  <a:moveTo>
                    <a:pt x="1620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3"/>
            <p:cNvSpPr/>
            <p:nvPr/>
          </p:nvSpPr>
          <p:spPr>
            <a:xfrm>
              <a:off x="1183680" y="5295960"/>
              <a:ext cx="526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9280" tIns="38160" bIns="38160" anchor="ctr">
              <a:spAutoFit/>
            </a:bodyPr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CR 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HG 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24"/>
          <p:cNvGrpSpPr/>
          <p:nvPr/>
        </p:nvGrpSpPr>
        <p:grpSpPr>
          <a:xfrm>
            <a:off x="3200400" y="5257800"/>
            <a:ext cx="685800" cy="533520"/>
            <a:chOff x="3200400" y="5257800"/>
            <a:chExt cx="685800" cy="533520"/>
          </a:xfrm>
        </p:grpSpPr>
        <p:sp>
          <p:nvSpPr>
            <p:cNvPr id="545" name="AutoShape 25"/>
            <p:cNvSpPr/>
            <p:nvPr/>
          </p:nvSpPr>
          <p:spPr>
            <a:xfrm>
              <a:off x="3200400" y="5257800"/>
              <a:ext cx="685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0" y="0"/>
                  </a:moveTo>
                  <a:cubicBezTo>
                    <a:pt x="940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940" y="21600"/>
                    <a:pt x="2100" y="21600"/>
                  </a:cubicBezTo>
                  <a:lnTo>
                    <a:pt x="19500" y="21600"/>
                  </a:lnTo>
                  <a:cubicBezTo>
                    <a:pt x="20660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0660" y="0"/>
                    <a:pt x="19500" y="0"/>
                  </a:cubicBezTo>
                  <a:lnTo>
                    <a:pt x="2100" y="0"/>
                  </a:lnTo>
                  <a:close/>
                  <a:moveTo>
                    <a:pt x="2100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6"/>
            <p:cNvSpPr/>
            <p:nvPr/>
          </p:nvSpPr>
          <p:spPr>
            <a:xfrm>
              <a:off x="3264840" y="5334120"/>
              <a:ext cx="555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892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CR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HG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7"/>
          <p:cNvGrpSpPr/>
          <p:nvPr/>
        </p:nvGrpSpPr>
        <p:grpSpPr>
          <a:xfrm>
            <a:off x="6737400" y="4952880"/>
            <a:ext cx="1001520" cy="609480"/>
            <a:chOff x="6737400" y="4952880"/>
            <a:chExt cx="1001520" cy="609480"/>
          </a:xfrm>
        </p:grpSpPr>
        <p:sp>
          <p:nvSpPr>
            <p:cNvPr id="548" name="AutoShape 28"/>
            <p:cNvSpPr/>
            <p:nvPr/>
          </p:nvSpPr>
          <p:spPr>
            <a:xfrm>
              <a:off x="6780240" y="4952880"/>
              <a:ext cx="91440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9"/>
            <p:cNvSpPr/>
            <p:nvPr/>
          </p:nvSpPr>
          <p:spPr>
            <a:xfrm>
              <a:off x="6737400" y="5028840"/>
              <a:ext cx="100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LC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Atb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valuar ingre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Line 30"/>
          <p:cNvSpPr/>
          <p:nvPr/>
        </p:nvSpPr>
        <p:spPr>
          <a:xfrm>
            <a:off x="1447920" y="3581280"/>
            <a:ext cx="1440" cy="152640"/>
          </a:xfrm>
          <a:prstGeom prst="line">
            <a:avLst/>
          </a:prstGeom>
          <a:ln w="3816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1447920" y="4495680"/>
            <a:ext cx="1440" cy="76320"/>
          </a:xfrm>
          <a:prstGeom prst="line">
            <a:avLst/>
          </a:prstGeom>
          <a:ln w="3816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2"/>
          <p:cNvSpPr/>
          <p:nvPr/>
        </p:nvSpPr>
        <p:spPr>
          <a:xfrm>
            <a:off x="1447920" y="5105520"/>
            <a:ext cx="144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33"/>
          <p:cNvCxnSpPr/>
          <p:nvPr/>
        </p:nvCxnSpPr>
        <p:spPr>
          <a:xfrm flipV="1">
            <a:off x="2268000" y="3644640"/>
            <a:ext cx="791640" cy="289440"/>
          </a:xfrm>
          <a:prstGeom prst="straightConnector1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</p:cxnSp>
      <p:sp>
        <p:nvSpPr>
          <p:cNvPr id="554" name="Line 34"/>
          <p:cNvSpPr/>
          <p:nvPr/>
        </p:nvSpPr>
        <p:spPr>
          <a:xfrm>
            <a:off x="3505320" y="3809880"/>
            <a:ext cx="1440" cy="304920"/>
          </a:xfrm>
          <a:prstGeom prst="line">
            <a:avLst/>
          </a:prstGeom>
          <a:ln w="3816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AutoShape 35"/>
          <p:cNvCxnSpPr/>
          <p:nvPr/>
        </p:nvCxnSpPr>
        <p:spPr>
          <a:xfrm>
            <a:off x="1979280" y="4941720"/>
            <a:ext cx="1152720" cy="432720"/>
          </a:xfrm>
          <a:prstGeom prst="straightConnector1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</p:cxnSp>
      <p:cxnSp>
        <p:nvCxnSpPr>
          <p:cNvPr id="556" name="AutoShape 36"/>
          <p:cNvCxnSpPr/>
          <p:nvPr/>
        </p:nvCxnSpPr>
        <p:spPr>
          <a:xfrm flipV="1">
            <a:off x="4066920" y="5373360"/>
            <a:ext cx="2592720" cy="72000"/>
          </a:xfrm>
          <a:prstGeom prst="straightConnector1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</p:cxnSp>
      <p:grpSp>
        <p:nvGrpSpPr>
          <p:cNvPr id="557" name="Group 37"/>
          <p:cNvGrpSpPr/>
          <p:nvPr/>
        </p:nvGrpSpPr>
        <p:grpSpPr>
          <a:xfrm>
            <a:off x="723240" y="5943600"/>
            <a:ext cx="1524240" cy="762120"/>
            <a:chOff x="723240" y="5943600"/>
            <a:chExt cx="1524240" cy="762120"/>
          </a:xfrm>
        </p:grpSpPr>
        <p:sp>
          <p:nvSpPr>
            <p:cNvPr id="558" name="Rectangle 38"/>
            <p:cNvSpPr/>
            <p:nvPr/>
          </p:nvSpPr>
          <p:spPr>
            <a:xfrm>
              <a:off x="836640" y="5943600"/>
              <a:ext cx="1295280" cy="762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"/>
            <p:cNvSpPr/>
            <p:nvPr/>
          </p:nvSpPr>
          <p:spPr>
            <a:xfrm>
              <a:off x="723240" y="601992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stado general afec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LC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Ingreso a observ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Valorar atb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Line 40"/>
          <p:cNvSpPr/>
          <p:nvPr/>
        </p:nvSpPr>
        <p:spPr>
          <a:xfrm>
            <a:off x="1447920" y="5791320"/>
            <a:ext cx="1440" cy="7596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7086600" y="2743200"/>
            <a:ext cx="1440" cy="30492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42"/>
          <p:cNvSpPr/>
          <p:nvPr/>
        </p:nvSpPr>
        <p:spPr>
          <a:xfrm flipH="1">
            <a:off x="1905120" y="2057400"/>
            <a:ext cx="1676160" cy="38088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43"/>
          <p:cNvSpPr/>
          <p:nvPr/>
        </p:nvSpPr>
        <p:spPr>
          <a:xfrm>
            <a:off x="5486400" y="2057400"/>
            <a:ext cx="1447920" cy="38088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4360" y="1976400"/>
            <a:ext cx="7997760" cy="4881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Medidas general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porte extra de líqui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Ropa adecu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Ventilación de la habit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700280"/>
            <a:ext cx="256068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4360" y="1976400"/>
            <a:ext cx="7997760" cy="4881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Solo administrar antitérmicos  en caso 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alta ( &gt; 39 °c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Riesgo de convulsión febr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Niño con molesti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descompensa o altera la condición basal (ICC, anemi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5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Que medicamentos utiliza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8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AINE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Bloquean producción PGE2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(IBUPROFENO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tipirét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algés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tiinflamatori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Dosis: 5 – 10 mg/kg/dosis cada  8 hor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8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ACETAMINOFENO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Inhibe  acción de pirógenos endógenos en centro termorregulador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(PARACETAMO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tipirét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algés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28600" y="213336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vitar el uso 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Fricciones con alcohol .....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Hipoglicemia, intoxic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Baños con agua fria ......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vasoconstricción y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↑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 temp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spirina ......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Síndrome de Reyé, broncoconstricción, hemorrag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2789280" cy="241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CASO CLÍNICO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23b0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Acude al servicio de urgencias paciente de 15 dias de edad quien presenta cuadro desde hoy con fiebre de 38°c  y rinorrea serosa. Buen aspecto. EF es negativ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oque diagnósti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Conduc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GENERALIDAD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50920" y="2420640"/>
            <a:ext cx="7889760" cy="44370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EMPERATURA NORMAL: 36.8 c +/- 0.4 ° oral y axilar. La temp. rectal es 0.6 c  may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VARIACIÓN DE LA TEMPERATURA EN 24 HOR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Bold"/>
              </a:rPr>
              <a:t>Temperatura más baja : en la mañana temprano (02:00-04:00 hrs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Bold"/>
              </a:rPr>
              <a:t>Temperatura más alta: en la tarde (16:00-18:00 hrs.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6661080" y="189000"/>
            <a:ext cx="2239920" cy="24480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4344840" y="6388200"/>
            <a:ext cx="45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1F8F-DD51-4A7F-AFB6-826DE6547AE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CASO CLÍNICO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Paciente de 10 meses de edad con cuadro de 1 día de evolución con fiebre 39 °c. Se alimenta adecuadamente. No otra sintomatología. Buen aspect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oque diagnósti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Conduc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CASO CLÍNICO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Paciente de 3 años de edad con cuadro de 2 días de evolución con fiebre 38.5 ºc.  FC 170/ min  PA 90/45. Llene capilar 4-5 se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oque diagnósti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Conduc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2398680" cy="32763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295280" y="5562720"/>
            <a:ext cx="229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Oral: hasta 37.8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5486400" y="4724280"/>
            <a:ext cx="229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Rectal: hasta 38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486400" y="5486400"/>
            <a:ext cx="229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Axilar: hasta 37.8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6706440" y="2251080"/>
            <a:ext cx="190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Calibri Bold"/>
              </a:rPr>
              <a:t>NUEVOS MÉTODOS DE MEDICIÓN DE TEMPERATUR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6706440" y="2251080"/>
            <a:ext cx="190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1687680" cy="19051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"/>
          <p:cNvPicPr/>
          <p:nvPr/>
        </p:nvPicPr>
        <p:blipFill>
          <a:blip r:embed="rId3"/>
          <a:stretch/>
        </p:blipFill>
        <p:spPr>
          <a:xfrm>
            <a:off x="5672160" y="2362320"/>
            <a:ext cx="2671920" cy="3276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4496040" cy="1635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"/>
          <p:cNvPicPr/>
          <p:nvPr/>
        </p:nvPicPr>
        <p:blipFill>
          <a:blip r:embed="rId5"/>
          <a:stretch/>
        </p:blipFill>
        <p:spPr>
          <a:xfrm>
            <a:off x="826920" y="2421000"/>
            <a:ext cx="2089440" cy="2016000"/>
          </a:xfrm>
          <a:prstGeom prst="rect">
            <a:avLst/>
          </a:prstGeom>
          <a:ln w="0">
            <a:noFill/>
          </a:ln>
        </p:spPr>
      </p:pic>
      <p:sp>
        <p:nvSpPr>
          <p:cNvPr id="460" name="Line 10"/>
          <p:cNvSpPr/>
          <p:nvPr/>
        </p:nvSpPr>
        <p:spPr>
          <a:xfrm flipH="1">
            <a:off x="826920" y="2421000"/>
            <a:ext cx="2089440" cy="20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"/>
          <p:cNvSpPr/>
          <p:nvPr/>
        </p:nvSpPr>
        <p:spPr>
          <a:xfrm>
            <a:off x="826920" y="2421000"/>
            <a:ext cx="2089440" cy="20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2627280"/>
            <a:ext cx="5184720" cy="4230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FIEBRE EN NEUTROPENIA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Neutropenia: se refiere a disminución de neutrófilos (leve &lt;1.500, moderado entre 500 y 1.000, severa &lt;500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Fiebre: 38.3 c en una sola toma o 38º mantenidos en 1 hor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5286240" y="2637000"/>
            <a:ext cx="38577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FIEBR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levación de la tº corporal a valores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≥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 38 ° c  rect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HIPERPIREXIA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levación de la t°a valores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≥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 41 ° c debida a fieb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HIPERTERMIA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levación de la t° corporal sin que medien cambios en el set point  del centro termoregulador (alteración en el aporte, producción y/o  eliminación de calor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177840" y="190440"/>
            <a:ext cx="2541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AGUDA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emperatura &gt; 38 °c  de menos de 7 días de evolu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SIN FOCO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de &lt; 1 semana de evolución sin evidencia de foco claro en la anamnesis y exámen físic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PROLONGADA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 &gt; 7 o 14 días de evolu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DE ORIGEN DESCONOCIDO (FOD)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Proceso febril de al menos 14 días de duración con estudios de laboratorio de primera fa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I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Rodrigo Vásquez</dc:creator>
  <dc:description/>
  <cp:keywords/>
  <dc:language>en-US</dc:language>
  <cp:lastModifiedBy>Rodrigo Vásquez De Kartzow</cp:lastModifiedBy>
  <dcterms:modified xsi:type="dcterms:W3CDTF">2022-04-04T11:56:16Z</dcterms:modified>
  <cp:revision>16</cp:revision>
  <dc:subject/>
  <dc:title>SÍNDROME MENINGEO</dc:title>
</cp:coreProperties>
</file>