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E419-C762-4289-A2E7-A9C138D081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26A-0908-4574-A494-7B1D236AFF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DA94-C808-41E4-B5E2-A186DD60C1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504-5F56-4890-80D1-80A9BF1884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76D-9388-49AA-8B72-B176CDE465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B78-5C22-4DE6-878A-D39805F756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C27B-2AE2-407D-947E-5D1C77B9A9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B450-0F1E-45E7-B293-C502DB91D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220E-CE26-4670-8DD8-DC39573711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9E18-7F58-4F17-A86B-53A580CC1F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0D3-C592-4B59-A259-D6E58833FC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56A-320A-47C1-93CC-3F97325F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1D2-957E-4439-AE0A-856DCD6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111-1B48-47C6-A93B-394E7CCF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47E-0DB3-4E1A-ABCD-944604A8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B6E-2693-4652-9AE0-7F88B1F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CC4-4D05-4E23-9A16-6758A5D3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A2F-EE1F-42B7-9D47-3D7D8C6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B00-4C76-48D4-9BBB-B67A0D2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D77-DE69-4A76-9C40-35B5999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699-3943-46F9-98F9-0BE3D61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C50-90A0-4B53-B47A-1BA538F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9D0-B2A9-469A-A531-F7FA11A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7048-56F9-4A81-87E6-96A404FEC8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00280" y="998640"/>
          <a:ext cx="75438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4857480"/>
                  </a:xfrm>
                  <a:prstGeom prst="rect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Número de enfermedades conocidas, con herencia mendeli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mamá"/>
          <p:cNvPicPr/>
          <p:nvPr/>
        </p:nvPicPr>
        <p:blipFill>
          <a:blip r:embed="rId1"/>
          <a:stretch/>
        </p:blipFill>
        <p:spPr>
          <a:xfrm>
            <a:off x="179280" y="1401840"/>
            <a:ext cx="871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endell3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3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sp>
          <p:nvSpPr>
            <p:cNvPr id="57" name="AutoShape 84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85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59" name="Group 86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60" name="Rectangle 87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88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63" name="Rectangle 90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91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05" name="Rectangle 132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3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34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08" name="Rectangle 135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36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37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11" name="Rectangle 138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39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0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14" name="Rectangle 141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42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17" name="Rectangle 144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45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46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20" name="Rectangle 147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8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149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23" name="Rectangle 150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51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52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26" name="Rectangle 153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54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55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29" name="Rectangle 156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57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58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32" name="Rectangle 159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0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Rectangle 161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Oval 5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1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6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7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611280" y="1538280"/>
          <a:ext cx="78199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8280"/>
                    <a:ext cx="7819920" cy="4143240"/>
                  </a:xfrm>
                  <a:prstGeom prst="rect">
                    <a:avLst/>
                  </a:prstGeom>
                  <a:ln w="1015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611280" y="593640"/>
            <a:ext cx="7831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endel y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genealog2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9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0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0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6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1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2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3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4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5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6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8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9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80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2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3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4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5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6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7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8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9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0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1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2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3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4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5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6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8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9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0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1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2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Cristián Peñafiel</cp:lastModifiedBy>
  <dcterms:modified xsi:type="dcterms:W3CDTF">2010-10-03T18:45:59Z</dcterms:modified>
  <cp:revision>19</cp:revision>
  <dc:subject/>
  <dc:title>Presentación de PowerPoint</dc:title>
</cp:coreProperties>
</file>