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43F-7426-4F36-B757-89FBA334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412-3D5A-4803-9155-D08BA5D7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E2594-DA72-436A-8BE1-85CDEBA7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B9DCC-B71C-4A89-BAFE-22E2F744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3A6DA-13FE-4EB3-85EF-E519BBA6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D5A8B-DEF5-424C-93B3-C830657A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A4955-460A-430B-96D9-3323A556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A92A4-7C62-4B9E-A869-F8A4B166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8568C-3BA8-4637-9F79-BC7EA6F1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3CEE0-8988-4220-965A-ECAA838A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BDDA3-3658-4953-9731-82AAFFBB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B9385-A9DA-4F50-8A57-D0EA0E26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40A-B1A5-4DCE-ADE0-360843DE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97F38-5E94-4CEA-8A37-00985C5B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4081D-F3E1-4E1B-BF80-F79E6B7E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6B124-7DD1-456D-BE37-F3A2AA21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C8AFB-B7C4-4DD6-97C5-75E79C1A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99819-DEB3-4347-A9EA-AF70C092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D884B-861D-42DA-ACF9-3A73311A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BB749-0C99-431E-B78D-4254D2C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C4721-B8E7-4967-96E4-B00E4B6B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91DF9-2E30-4F54-BEB3-00B1B120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FFC93-78C8-4942-B923-671A5986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B65-E96C-4DD5-83E9-0C8D46E4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F6A2C-C3D3-428F-99CD-FC1CC03F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93A4E-1D88-4A1D-B8AB-501C880B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23AFD-029F-4153-86CA-83E5F262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CC739-15F7-44D0-960F-5DF682FD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495BE-DCF5-485F-9B38-78604F04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0184D-0435-4FB9-A60F-6B663077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78432-E3F2-44E0-A9E9-06C54EDB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E659A-0ADE-432C-9672-71DBFB16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D4264-F835-482A-8C07-721C3E6C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3EA26-580A-43A1-843E-1E3C1908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5612-804F-4EBC-8EB1-435E3841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30BBC-3CD8-4F4E-A344-C777024F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D3F5A-B4BA-4102-8B59-3A341AB6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86A1A-AD23-4729-A382-E7D68F47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07645-BFF9-4DBE-8248-BFFDBE01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7BA77-5D40-44D6-B4BE-8C6F1CCC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4245C-6C44-44A8-AECA-48A9A1E8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F91F6-703F-4C22-B7C1-54FECD87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3EC9A-549C-4A19-8462-0229FBA5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55F77-B581-4225-BE70-7CFC9F98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B1689-FDAD-4063-80E8-9D7DDD77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D919-B941-4AC9-B7B3-ABD46C9F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1B1F3-D011-4935-9EAF-BB019C8D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12DAC-5886-4497-9244-67EC04CF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A3577-F755-46B1-BA58-CE2C471B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71DD2-11DC-46FC-AB00-30B48EFD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30694-9148-4C14-A654-0193B9BF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DA3F-D6B8-4AFB-A0BC-93FC5345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3315-ED9B-48E8-AF74-59EB7A6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21FE-B3A7-4B55-87CF-924EB39F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122E-5E2F-4D18-8AA6-728B54A9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CC08-BAC3-4536-B879-1B811BB5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403-0D6F-4A58-94E4-E797E9CF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CE6A-E769-4BC2-A26E-DD17BB01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C8CB-33C6-47A9-AC85-33330DB6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083E-EC7E-4020-B294-6D46C085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7813-2309-4EE8-9748-199FB3A7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CD15-4D95-424F-8EC3-BF06A526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BDBC-74D4-41DB-9052-3162550B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883E-D8D7-421A-B9BE-0830721E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54EB-EC56-4560-991F-606D6B8C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C3A0-1AD6-48AD-B0A7-24C9513B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B89A-860B-4051-AFEB-8F0DA1F7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A51-F65A-4F2B-AAF3-C15D1155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DED0F-781D-4556-8079-88A6F587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F48D-87A3-4296-B701-7BCE8AB2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812C-A840-4463-A5E7-9EFBF629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9B641-5D63-45D6-B5F6-5B9C773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D1662-C339-41ED-9AC8-267EDCFC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61F7-10DC-482F-BC80-D37009BD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27DF-9978-44F2-B7B3-C304B880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CDCC-8810-49AD-9F6F-8D9B364A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FA0D-4152-4222-B5DC-EA3277D9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C2A9-4784-447B-BCAC-E5F1F18E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41E-FB34-4BC8-9401-DE5BDB0E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C75F2-9A3F-4EE0-A836-6B030772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3C903-C4F8-4977-AA62-0C408222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289DE-8EDB-4397-9541-5AA81377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BAD8-C82C-4E32-8CD4-920A890D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0E91-8D98-4A40-AACA-BE805ADD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00AD-579B-4421-A010-86B7C6E2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34DBD-F9BF-4076-8BFF-97D5EF16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BDC4-7868-47B2-9F3F-96ABBC02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5AC98-F632-476C-87CC-6CF2492C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A6B8B-AA58-4D8A-B091-7E08C2DC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C93-BCA0-40FD-8A5D-22A30BDB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FEF71-D904-485C-9AD3-7FFF9D91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5A1EA-6FB9-46FF-863F-D5297690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5763E-F0D1-46F5-B71A-5DE26343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728A4-10F3-4BD3-ABE1-7212AF13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DC05B-63D9-4653-920E-DD7A3D78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13DD2-730A-4039-A66A-3C5B6C6F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65B8C-E085-4B84-806B-4F89C0BD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B2587-0720-4BA5-95BB-033D9D1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5EBD6-268B-45D9-9F30-2B7DABE0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653F3-41FC-4910-8C06-C8431443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810-4360-4B4A-8C5C-06D8C39E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BDE5E-2135-4D97-BE12-90799196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E35AA-78F4-4178-AAE6-084618DD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82A5A-A383-43D5-BF50-D3AB18FD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630B4-CA4F-41BB-8200-D7693589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1EC89-2E1E-4546-9228-938E3F34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AF56F-DE4E-4B60-BA31-F21FA6EB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21D33-F8F4-40ED-AA97-DA37A833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58CF-EDDF-49ED-AAC9-4680CAFA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7F0E5-A546-4CA2-B846-499B230F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C724D-00CD-41F3-AD8C-147494F6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FDE-C03D-4277-99E9-BFCFD085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4DFC2-E0DE-4606-B1F2-E1BA096E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6FC9D-DBBC-49A9-A5D0-92E5C54A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E3B24-EE38-4EE4-8A19-7F35DAF7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58F8-8033-4CF0-B9CE-7C3E290F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9BC14-F8C7-4790-8B4B-5E3E3790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74BC1-6ECC-4483-816A-EBB6B5FE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D7CB7-960A-4859-940B-16E8FD0A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7FBCE-B92B-465E-AE77-3411ECC2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3AD77-2216-4CF2-B497-2E5A3287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D2295-8486-49DE-8C3F-04EAA95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4EF-6903-4CA1-97BF-BC5927CE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B4939-75AB-4E06-A652-8A7889A8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4A3F6-4ABD-417E-83CF-1CE4CDF4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71143-E2E1-4B62-BC7F-B23210BE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4E51A-CAE6-4D13-9041-A76478F6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A216B-BF74-450B-A4C6-A3526C56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091FF-907A-46A7-8459-09C44629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6C9F1-FD2C-46D6-B0D8-36BC7363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44E2F-37A9-4173-8626-6959EC85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7FE4F-C1FA-4170-A378-41631DCF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A0772-C0E6-420F-8073-0447E15F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564-659F-460E-98F4-41CA3011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EA7F8-2765-46C1-9918-5132830F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308C5-B755-42E4-9273-0AF3E838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037A3-CC5A-454B-BE0E-58654A28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A81EC-C914-4ABB-93D9-66A966D3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8BCDA-699A-4D7A-94D8-6B1D6033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9254F-4D6C-4A19-ACC3-83D7F631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F5007-0E82-4BBD-BFEC-3AFD50C6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91EE4-1D40-465B-9B42-60DFA560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32168-0493-4FF1-853B-137F75B4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AD15B-BCAF-4D55-849C-9AB9F22B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B8A6-3B49-469D-907C-4CD67FEF8E1D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45E1-1EF0-4CD4-81EC-E55485DA3916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59BC-06C8-47CF-AE94-361FBB86FDF4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0B51-CF43-4594-95AB-0358E380E25D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D598-989A-4591-8E31-1A038B41DBFC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8F92-8FCC-4172-A538-54226BECAF76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125A-0CDA-4692-B345-E597609779E1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533A-BFBF-4B3E-9A62-A63E7D0C5308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c8c3bc"/>
              </a:gs>
              <a:gs pos="100000">
                <a:srgbClr val="ada5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4033-C397-4598-AF8C-E81D51A7FF58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D75A-259B-4EF6-88C7-108EE37E97B3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42DC-60EC-41EE-9B54-4995E9480429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5FC3-4FD7-4975-8B54-5D0677303934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fed9a7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2F9F-03CA-4CD5-A18A-C4FB430ED790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E7A3-6A69-4C49-82DB-54272D2FDC08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F68B-9CD4-4FC6-9621-C1E7F97DB0F0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2142-13CC-45B9-97DB-D39BE3EB29E3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BCC8-6552-41FE-A857-B70526AC766D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CD4F-7DAF-40FE-910C-65DCC65FE026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5BD9-2848-4B41-AA05-61C04FA5E1B7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7AA2-9818-4D9A-8E11-9F78ADD1A236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B58E-7FF7-42A2-BAC4-8F2BB10FA523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D94E-76B8-4867-9DB7-BA874CA0AD51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EA45-A1F0-42AE-BC9E-31C1441B46F2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0AD0-AC8C-4F4B-AB68-C4E472791429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ASO CLÍNICO ENDODONCIA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Gill Sans MT"/>
            </a:endParaRPr>
          </a:p>
        </p:txBody>
      </p:sp>
      <p:grpSp>
        <p:nvGrpSpPr>
          <p:cNvPr id="580" name="Group 7"/>
          <p:cNvGrpSpPr/>
          <p:nvPr/>
        </p:nvGrpSpPr>
        <p:grpSpPr>
          <a:xfrm>
            <a:off x="395280" y="260280"/>
            <a:ext cx="772920" cy="1601640"/>
            <a:chOff x="395280" y="260280"/>
            <a:chExt cx="772920" cy="1601640"/>
          </a:xfrm>
        </p:grpSpPr>
        <p:sp>
          <p:nvSpPr>
            <p:cNvPr id="581" name="Freeform 8"/>
            <p:cNvSpPr/>
            <p:nvPr/>
          </p:nvSpPr>
          <p:spPr>
            <a:xfrm>
              <a:off x="620280" y="446760"/>
              <a:ext cx="326160" cy="2228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>
              <a:off x="716040" y="376560"/>
              <a:ext cx="129600" cy="37008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>
              <a:off x="713880" y="372600"/>
              <a:ext cx="133560" cy="3740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1"/>
            <p:cNvSpPr/>
            <p:nvPr/>
          </p:nvSpPr>
          <p:spPr>
            <a:xfrm>
              <a:off x="610560" y="445320"/>
              <a:ext cx="332280" cy="2307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2"/>
            <p:cNvSpPr/>
            <p:nvPr/>
          </p:nvSpPr>
          <p:spPr>
            <a:xfrm>
              <a:off x="582120" y="557640"/>
              <a:ext cx="404640" cy="360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3"/>
            <p:cNvSpPr/>
            <p:nvPr/>
          </p:nvSpPr>
          <p:spPr>
            <a:xfrm>
              <a:off x="780840" y="260280"/>
              <a:ext cx="1440" cy="5853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4"/>
            <p:cNvSpPr/>
            <p:nvPr/>
          </p:nvSpPr>
          <p:spPr>
            <a:xfrm>
              <a:off x="479160" y="460440"/>
              <a:ext cx="601200" cy="1886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5"/>
            <p:cNvSpPr/>
            <p:nvPr/>
          </p:nvSpPr>
          <p:spPr>
            <a:xfrm>
              <a:off x="591480" y="313560"/>
              <a:ext cx="410400" cy="5241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6"/>
            <p:cNvSpPr/>
            <p:nvPr/>
          </p:nvSpPr>
          <p:spPr>
            <a:xfrm>
              <a:off x="557280" y="315360"/>
              <a:ext cx="414000" cy="5223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7"/>
            <p:cNvSpPr/>
            <p:nvPr/>
          </p:nvSpPr>
          <p:spPr>
            <a:xfrm>
              <a:off x="475200" y="465840"/>
              <a:ext cx="607320" cy="18108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18"/>
            <p:cNvSpPr/>
            <p:nvPr/>
          </p:nvSpPr>
          <p:spPr>
            <a:xfrm flipV="1">
              <a:off x="395280" y="833760"/>
              <a:ext cx="385560" cy="493560"/>
            </a:xfrm>
            <a:prstGeom prst="rect">
              <a:avLst/>
            </a:prstGeom>
            <a:solidFill>
              <a:srgbClr val="008000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19"/>
            <p:cNvSpPr/>
            <p:nvPr/>
          </p:nvSpPr>
          <p:spPr>
            <a:xfrm flipV="1">
              <a:off x="780840" y="833760"/>
              <a:ext cx="385560" cy="493560"/>
            </a:xfrm>
            <a:prstGeom prst="rect">
              <a:avLst/>
            </a:prstGeom>
            <a:solidFill>
              <a:srgbClr val="ff8000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0"/>
            <p:cNvSpPr/>
            <p:nvPr/>
          </p:nvSpPr>
          <p:spPr>
            <a:xfrm>
              <a:off x="395280" y="1328400"/>
              <a:ext cx="387360" cy="531720"/>
            </a:xfrm>
            <a:prstGeom prst="pie">
              <a:avLst/>
            </a:prstGeom>
            <a:solidFill>
              <a:srgbClr val="ff0000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21"/>
            <p:cNvSpPr/>
            <p:nvPr/>
          </p:nvSpPr>
          <p:spPr>
            <a:xfrm>
              <a:off x="780840" y="1328400"/>
              <a:ext cx="387360" cy="533520"/>
            </a:xfrm>
            <a:prstGeom prst="pie">
              <a:avLst/>
            </a:prstGeom>
            <a:solidFill>
              <a:srgbClr val="0000ff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Group 22"/>
            <p:cNvGrpSpPr/>
            <p:nvPr/>
          </p:nvGrpSpPr>
          <p:grpSpPr>
            <a:xfrm>
              <a:off x="840240" y="902880"/>
              <a:ext cx="266400" cy="390600"/>
              <a:chOff x="840240" y="902880"/>
              <a:chExt cx="266400" cy="390600"/>
            </a:xfrm>
          </p:grpSpPr>
          <p:sp>
            <p:nvSpPr>
              <p:cNvPr id="596" name="Freeform 23"/>
              <p:cNvSpPr/>
              <p:nvPr/>
            </p:nvSpPr>
            <p:spPr>
              <a:xfrm>
                <a:off x="1000080" y="1156680"/>
                <a:ext cx="78120" cy="13680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>
                <a:off x="840240" y="902880"/>
                <a:ext cx="266400" cy="38664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>
                <a:off x="894960" y="937440"/>
                <a:ext cx="102960" cy="16776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Oval 26"/>
              <p:cNvSpPr/>
              <p:nvPr/>
            </p:nvSpPr>
            <p:spPr>
              <a:xfrm flipV="1">
                <a:off x="946440" y="957240"/>
                <a:ext cx="5760" cy="7560"/>
              </a:xfrm>
              <a:prstGeom prst="ellips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>
                <a:off x="948600" y="1087920"/>
                <a:ext cx="81360" cy="6480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Oval 28"/>
            <p:cNvSpPr/>
            <p:nvPr/>
          </p:nvSpPr>
          <p:spPr>
            <a:xfrm flipV="1">
              <a:off x="563040" y="1519920"/>
              <a:ext cx="148680" cy="148680"/>
            </a:xfrm>
            <a:prstGeom prst="ellipse">
              <a:avLst/>
            </a:prstGeom>
            <a:solidFill>
              <a:srgbClr val="0080ff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29"/>
            <p:cNvSpPr/>
            <p:nvPr/>
          </p:nvSpPr>
          <p:spPr>
            <a:xfrm>
              <a:off x="574920" y="1520640"/>
              <a:ext cx="89280" cy="14688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30"/>
            <p:cNvSpPr/>
            <p:nvPr/>
          </p:nvSpPr>
          <p:spPr>
            <a:xfrm>
              <a:off x="675720" y="1553400"/>
              <a:ext cx="37800" cy="7812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31"/>
            <p:cNvSpPr/>
            <p:nvPr/>
          </p:nvSpPr>
          <p:spPr>
            <a:xfrm>
              <a:off x="475200" y="1589400"/>
              <a:ext cx="74160" cy="83880"/>
            </a:xfrm>
            <a:prstGeom prst="pie">
              <a:avLst/>
            </a:prstGeom>
            <a:solidFill>
              <a:srgbClr val="dfa659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32"/>
            <p:cNvSpPr/>
            <p:nvPr/>
          </p:nvSpPr>
          <p:spPr>
            <a:xfrm flipV="1">
              <a:off x="498240" y="1590480"/>
              <a:ext cx="22680" cy="22680"/>
            </a:xfrm>
            <a:prstGeom prst="ellipse">
              <a:avLst/>
            </a:prstGeom>
            <a:noFill/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33"/>
            <p:cNvSpPr/>
            <p:nvPr/>
          </p:nvSpPr>
          <p:spPr>
            <a:xfrm>
              <a:off x="488520" y="1435320"/>
              <a:ext cx="63000" cy="1616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34"/>
            <p:cNvSpPr/>
            <p:nvPr/>
          </p:nvSpPr>
          <p:spPr>
            <a:xfrm>
              <a:off x="490680" y="1438560"/>
              <a:ext cx="68400" cy="1357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35"/>
            <p:cNvSpPr/>
            <p:nvPr/>
          </p:nvSpPr>
          <p:spPr>
            <a:xfrm>
              <a:off x="492480" y="1435320"/>
              <a:ext cx="75960" cy="1162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36"/>
            <p:cNvSpPr/>
            <p:nvPr/>
          </p:nvSpPr>
          <p:spPr>
            <a:xfrm>
              <a:off x="498240" y="1438560"/>
              <a:ext cx="87840" cy="932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37"/>
            <p:cNvSpPr/>
            <p:nvPr/>
          </p:nvSpPr>
          <p:spPr>
            <a:xfrm>
              <a:off x="502200" y="1438560"/>
              <a:ext cx="105120" cy="820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38"/>
            <p:cNvSpPr/>
            <p:nvPr/>
          </p:nvSpPr>
          <p:spPr>
            <a:xfrm>
              <a:off x="505800" y="1423440"/>
              <a:ext cx="122040" cy="892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39"/>
            <p:cNvSpPr/>
            <p:nvPr/>
          </p:nvSpPr>
          <p:spPr>
            <a:xfrm>
              <a:off x="456120" y="1385280"/>
              <a:ext cx="66960" cy="6264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40"/>
            <p:cNvSpPr/>
            <p:nvPr/>
          </p:nvSpPr>
          <p:spPr>
            <a:xfrm>
              <a:off x="465840" y="1669680"/>
              <a:ext cx="244440" cy="95040"/>
            </a:xfrm>
            <a:prstGeom prst="pie">
              <a:avLst/>
            </a:prstGeom>
            <a:solidFill>
              <a:srgbClr val="ffffff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41"/>
            <p:cNvSpPr/>
            <p:nvPr/>
          </p:nvSpPr>
          <p:spPr>
            <a:xfrm>
              <a:off x="941040" y="1419480"/>
              <a:ext cx="72720" cy="97200"/>
            </a:xfrm>
            <a:prstGeom prst="pie">
              <a:avLst/>
            </a:pr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42"/>
            <p:cNvSpPr/>
            <p:nvPr/>
          </p:nvSpPr>
          <p:spPr>
            <a:xfrm>
              <a:off x="822960" y="1595160"/>
              <a:ext cx="301680" cy="162000"/>
            </a:xfrm>
            <a:prstGeom prst="pi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43"/>
            <p:cNvSpPr/>
            <p:nvPr/>
          </p:nvSpPr>
          <p:spPr>
            <a:xfrm>
              <a:off x="838080" y="1652400"/>
              <a:ext cx="257400" cy="511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44"/>
            <p:cNvSpPr/>
            <p:nvPr/>
          </p:nvSpPr>
          <p:spPr>
            <a:xfrm>
              <a:off x="1034640" y="1622160"/>
              <a:ext cx="57240" cy="817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45"/>
            <p:cNvSpPr/>
            <p:nvPr/>
          </p:nvSpPr>
          <p:spPr>
            <a:xfrm>
              <a:off x="1044000" y="1656000"/>
              <a:ext cx="60840" cy="9900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46"/>
            <p:cNvSpPr/>
            <p:nvPr/>
          </p:nvSpPr>
          <p:spPr>
            <a:xfrm>
              <a:off x="870480" y="1688760"/>
              <a:ext cx="7560" cy="266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47"/>
            <p:cNvSpPr/>
            <p:nvPr/>
          </p:nvSpPr>
          <p:spPr>
            <a:xfrm>
              <a:off x="879840" y="1650600"/>
              <a:ext cx="5400" cy="266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48"/>
            <p:cNvSpPr/>
            <p:nvPr/>
          </p:nvSpPr>
          <p:spPr>
            <a:xfrm>
              <a:off x="910800" y="1654560"/>
              <a:ext cx="3600" cy="2628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49"/>
            <p:cNvSpPr/>
            <p:nvPr/>
          </p:nvSpPr>
          <p:spPr>
            <a:xfrm>
              <a:off x="962280" y="1661760"/>
              <a:ext cx="3600" cy="2880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50"/>
            <p:cNvSpPr/>
            <p:nvPr/>
          </p:nvSpPr>
          <p:spPr>
            <a:xfrm>
              <a:off x="992520" y="1671480"/>
              <a:ext cx="3600" cy="248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51"/>
            <p:cNvSpPr/>
            <p:nvPr/>
          </p:nvSpPr>
          <p:spPr>
            <a:xfrm>
              <a:off x="898920" y="1694160"/>
              <a:ext cx="3600" cy="284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52"/>
            <p:cNvSpPr/>
            <p:nvPr/>
          </p:nvSpPr>
          <p:spPr>
            <a:xfrm>
              <a:off x="950400" y="1706040"/>
              <a:ext cx="3600" cy="284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53"/>
            <p:cNvSpPr/>
            <p:nvPr/>
          </p:nvSpPr>
          <p:spPr>
            <a:xfrm>
              <a:off x="981360" y="1715400"/>
              <a:ext cx="3600" cy="2448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54"/>
            <p:cNvSpPr/>
            <p:nvPr/>
          </p:nvSpPr>
          <p:spPr>
            <a:xfrm>
              <a:off x="1082520" y="1629360"/>
              <a:ext cx="3240" cy="3240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55"/>
            <p:cNvSpPr/>
            <p:nvPr/>
          </p:nvSpPr>
          <p:spPr>
            <a:xfrm>
              <a:off x="1101600" y="1659960"/>
              <a:ext cx="1440" cy="417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56"/>
            <p:cNvSpPr/>
            <p:nvPr/>
          </p:nvSpPr>
          <p:spPr>
            <a:xfrm>
              <a:off x="868680" y="1492200"/>
              <a:ext cx="198000" cy="1429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57"/>
            <p:cNvSpPr/>
            <p:nvPr/>
          </p:nvSpPr>
          <p:spPr>
            <a:xfrm>
              <a:off x="882000" y="1511280"/>
              <a:ext cx="1440" cy="1238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58"/>
            <p:cNvSpPr/>
            <p:nvPr/>
          </p:nvSpPr>
          <p:spPr>
            <a:xfrm>
              <a:off x="1046160" y="1509480"/>
              <a:ext cx="1440" cy="1234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59"/>
            <p:cNvSpPr/>
            <p:nvPr/>
          </p:nvSpPr>
          <p:spPr>
            <a:xfrm>
              <a:off x="882000" y="1616400"/>
              <a:ext cx="83880" cy="165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60"/>
            <p:cNvSpPr/>
            <p:nvPr/>
          </p:nvSpPr>
          <p:spPr>
            <a:xfrm>
              <a:off x="964080" y="1616400"/>
              <a:ext cx="83880" cy="165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61"/>
            <p:cNvSpPr/>
            <p:nvPr/>
          </p:nvSpPr>
          <p:spPr>
            <a:xfrm>
              <a:off x="964080" y="1501920"/>
              <a:ext cx="2160" cy="1256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Group 62"/>
            <p:cNvGrpSpPr/>
            <p:nvPr/>
          </p:nvGrpSpPr>
          <p:grpSpPr>
            <a:xfrm>
              <a:off x="898920" y="1507320"/>
              <a:ext cx="54720" cy="109800"/>
              <a:chOff x="898920" y="1507320"/>
              <a:chExt cx="54720" cy="109800"/>
            </a:xfrm>
          </p:grpSpPr>
          <p:sp>
            <p:nvSpPr>
              <p:cNvPr id="636" name="Freeform 63"/>
              <p:cNvSpPr/>
              <p:nvPr/>
            </p:nvSpPr>
            <p:spPr>
              <a:xfrm>
                <a:off x="898920" y="15073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>
                <a:off x="898920" y="1518840"/>
                <a:ext cx="54720" cy="1260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>
                <a:off x="898920" y="152820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>
                <a:off x="898920" y="15393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>
                <a:off x="898920" y="15490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>
                <a:off x="898920" y="156060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>
                <a:off x="898920" y="15699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>
                <a:off x="898920" y="15814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>
                <a:off x="898920" y="159084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>
                <a:off x="898920" y="16023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73"/>
            <p:cNvGrpSpPr/>
            <p:nvPr/>
          </p:nvGrpSpPr>
          <p:grpSpPr>
            <a:xfrm>
              <a:off x="983160" y="1507320"/>
              <a:ext cx="54720" cy="108360"/>
              <a:chOff x="983160" y="1507320"/>
              <a:chExt cx="54720" cy="108360"/>
            </a:xfrm>
          </p:grpSpPr>
          <p:sp>
            <p:nvSpPr>
              <p:cNvPr id="647" name="Freeform 74"/>
              <p:cNvSpPr/>
              <p:nvPr/>
            </p:nvSpPr>
            <p:spPr>
              <a:xfrm>
                <a:off x="983160" y="15073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>
                <a:off x="983160" y="1518840"/>
                <a:ext cx="54720" cy="1260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>
                <a:off x="983160" y="152820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>
                <a:off x="983160" y="15379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>
                <a:off x="983160" y="15490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>
                <a:off x="983160" y="156060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>
                <a:off x="983160" y="15699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>
                <a:off x="983160" y="158112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>
                <a:off x="983160" y="159084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>
                <a:off x="983160" y="160236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84"/>
            <p:cNvGrpSpPr/>
            <p:nvPr/>
          </p:nvGrpSpPr>
          <p:grpSpPr>
            <a:xfrm>
              <a:off x="461880" y="889200"/>
              <a:ext cx="272520" cy="369360"/>
              <a:chOff x="461880" y="889200"/>
              <a:chExt cx="272520" cy="369360"/>
            </a:xfrm>
          </p:grpSpPr>
          <p:sp>
            <p:nvSpPr>
              <p:cNvPr id="658" name="Rectangle 85"/>
              <p:cNvSpPr/>
              <p:nvPr/>
            </p:nvSpPr>
            <p:spPr>
              <a:xfrm flipV="1">
                <a:off x="503640" y="934920"/>
                <a:ext cx="192600" cy="1152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>
                <a:off x="583920" y="889200"/>
                <a:ext cx="30240" cy="27252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>
                <a:off x="461880" y="1051200"/>
                <a:ext cx="80280" cy="4176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>
                <a:off x="654480" y="1051200"/>
                <a:ext cx="79920" cy="4392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89"/>
              <p:cNvSpPr/>
              <p:nvPr/>
            </p:nvSpPr>
            <p:spPr>
              <a:xfrm flipV="1">
                <a:off x="555120" y="1157760"/>
                <a:ext cx="87480" cy="2088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90"/>
              <p:cNvSpPr/>
              <p:nvPr/>
            </p:nvSpPr>
            <p:spPr>
              <a:xfrm flipV="1">
                <a:off x="585720" y="1178280"/>
                <a:ext cx="28440" cy="4572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>
                <a:off x="568440" y="1224720"/>
                <a:ext cx="60840" cy="3384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Freeform 92"/>
            <p:cNvSpPr/>
            <p:nvPr/>
          </p:nvSpPr>
          <p:spPr>
            <a:xfrm>
              <a:off x="461880" y="937440"/>
              <a:ext cx="82080" cy="1162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93"/>
            <p:cNvSpPr/>
            <p:nvPr/>
          </p:nvSpPr>
          <p:spPr>
            <a:xfrm>
              <a:off x="654840" y="939240"/>
              <a:ext cx="78120" cy="1144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Group 94"/>
            <p:cNvGrpSpPr/>
            <p:nvPr/>
          </p:nvGrpSpPr>
          <p:grpSpPr>
            <a:xfrm>
              <a:off x="658800" y="1202400"/>
              <a:ext cx="243360" cy="252360"/>
              <a:chOff x="658800" y="1202400"/>
              <a:chExt cx="243360" cy="252360"/>
            </a:xfrm>
          </p:grpSpPr>
          <p:sp>
            <p:nvSpPr>
              <p:cNvPr id="668" name="Oval 95"/>
              <p:cNvSpPr/>
              <p:nvPr/>
            </p:nvSpPr>
            <p:spPr>
              <a:xfrm flipV="1">
                <a:off x="671760" y="1218960"/>
                <a:ext cx="219600" cy="22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9" name="Group 96"/>
              <p:cNvGrpSpPr/>
              <p:nvPr/>
            </p:nvGrpSpPr>
            <p:grpSpPr>
              <a:xfrm>
                <a:off x="658800" y="1202400"/>
                <a:ext cx="243360" cy="252360"/>
                <a:chOff x="658800" y="1202400"/>
                <a:chExt cx="243360" cy="252360"/>
              </a:xfrm>
            </p:grpSpPr>
            <p:sp>
              <p:nvSpPr>
                <p:cNvPr id="670" name="Freeform 97"/>
                <p:cNvSpPr/>
                <p:nvPr/>
              </p:nvSpPr>
              <p:spPr>
                <a:xfrm>
                  <a:off x="658800" y="1202400"/>
                  <a:ext cx="243360" cy="252360"/>
                </a:xfrm>
                <a:prstGeom prst="pi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Oval 98"/>
                <p:cNvSpPr/>
                <p:nvPr/>
              </p:nvSpPr>
              <p:spPr>
                <a:xfrm flipV="1">
                  <a:off x="784440" y="1211040"/>
                  <a:ext cx="7200" cy="5400"/>
                </a:xfrm>
                <a:prstGeom prst="ellips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99"/>
                <p:cNvSpPr/>
                <p:nvPr/>
              </p:nvSpPr>
              <p:spPr>
                <a:xfrm>
                  <a:off x="692640" y="1234440"/>
                  <a:ext cx="178560" cy="147960"/>
                </a:xfrm>
                <a:prstGeom prst="pi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00"/>
                <p:cNvSpPr/>
                <p:nvPr/>
              </p:nvSpPr>
              <p:spPr>
                <a:xfrm>
                  <a:off x="726840" y="1306440"/>
                  <a:ext cx="112680" cy="2268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01"/>
                <p:cNvSpPr/>
                <p:nvPr/>
              </p:nvSpPr>
              <p:spPr>
                <a:xfrm>
                  <a:off x="726840" y="1327680"/>
                  <a:ext cx="112680" cy="3204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02"/>
                <p:cNvSpPr/>
                <p:nvPr/>
              </p:nvSpPr>
              <p:spPr>
                <a:xfrm>
                  <a:off x="759240" y="1310400"/>
                  <a:ext cx="13320" cy="471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03"/>
                <p:cNvSpPr/>
                <p:nvPr/>
              </p:nvSpPr>
              <p:spPr>
                <a:xfrm>
                  <a:off x="768960" y="1353960"/>
                  <a:ext cx="32400" cy="57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04"/>
                <p:cNvSpPr/>
                <p:nvPr/>
              </p:nvSpPr>
              <p:spPr>
                <a:xfrm>
                  <a:off x="797760" y="1310400"/>
                  <a:ext cx="11160" cy="453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Oval 105"/>
                <p:cNvSpPr/>
                <p:nvPr/>
              </p:nvSpPr>
              <p:spPr>
                <a:xfrm flipV="1">
                  <a:off x="778320" y="1326960"/>
                  <a:ext cx="5760" cy="3240"/>
                </a:xfrm>
                <a:prstGeom prst="ellips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9" name="Freeform 106"/>
            <p:cNvSpPr/>
            <p:nvPr/>
          </p:nvSpPr>
          <p:spPr>
            <a:xfrm>
              <a:off x="662040" y="428040"/>
              <a:ext cx="240480" cy="23256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CuadroTexto 105"/>
          <p:cNvSpPr/>
          <p:nvPr/>
        </p:nvSpPr>
        <p:spPr>
          <a:xfrm>
            <a:off x="1175040" y="83808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ill Sans MT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ill Sans MT"/>
              </a:rPr>
              <a:t>Facultad de Odontolo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1" name="106 Grupo"/>
          <p:cNvGrpSpPr/>
          <p:nvPr/>
        </p:nvGrpSpPr>
        <p:grpSpPr>
          <a:xfrm>
            <a:off x="468360" y="3068640"/>
            <a:ext cx="3311640" cy="2211480"/>
            <a:chOff x="468360" y="3068640"/>
            <a:chExt cx="3311640" cy="2211480"/>
          </a:xfrm>
        </p:grpSpPr>
        <p:sp>
          <p:nvSpPr>
            <p:cNvPr id="682" name="105 Elipse"/>
            <p:cNvSpPr/>
            <p:nvPr/>
          </p:nvSpPr>
          <p:spPr>
            <a:xfrm>
              <a:off x="2556000" y="4581360"/>
              <a:ext cx="503640" cy="360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3" name="Picture 2" descr="http://www.clinicadentalmahfoud.com/wp-content/uploads/2010/12/Endodoncia-21.jpg"/>
            <p:cNvPicPr/>
            <p:nvPr/>
          </p:nvPicPr>
          <p:blipFill>
            <a:blip r:embed="rId2"/>
            <a:stretch/>
          </p:blipFill>
          <p:spPr>
            <a:xfrm>
              <a:off x="468360" y="3068640"/>
              <a:ext cx="3311640" cy="221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TRATAMIENT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28760" y="9284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Necropulpectomía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Técnica de Instrumentación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Técnica Corono-Apical Universidad de Chile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metría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AD: 16mm (se restaron 3mm a la LAD de la Rx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Inicial debido al seccionamiento coronario realizad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previo a la cavidad de acceso)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RI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 vestibular (lima 20) : 16,5 m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 palatino (lima 25): 15,5 m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ferencias: pared V y P respectivament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RD:  X = 1mm en ambo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T: Equivalentes a las LRI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2" name="3 Imagen" descr="SAM_0439.JPG"/>
          <p:cNvPicPr/>
          <p:nvPr/>
        </p:nvPicPr>
        <p:blipFill>
          <a:blip r:embed="rId2"/>
          <a:srcRect l="38283" t="27087" r="38283" b="7291"/>
          <a:stretch/>
        </p:blipFill>
        <p:spPr>
          <a:xfrm>
            <a:off x="6000840" y="1428840"/>
            <a:ext cx="2143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NSTRUMENTACIÓ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9280" y="155088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Irrigación: Hipoclorito de Sodio 5,25%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Preflare: Lima #10 hasta #20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rown Down: Gates 1-2-1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ima Maestra: Instrumentar con Lima #30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ima Pasaje:  #8 para limpiar conducto cementario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avado con EDTA por 30 segundos para remover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el barro dentinario (mejor penetracion CaOH)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Medicar una semana con Hidróxido de Calci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tirar medicación (con irrigación abundante y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 limas 1 a 2 números menores a lima maestra)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e Instrumentar hasta Lima #35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Step Back: llegar hasta Lima #50 (Diámetro Gates #1)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capitulación constante con Lima Maestr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5" name="Picture 7" descr="http://1.bp.blogspot.com/_UUEdEiseN2M/TH3N4P11hYI/AAAAAAAAACw/_miyrH5_aHQ/s200/endodoncia.jpg"/>
          <p:cNvPicPr/>
          <p:nvPr/>
        </p:nvPicPr>
        <p:blipFill>
          <a:blip r:embed="rId2"/>
          <a:stretch/>
        </p:blipFill>
        <p:spPr>
          <a:xfrm>
            <a:off x="6035760" y="1494000"/>
            <a:ext cx="27795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395280" y="1341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6000"/>
          </a:bodyPr>
          <a:p>
            <a:pPr marL="26064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Hipoclorito de sodio al 5,25%: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Tiene un rango de actividad contra bacterias Gram + y Gram –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s el irrigante  endodóntico con mayor efecto anti fúngic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s único irrigante endodóntico capas de destruir efectivamente el biofilm microbiano dentro del SCR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Agente proteolítico no especific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xcelente disolvente de tejidos orgánicos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Rápida acción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Lubricante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Combinar con Clorhexidina al 2%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Debido a la posibilidad de M.O. resistentes, tales como E. Faecalis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Se debe irrigar por lo menos 3 jeringas de suero para lavar el hipoclorito antes de irrigar con clorhexidina.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es-CL" sz="1400" spc="-1" strike="noStrike">
                <a:solidFill>
                  <a:srgbClr val="000000"/>
                </a:solidFill>
                <a:latin typeface="Gill Sans MT"/>
              </a:rPr>
              <a:t>Zahed Mohammadi.; Sodium Hypochorite in endodontics: an update review; international dental journal(2008) 58, 329-34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ill Sans MT"/>
              </a:rPr>
              <a:t>IRRIGACIÓN DE SISTEMA DE                     CONDUCTOS RADICULARES (SRC)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8" name="Picture 2" descr="http://www.dentalartigas.exactpages.com/FOTOS/farmadental/HIPOCLORITO%20DE%20SODIO.jpg"/>
          <p:cNvPicPr/>
          <p:nvPr/>
        </p:nvPicPr>
        <p:blipFill>
          <a:blip r:embed="rId2"/>
          <a:stretch/>
        </p:blipFill>
        <p:spPr>
          <a:xfrm>
            <a:off x="6791400" y="328680"/>
            <a:ext cx="2127240" cy="3146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http://t2.gstatic.com/images?q=tbn:ANd9GcTH6PeHwdyzMhentRQTlZgPtl5qUxdK8UsyOF1kMKk5yFMOI8Cf"/>
          <p:cNvPicPr/>
          <p:nvPr/>
        </p:nvPicPr>
        <p:blipFill>
          <a:blip r:embed="rId3"/>
          <a:stretch/>
        </p:blipFill>
        <p:spPr>
          <a:xfrm>
            <a:off x="6443640" y="3024360"/>
            <a:ext cx="2316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ill Sans MT"/>
              </a:rPr>
              <a:t>¿POR QUÉ LIMA MAESTRA #35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53468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da023"/>
                </a:solidFill>
                <a:latin typeface="Gill Sans MT"/>
              </a:rPr>
              <a:t>Anatomí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00600" y="153468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Gill Sans MT"/>
              </a:rPr>
              <a:t>Patología de la piez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2209320"/>
            <a:ext cx="365760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800600" y="220968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ieza presenta lesión apica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          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Necropulpectom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cxnSp>
        <p:nvCxnSpPr>
          <p:cNvPr id="735" name="9 Conector recto de flecha"/>
          <p:cNvCxnSpPr/>
          <p:nvPr/>
        </p:nvCxnSpPr>
        <p:spPr>
          <a:xfrm>
            <a:off x="6443280" y="2997000"/>
            <a:ext cx="1080" cy="432360"/>
          </a:xfrm>
          <a:prstGeom prst="straightConnector1">
            <a:avLst/>
          </a:prstGeom>
          <a:ln w="15840">
            <a:solidFill>
              <a:srgbClr val="71685c"/>
            </a:solidFill>
            <a:miter/>
            <a:tailEnd len="med" type="arrow" w="med"/>
          </a:ln>
        </p:spPr>
      </p:cxnSp>
      <p:sp>
        <p:nvSpPr>
          <p:cNvPr id="736" name="10 CuadroTexto"/>
          <p:cNvSpPr/>
          <p:nvPr/>
        </p:nvSpPr>
        <p:spPr>
          <a:xfrm>
            <a:off x="1042920" y="234936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Radiográficamente, el canal el tercio apical de ambos canales es de calibre f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7" name="12 Conector recto de flecha"/>
          <p:cNvCxnSpPr/>
          <p:nvPr/>
        </p:nvCxnSpPr>
        <p:spPr>
          <a:xfrm>
            <a:off x="2646000" y="3645000"/>
            <a:ext cx="1080" cy="792720"/>
          </a:xfrm>
          <a:prstGeom prst="straightConnector1">
            <a:avLst/>
          </a:prstGeom>
          <a:ln w="9360">
            <a:solidFill>
              <a:srgbClr val="fda023"/>
            </a:solidFill>
            <a:miter/>
            <a:tailEnd len="med" type="arrow" w="med"/>
          </a:ln>
        </p:spPr>
      </p:cxnSp>
      <p:sp>
        <p:nvSpPr>
          <p:cNvPr id="738" name="13 CuadroTexto"/>
          <p:cNvSpPr/>
          <p:nvPr/>
        </p:nvSpPr>
        <p:spPr>
          <a:xfrm>
            <a:off x="826920" y="46134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Lima Maestra # 30 / #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9" name="15 Conector recto de flecha"/>
          <p:cNvCxnSpPr/>
          <p:nvPr/>
        </p:nvCxnSpPr>
        <p:spPr>
          <a:xfrm>
            <a:off x="6443280" y="3860280"/>
            <a:ext cx="1080" cy="289440"/>
          </a:xfrm>
          <a:prstGeom prst="straightConnector1">
            <a:avLst/>
          </a:prstGeom>
          <a:ln w="9360">
            <a:solidFill>
              <a:srgbClr val="71685c"/>
            </a:solidFill>
            <a:miter/>
            <a:tailEnd len="med" type="arrow" w="med"/>
          </a:ln>
        </p:spPr>
      </p:cxnSp>
      <p:sp>
        <p:nvSpPr>
          <p:cNvPr id="740" name="16 CuadroTexto"/>
          <p:cNvSpPr/>
          <p:nvPr/>
        </p:nvSpPr>
        <p:spPr>
          <a:xfrm>
            <a:off x="4140360" y="4221000"/>
            <a:ext cx="478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Mientras mayor diámetro instrumentación apical, mayor eliminación de bacterias y tejido orgánico, dándonos un mejor pronostico en dientes tratados con infecciones endodon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1" name="12 Conector recto de flecha"/>
          <p:cNvCxnSpPr/>
          <p:nvPr/>
        </p:nvCxnSpPr>
        <p:spPr>
          <a:xfrm flipH="1">
            <a:off x="3679920" y="4812840"/>
            <a:ext cx="576360" cy="1080"/>
          </a:xfrm>
          <a:prstGeom prst="straightConnector1">
            <a:avLst/>
          </a:prstGeom>
          <a:ln w="9360">
            <a:solidFill>
              <a:srgbClr val="fda02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MEDICACIÓN DEL CANAL RADICULAR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43" name="6 Marcador de contenido" descr=""/>
          <p:cNvPicPr/>
          <p:nvPr/>
        </p:nvPicPr>
        <p:blipFill>
          <a:blip r:embed="rId2"/>
          <a:stretch/>
        </p:blipFill>
        <p:spPr>
          <a:xfrm>
            <a:off x="615960" y="1596960"/>
            <a:ext cx="78454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POST PREFLA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858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Paciente relata dolor e inflamación (edema facial) de 4 días de duración. Tomo analgésicos y antiinflamatorios: Ibuprofeno y Clonixinato de Lisina con poco efecto los primeros días. Luego ingirió Acido mefenamico, con mejores resultad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La evidencia dice que la presencia de dolor e inflamación posterior a la instrumentación quimio mecánica reduce el éxito del tratamiento. Sin embargo otros estudios no encontraron relación entre amb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HIPOTESIS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Reagudización causada por extrusión de material contaminado  durante la preparación del canal, lo cual generaría una reacción de cuerpo extraño o una infección extra radicular transitoria, resultando en la falla del tto. en una proporción de los cas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Reagudización como resultado de una IQM incompleta que produciría un cambio en la ecología microbiana del canal favoreciendo el crecimiento de MO mas virulentos, o impulsando la expresión de genes de virulencia, produciendo dolor postoperatoria y falla del tto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s-ES" sz="1700" spc="-1" strike="noStrike">
                <a:solidFill>
                  <a:srgbClr val="000000"/>
                </a:solidFill>
                <a:latin typeface="Gill Sans MT"/>
              </a:rPr>
              <a:t>Primera sesión HASTA preflare</a:t>
            </a: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2716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OBTURACIÓN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5800" y="1600200"/>
            <a:ext cx="5541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Técnica: Condensación Lateral en Frío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Espaciadores: #30 en Apical, #40 más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hacia coronal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nos: - Maestro: Probar #30, #35 y #40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- Accesorios: #25 en apical con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espaciador #30 y #35 en Coronal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n espaciador #40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emento:  </a:t>
            </a:r>
            <a:r>
              <a:rPr b="1" lang="es-CL" sz="1700" spc="-1" strike="noStrike">
                <a:solidFill>
                  <a:srgbClr val="fda023"/>
                </a:solidFill>
                <a:latin typeface="Gill Sans MT"/>
              </a:rPr>
              <a:t>Top Seal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, debido a la presencia de lesión apical y la rehabilitación del diente mediante anclaje intracanal se necesita un cemento con sus características: acción antimicrobiana intensa y prolongada,  buena capacidad adhesiva y poca solubilidad. Resistente, de poco corrimiento y radiopacidad satisfactoria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48" name="Picture 11" descr="a"/>
          <p:cNvPicPr/>
          <p:nvPr/>
        </p:nvPicPr>
        <p:blipFill>
          <a:blip r:embed="rId2"/>
          <a:stretch/>
        </p:blipFill>
        <p:spPr>
          <a:xfrm>
            <a:off x="5462640" y="1060560"/>
            <a:ext cx="2979720" cy="2597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5" descr="a"/>
          <p:cNvPicPr/>
          <p:nvPr/>
        </p:nvPicPr>
        <p:blipFill>
          <a:blip r:embed="rId3"/>
          <a:stretch/>
        </p:blipFill>
        <p:spPr>
          <a:xfrm>
            <a:off x="6175440" y="4157640"/>
            <a:ext cx="28526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REHABILITACIÓ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94920" y="1557360"/>
            <a:ext cx="47530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Enfatizar que terapia efectuada corresponde a una primera instancia de la rehabilitación y que debe continuar lo antes posible con el siguiente tratamiento para evitar posible infiltración y consecuente fracaso de la terapia endodóntica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La 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ieza debe ser rehabilitada mediante prótesis fija unitaria para lo cual previamente será necesaria una cirugía de ancho biológico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ctr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52" name="Picture 2" descr="http://home.germany.net/100-496425/main_frame/protesis/info_protesis/fija1.jpg"/>
          <p:cNvPicPr/>
          <p:nvPr/>
        </p:nvPicPr>
        <p:blipFill>
          <a:blip r:embed="rId2"/>
          <a:stretch/>
        </p:blipFill>
        <p:spPr>
          <a:xfrm>
            <a:off x="5364000" y="1484280"/>
            <a:ext cx="3591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112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ANAMNESI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24000" y="1700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aciente sexo femenino 29 año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sulta hace 1 año por dolor en diente 2.5, en ese momento le iniciaron la endodoncia (trepanación) y nunca volvió a asistir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aciente no presenta sintomatología actualmente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86" name="Picture 7" descr="http://4.bp.blogspot.com/_LJ9vgLTtZzQ/SXXSeEswYWI/AAAAAAAAAEQ/DeVbZ88Fh7E/s400/anamnesis.jpg"/>
          <p:cNvPicPr/>
          <p:nvPr/>
        </p:nvPicPr>
        <p:blipFill>
          <a:blip r:embed="rId2"/>
          <a:stretch/>
        </p:blipFill>
        <p:spPr>
          <a:xfrm>
            <a:off x="5748480" y="122400"/>
            <a:ext cx="3590640" cy="2395440"/>
          </a:xfrm>
          <a:prstGeom prst="rect">
            <a:avLst/>
          </a:prstGeom>
          <a:ln w="0">
            <a:noFill/>
          </a:ln>
        </p:spPr>
      </p:pic>
      <p:sp>
        <p:nvSpPr>
          <p:cNvPr id="687" name="Title 1"/>
          <p:cNvSpPr/>
          <p:nvPr/>
        </p:nvSpPr>
        <p:spPr>
          <a:xfrm>
            <a:off x="611280" y="293364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XAMEN CLÍ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Content Placeholder 2"/>
          <p:cNvSpPr/>
          <p:nvPr/>
        </p:nvSpPr>
        <p:spPr>
          <a:xfrm>
            <a:off x="611280" y="4016520"/>
            <a:ext cx="6048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Extraoral:  Nada Espec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Intraoral:  Caries Penetrante del diente 2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Oclusión del Diente Norm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74760" y="8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XAMEN RADIOLÓG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690" name="Content Placeholder 2"/>
          <p:cNvGrpSpPr/>
          <p:nvPr/>
        </p:nvGrpSpPr>
        <p:grpSpPr>
          <a:xfrm>
            <a:off x="596880" y="1725480"/>
            <a:ext cx="3987720" cy="4883400"/>
            <a:chOff x="596880" y="1725480"/>
            <a:chExt cx="3987720" cy="4883400"/>
          </a:xfrm>
        </p:grpSpPr>
        <p:pic>
          <p:nvPicPr>
            <p:cNvPr id="691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96880" y="1725480"/>
              <a:ext cx="3987720" cy="48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614520" y="1744560"/>
              <a:ext cx="3957480" cy="48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Reabsorción ósea marginal Horizontal Discret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aries Penetra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ámara Pulpar Nada Especi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onductos Radiculares: Vestibular y Palatino, Fino en 2/3 Cervical y Medi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Raíz: Doble Curva y Límite Duplica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Línea Periodontal Apical:  Ausent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Área Periapical: Radiolucidez de Límites Netos y de tamaño vertical de 2mm y horizontal 4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93" name="Picture 2" descr="C:\Users\Eduardo\UNIVERSIDAD\4º año\Endodoncia\Presentación caso clinico\Fotos rx\P1040300 recortada.jpg"/>
          <p:cNvPicPr/>
          <p:nvPr/>
        </p:nvPicPr>
        <p:blipFill>
          <a:blip r:embed="rId3"/>
          <a:stretch/>
        </p:blipFill>
        <p:spPr>
          <a:xfrm>
            <a:off x="5127480" y="1230480"/>
            <a:ext cx="3456000" cy="5549760"/>
          </a:xfrm>
          <a:prstGeom prst="rect">
            <a:avLst/>
          </a:prstGeom>
          <a:ln w="0">
            <a:noFill/>
          </a:ln>
        </p:spPr>
      </p:pic>
      <p:sp>
        <p:nvSpPr>
          <p:cNvPr id="694" name="4 Conector recto"/>
          <p:cNvSpPr/>
          <p:nvPr/>
        </p:nvSpPr>
        <p:spPr>
          <a:xfrm>
            <a:off x="6280200" y="2022480"/>
            <a:ext cx="1152360" cy="0"/>
          </a:xfrm>
          <a:prstGeom prst="line">
            <a:avLst/>
          </a:prstGeom>
          <a:ln w="57240">
            <a:solidFill>
              <a:srgbClr val="fda023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5 Conector recto"/>
          <p:cNvSpPr/>
          <p:nvPr/>
        </p:nvSpPr>
        <p:spPr>
          <a:xfrm>
            <a:off x="6999120" y="1590840"/>
            <a:ext cx="0" cy="1944360"/>
          </a:xfrm>
          <a:prstGeom prst="line">
            <a:avLst/>
          </a:prstGeom>
          <a:ln w="57240">
            <a:solidFill>
              <a:srgbClr val="ff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6 Conector recto"/>
          <p:cNvSpPr/>
          <p:nvPr/>
        </p:nvSpPr>
        <p:spPr>
          <a:xfrm flipH="1">
            <a:off x="6891480" y="1590840"/>
            <a:ext cx="18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7 Conector recto"/>
          <p:cNvSpPr/>
          <p:nvPr/>
        </p:nvSpPr>
        <p:spPr>
          <a:xfrm flipH="1">
            <a:off x="6891480" y="3535200"/>
            <a:ext cx="18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8 Conector recto"/>
          <p:cNvSpPr/>
          <p:nvPr/>
        </p:nvSpPr>
        <p:spPr>
          <a:xfrm>
            <a:off x="6280200" y="1932120"/>
            <a:ext cx="0" cy="180720"/>
          </a:xfrm>
          <a:prstGeom prst="line">
            <a:avLst/>
          </a:prstGeom>
          <a:ln w="5724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9 Conector recto"/>
          <p:cNvSpPr/>
          <p:nvPr/>
        </p:nvSpPr>
        <p:spPr>
          <a:xfrm>
            <a:off x="7432560" y="1917720"/>
            <a:ext cx="0" cy="179280"/>
          </a:xfrm>
          <a:prstGeom prst="line">
            <a:avLst/>
          </a:prstGeom>
          <a:ln w="5724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10 CuadroTexto"/>
          <p:cNvSpPr/>
          <p:nvPr/>
        </p:nvSpPr>
        <p:spPr>
          <a:xfrm>
            <a:off x="7504200" y="18381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2d050"/>
                </a:solidFill>
                <a:latin typeface="Arial"/>
              </a:rPr>
              <a:t>2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11 CuadroTexto"/>
          <p:cNvSpPr/>
          <p:nvPr/>
        </p:nvSpPr>
        <p:spPr>
          <a:xfrm>
            <a:off x="6967440" y="12304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4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12 Forma libre"/>
          <p:cNvSpPr/>
          <p:nvPr/>
        </p:nvSpPr>
        <p:spPr>
          <a:xfrm>
            <a:off x="6605640" y="2146320"/>
            <a:ext cx="187200" cy="2487600"/>
          </a:xfrm>
          <a:prstGeom prst="pie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13 Forma libre"/>
          <p:cNvSpPr/>
          <p:nvPr/>
        </p:nvSpPr>
        <p:spPr>
          <a:xfrm>
            <a:off x="6524640" y="2387520"/>
            <a:ext cx="162000" cy="2138400"/>
          </a:xfrm>
          <a:prstGeom prst="pie">
            <a:avLst/>
          </a:prstGeom>
          <a:noFill/>
          <a:ln w="9360">
            <a:solidFill>
              <a:srgbClr val="fda02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14 Forma libre"/>
          <p:cNvSpPr/>
          <p:nvPr/>
        </p:nvSpPr>
        <p:spPr>
          <a:xfrm>
            <a:off x="6256440" y="1593720"/>
            <a:ext cx="1303200" cy="2084400"/>
          </a:xfrm>
          <a:prstGeom prst="pie">
            <a:avLst/>
          </a:prstGeom>
          <a:noFill/>
          <a:ln w="381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AGNÓST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84360" y="2349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Hipótesis Diagnóstic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iente con Tratamiento Previamente Iniciado con Periodontitis Apical Asintomátic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Diagnóstico Definitiv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iente con Tratamiento Previamente Iniciado con Periodontitis Apical Asintomática, </a:t>
            </a: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expuesto al medio ora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07" name="Picture 5" descr="http://educandoamihijo.com/wp-content/uploads/diagnosticos-autismo.jpg"/>
          <p:cNvPicPr/>
          <p:nvPr/>
        </p:nvPicPr>
        <p:blipFill>
          <a:blip r:embed="rId2"/>
          <a:stretch/>
        </p:blipFill>
        <p:spPr>
          <a:xfrm>
            <a:off x="4834080" y="92160"/>
            <a:ext cx="3213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ill Sans MT"/>
              </a:rPr>
              <a:t>FUNDAMENTO DIAGNÓST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Gill Sans MT"/>
              </a:rPr>
              <a:t>Diente con Terapia Endodóntica Previamente Iniciada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La AAE recomienda emplear esta clasificación para un grupo de situaciones caracterizadas por la presencia de un diente que ha recibido previemente un tratamiento endodóntico en forma parcial. En este caso: “trepanación”</a:t>
            </a:r>
            <a:r>
              <a:rPr b="0" lang="es-CL" sz="1700" spc="-1" strike="noStrike" baseline="30000">
                <a:solidFill>
                  <a:srgbClr val="ffffff"/>
                </a:solidFill>
                <a:latin typeface="Gill Sans MT"/>
              </a:rPr>
              <a:t>1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Gill Sans MT"/>
              </a:rPr>
              <a:t>Periodontitis Apical Asintomática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mo se describe en la mayoría de estos casos el diente se encuentra asintomático: no presenta dolor a la percusión  ni palpación y respuesta negativa a los tests pulpares. Al examen radiográfico se evidencia un área radiolúcida periapical que confirma la hipótesis.</a:t>
            </a:r>
            <a:r>
              <a:rPr b="0" lang="es-CL" sz="1700" spc="-1" strike="noStrike" baseline="30000">
                <a:solidFill>
                  <a:srgbClr val="ffffff"/>
                </a:solidFill>
                <a:latin typeface="Gill Sans MT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Linda G. Levin, Alan S. Law, G.R. Holland, Paul V. Abbott, Robert S. Roda, 2009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Gill Sans MT"/>
              </a:rPr>
              <a:t>Identify and Define All Diagnostic Terms for Pulpal Health and Disease States.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 JOE </a:t>
            </a:r>
            <a:r>
              <a:rPr b="0" lang="es-ES" sz="1000" spc="-1" strike="noStrike">
                <a:solidFill>
                  <a:srgbClr val="000000"/>
                </a:solidFill>
                <a:latin typeface="Gill Sans MT"/>
              </a:rPr>
              <a:t>Volume 35, Number 12, December 2009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 p. 1651.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James L. Gutmann, J. Craig Baumgartner, Alan H. Gluskin, Gary R. Hartwell, Richard E. Walton, 2009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Gill Sans MT"/>
              </a:rPr>
              <a:t>Identify and Define All Diagnostic Terms for Periapical/Periradicular Health and Disease States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. JOE </a:t>
            </a:r>
            <a:r>
              <a:rPr b="0" lang="es-ES" sz="1000" spc="-1" strike="noStrike">
                <a:solidFill>
                  <a:srgbClr val="000000"/>
                </a:solidFill>
                <a:latin typeface="Gill Sans MT"/>
              </a:rPr>
              <a:t>Volume 35, Number 12, December 2009 p. 1670.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ill Sans MT"/>
              </a:rPr>
              <a:t>IMPLICANCIAS MICROBIOLÓGICAS DEL DIAGNÓSTICO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599840"/>
            <a:ext cx="777240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ill Sans MT"/>
              </a:rPr>
              <a:t>Infección intraradicular secundaria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: presencia de MO introducidos en el SCR luego de una intervención terapéutica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rovienen del medio externo y la saliv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Especies y géneros asociados: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Staphylococcus spp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Pseudomona Aeruginos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E. coli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Bacilos enterico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E. faecali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Importancia de la instrumentación, irrigación y lima maestr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Siquieira JF, 2003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E. FAECALIS (24-77%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755640" y="191592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0000"/>
          </a:bodyPr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Coco Gram (+), facultativ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Resiste pH muy alcalino por lo que es altamente resistente a la acción antimicrobiana del hipoclorito, por ello, se debe tener especial cuidado e la concentración y el recambio del hipoclorito (adecuado Crown Down me asegura amplia superficie de acción y buen retorno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Forma biofilms:  mas frecuentes en infecciones crónica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Quórum Sensing, Intercambio génico, Resistenc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Invade túbulos: instrumentación y lima maestr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Soporta la falta de nutrient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Stuart et al. J Endod 2006;32: 93-98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4" name="Picture 5" descr="Fichier:Enterococcus faecalis SEM 01.png"/>
          <p:cNvPicPr/>
          <p:nvPr/>
        </p:nvPicPr>
        <p:blipFill>
          <a:blip r:embed="rId2"/>
          <a:stretch/>
        </p:blipFill>
        <p:spPr>
          <a:xfrm>
            <a:off x="5059440" y="-6480"/>
            <a:ext cx="37065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LESIÓN APICA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9080" y="1052280"/>
            <a:ext cx="626760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Lesiones grandes influyen negativamente en el pronóstico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aumenta la probabilidad de que a lesión persista luego del tratamient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Mayor diversidad bacterian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Mayor tiempo de la infección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 más penetración a los túbulos dentinarios y la periferia del SCR, donde la descontaminación quimio mecánica no lleg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Pueden representar lesiones quísticas o infecciones extra radiculares, para las cuales el tratamiento no quirúrgico de los canales radiculares no es resolutiv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Pueden representar una respuesta del hospedero más exagerada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menor respuesta al cambio ecológico producido por el tratamiento de los canales radiculare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La presencia de lesión apical se asocio a un 49% menor odds ratio de éxito que la ausencia de lesión. El odds de éxito disminuyo un 14% por cada milímetro de aumento en el diámetro de la lesión preoperatoria.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Gill Sans MT"/>
              </a:rPr>
              <a:t>Y. L. Ng, V. Mann &amp; K. Gulabivala, I. A prospective study of the factors affecting outcome of nonsurgical root canal treatment: part 1: periapical health. International Endodontic Journal, 44, 583-609, 2011 Endodontic Journal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,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7" name="Picture 2" descr="C:\Users\Eduardo\UNIVERSIDAD\4º año\Endodoncia\Presentación caso clinico\Fotos rx\P1040300 recortada.jpg"/>
          <p:cNvPicPr/>
          <p:nvPr/>
        </p:nvPicPr>
        <p:blipFill>
          <a:blip r:embed="rId2"/>
          <a:stretch/>
        </p:blipFill>
        <p:spPr>
          <a:xfrm>
            <a:off x="6327720" y="1060560"/>
            <a:ext cx="26449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LESIÓN APICA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318960" indent="-25380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ermeabilidad al termino del canal y extensión apical de la instrumentación del canal reflejan la extensión apical de la limpieza de canal: </a:t>
            </a:r>
            <a:r>
              <a:rPr b="0" lang="es-ES" sz="2000" spc="-1" strike="noStrike">
                <a:solidFill>
                  <a:srgbClr val="ffc000"/>
                </a:solidFill>
                <a:latin typeface="Gill Sans MT"/>
              </a:rPr>
              <a:t>factores pronósticos para el éxito del tratamiento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Aunque una serie de estudios han investigado la relación entre las dimensiones del canal y las dinámicas de irrigación y obturación , el mecanismo preciso físico, químico o biológico que finalmente facilita la reparación apical es aún desconocido. Se necesitan más estudios para identificar el balance óptimo entre dimensión del canal preparado y protocolo de irrigación </a:t>
            </a:r>
            <a:r>
              <a:rPr b="1" i="1" lang="es-ES" sz="2000" spc="-1" strike="noStrike">
                <a:solidFill>
                  <a:srgbClr val="ffc000"/>
                </a:solidFill>
                <a:latin typeface="Gill Sans MT"/>
              </a:rPr>
              <a:t>en pro de conservar tejido dentinario para la sobrevida del diente, logrando a la vez un control efectivo del biofilm para facilitar la reparación api</a:t>
            </a:r>
            <a:r>
              <a:rPr b="1" lang="es-ES" sz="2000" spc="-1" strike="noStrike">
                <a:solidFill>
                  <a:srgbClr val="ffc000"/>
                </a:solidFill>
                <a:latin typeface="Gill Sans MT"/>
              </a:rPr>
              <a:t>cal</a:t>
            </a:r>
            <a:r>
              <a:rPr b="0" lang="es-ES" sz="2000" spc="-1" strike="noStrike">
                <a:solidFill>
                  <a:srgbClr val="ffc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46:55Z</dcterms:created>
  <dc:creator>Carlitos</dc:creator>
  <dc:description/>
  <dc:language>en-US</dc:language>
  <cp:lastModifiedBy>Mauricio Garrido</cp:lastModifiedBy>
  <dcterms:modified xsi:type="dcterms:W3CDTF">2011-11-29T22:30:02Z</dcterms:modified>
  <cp:revision>58</cp:revision>
  <dc:subject/>
  <dc:title>PowerPoint Presentation</dc:title>
</cp:coreProperties>
</file>