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7611-99A7-45B7-B3D6-C98ABCD21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B3F9-FE73-46A9-89F7-5268167B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0AE4-8558-49A3-A38E-F3CFD02A8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3B1B-E431-41C7-866A-BD7BCF614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1FCA-1639-4768-AFB5-480178D3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C672-FC90-44F7-A108-036EBCE3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63D6-6283-4365-BBBD-E5F131FD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A323-8F5F-478B-A7E7-65A19224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163F-F9AE-45F4-9EA2-19B28DEE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EC2D-83C7-4B63-BB90-C5B0C5D7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C099-88EE-41ED-9B06-7075B873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E7FF-180E-4F3A-9079-8D0868FB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CC63-69B7-4963-A90A-2E6FE0D83EE7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FUNDIR, REFINAR E INDUSTRIALIZAR EL COBRE EN CHI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ugo Latorre - Carlos To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urso Formació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lobalización, Economía minera y Nueva economí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iversidad de Ch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0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Un tercer element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desarrollo tecnológico e industrial del cobre debe auspiciar  enlaces virtuos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.- Con industrias vinculadas a la minería (prestadoras de servicio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.- Con industrias derivadas (que usan insumos miner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.- Con universidades e institutos tecnológi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.- Con el desarrollo de las reg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 transnacionalización de CODELC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na política de transnacionalización  opuesta:  se usa el cobre para transnacionalizar empresas extranjeras, no para potenciar el desarrollo de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CODELCO como empresa transna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Por qué transnacionalizar a CODELC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rque  desde esa posición define muchas potencialidades al desarrollo na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sicionamiento estratégico de Chile como gran poder productivo y de definición de mercados y precios, por tanto de utilidades may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rque un poder internacional como CODELCO a escala transnacional entrega al país capacidad de negociar  en buen pie diversos temas de interés para un desarrollo integral en otras ár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in embargo hay quienes desean privatizar  a CODEL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les son sus argument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.- Que el Estado no debe  intervenir en la economía (razón puramente ideológic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.- Que las inversiones privadas son necesarias (razón desvirtuad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3.- Que nos permite integrarnos a los mercados (razón supuest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4.- Porque necesitamos los capitales externos (razón defraudad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5.- Que no tenemos capacidad para explotar solos el sector minero (razón no demostrad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¿Cuánto produce Chile en concentrad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hile está produciendo app. 6 millones de tons. de concentrado de cob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nto se refina en Chi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rededor del 50% de la produc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3 millones de t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uánto se refina en el exterio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resto, app. 3 millones de t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¿Por qué no FyR la totalidad del mineral que se extrae en Chile?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rque el Gobierno no quiere establecer una Política de Desarrollo Min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Porqu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rque se cree en la libre iniciativa de los privados, como motor del desarrollo min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rque se desea mantener buenas relaciones con los países consumidores de materias primas e inversionis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¿Cuánto pierde Chile por no refinar en el paí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tre 1990-200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dejó de percibir: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US$ 3.500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mill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cio de la libra de cobre  a US$ 1,0. Cálculos  de Cochilc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*Desde el 2001 al 2010: se  habrá dejado de percibir US$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9.500 a 12.000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mill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otal de pérdidas para el período 1990-201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S$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13.000 a 15.000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mill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Hugo Latorre, según cifras de Carlos Tomic. En “Royalty 2003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En qué más pierde Chi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empleos bien remuner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capacidad de negociación interna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rescate de los recursos incorporados a los concentrados (elevación de los costos): fletes, seguros, análisis químicos, créditos bancar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integración productiva vertic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desarrollo tecnológ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actividad productiva indust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¿Quién gana con no fundir ni refinar en Chi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s accionistas de la empresa transnacional que es dueña de la Concesión minera perpetua, gratui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ejecutivos de las empresas matrices transnacionales: bo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compañías aseguradoras de los embarques mineros (generalmente asociadas a las empresas matrices internacion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bancos que financian al fundidor extranjero (ide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empresas que exportan el producto, pues  imponen descuentos de hasta el 9% del valor real del mine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refinerías extranjeras que reciben una sub-materia prima subsidiada desde Ch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empresas asociadas que extraen  el mineral  incorporado a los concentrados: molibdeno, oro, paladio, etc agregando valor en el extranj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DELCO ¿pública o privad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sde el punto de vista de la producción de cobre, en 1971 CODELCO producía el 100% del cobre chileno (900.000 Toneladas año) y financiaba el 75% del presupuesto de la N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hora, después de la privatización, CODELCO produce el 26,5% del cobre chileno (1.300.000 Toneladas), pero aporta más de 25 mil millones de dólares en el período 2004-2008.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IFRAS PARA NO OLVI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Inversión Extranjera Directa, IED, y en particular las grandes mineras privadas, fundamentalmente extranjeras, que controlan el 72% de la producción de cobre de Chile, según el Banco Central, enviaron a sus casas matrices, SOLO por utilidades e intereses 81 mil millones de dólares, entre 2004 y 2008.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 se considera la “Depreciación Acelerada ”, el elevado costo de sus compras y servicios en el exterior y lo que se apropian por precios de transferencias entre filiales, el valor de lo enviado al exterior supera los 100 mil millones de dólares en este mismo período 2004-2008.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dustrializar el cob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mplica dos  vertientes de desarrol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.- Corriente arriba: es el desarrollo de la investigación tecnológ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.- Corriente abajo: es la aplicación productiva e industr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13:48:34Z</dcterms:created>
  <dc:creator>Hugo Latorre</dc:creator>
  <dc:description/>
  <dc:language>en-US</dc:language>
  <cp:lastModifiedBy>María Asunción</cp:lastModifiedBy>
  <dcterms:modified xsi:type="dcterms:W3CDTF">2014-10-24T01:44:38Z</dcterms:modified>
  <cp:revision>19</cp:revision>
  <dc:subject/>
  <dc:title>FUNDIR, REFINAR E INDUSTRIALIZAR EL COBRE EN CHILE.</dc:title>
</cp:coreProperties>
</file>