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1B5AA-AE43-4920-BF2B-6DA8EDC0D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EFF79-65F1-4D74-998F-1BE095779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CCDA9-D387-48A2-BE23-A401A2BD4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BC928-1CF6-44DB-BE12-3471DF7CA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2BC600-481B-44B5-BA0F-7A89F6E1A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4D5E45-529C-4D8E-B9FB-09E05D38A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7B6DF7-79BE-441A-A83A-A12C846CF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5895A3-2E84-4589-9AF8-2CB6EC3A0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71D8C9-6D6C-4735-B75D-AD1FE90AA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4A9C42-8BC2-4B33-BD4E-ACBF164A8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06D9AF-F7A9-447A-AD7A-EF78532B9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01486-A09E-4DE9-BAB7-B745B5061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BA82DD-73D4-4220-A5AF-17CC87B30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B4310C-9A47-4523-BC91-BB185E83A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214762-B60E-409E-8B28-4F161253C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CA1D0D-4F61-4F2F-85A8-760953FEA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A3BF2C-C80C-467A-8D99-A9C1BA2A9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69CE8-79FC-4159-9804-8DBC56881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2BBA4-D6F9-4377-B0B7-91EFA77B9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6B443-EFD6-40B2-A23C-3E6F05102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B2929-EB92-4AC7-9847-BC20486EB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4C564-4AE0-41F7-A9E7-CCB848B22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D7C77-B7E4-47C2-A7C6-B9EF55B22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0F9CC-AE68-49C3-9463-A3ED4DA0A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>
                <a:gd name="textAreaLeft" fmla="*/ 0 w 5143320"/>
                <a:gd name="textAreaRight" fmla="*/ 5143680 w 514332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>
                  <a:gd name="textAreaLeft" fmla="*/ 0 w 1581120"/>
                  <a:gd name="textAreaRight" fmla="*/ 1581480 w 1581120"/>
                  <a:gd name="textAreaTop" fmla="*/ 0 h 846000"/>
                  <a:gd name="textAreaBottom" fmla="*/ 846360 h 846000"/>
                </a:gdLst>
                <a:ahLst/>
                <a:rect l="textAreaLeft" t="textAreaTop" r="textAreaRight" b="textAreaBottom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>
                  <a:gd name="textAreaLeft" fmla="*/ 0 w 600120"/>
                  <a:gd name="textAreaRight" fmla="*/ 600480 w 60012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>
                  <a:gd name="textAreaLeft" fmla="*/ 0 w 246240"/>
                  <a:gd name="textAreaRight" fmla="*/ 246240 w 24624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>
                <a:gd name="textAreaLeft" fmla="*/ 0 w 6311880"/>
                <a:gd name="textAreaRight" fmla="*/ 6312240 w 631188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9D2B6-D974-4757-9CFD-90B518A351AF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74A32-AE65-49A9-BB71-A9FB8DD40AA0}" type="slidenum">
              <a:rPr b="0" lang="es-C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6600"/>
                </a:solidFill>
                <a:latin typeface="Arial"/>
              </a:rPr>
              <a:t>La Tributación en Chile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cc66"/>
                </a:solidFill>
                <a:latin typeface="Arial"/>
              </a:rPr>
              <a:t>Julián Alcayaga O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cc66"/>
                </a:solidFill>
                <a:latin typeface="Arial"/>
              </a:rPr>
              <a:t>Economis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cc66"/>
                </a:solidFill>
                <a:latin typeface="Arial"/>
              </a:rPr>
              <a:t>CFG Globalización, economía miner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cc66"/>
                </a:solidFill>
                <a:latin typeface="Arial"/>
              </a:rPr>
              <a:t>Nueva economí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Arial"/>
              </a:rPr>
              <a:t>Universidad de Chi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Santiago, mayo de 201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66"/>
                </a:solidFill>
                <a:latin typeface="Arial"/>
              </a:rPr>
              <a:t>El secreto, la clave en la evasión y la elusió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12503"/>
                </a:solidFill>
                <a:latin typeface="Arial"/>
              </a:rPr>
              <a:t>Inc. 4º art. 35 DL 830 desde 1980 hasta 199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n estas listas se indicará, además la renta imponible de los impuestos de categoría, global complementario y adicional, como asimismo el impuesto anual que por los referidos tributos le ha correspondido a cada contribuyente. Podrá indicarse también en estas listas el monto de las rentas exentas del Impuesto Global Complementario: pero si así no se hiciere, la información respectiva se proporcionará a </a:t>
            </a:r>
            <a:r>
              <a:rPr b="0" lang="es-ES" sz="2400" spc="-1" strike="noStrike" u="sng">
                <a:solidFill>
                  <a:srgbClr val="ffffff"/>
                </a:solidFill>
                <a:uFillTx/>
                <a:latin typeface="Arial"/>
              </a:rPr>
              <a:t>cualquiera persona que lo solicite.</a:t>
            </a:r>
            <a:r>
              <a:rPr b="0" lang="es-ES" sz="2400" spc="-1" strike="noStrike" u="sng">
                <a:solidFill>
                  <a:srgbClr val="e9ef05"/>
                </a:solidFill>
                <a:uFillTx/>
                <a:latin typeface="Arial"/>
              </a:rPr>
              <a:t>(Derogado por art. 5 letra b ley 19.398 de 1995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6600"/>
                </a:solidFill>
                <a:latin typeface="Arial"/>
              </a:rPr>
              <a:t>“</a:t>
            </a:r>
            <a:r>
              <a:rPr b="1" lang="es-ES_tradnl" sz="4000" spc="-1" strike="noStrike">
                <a:solidFill>
                  <a:srgbClr val="ff6600"/>
                </a:solidFill>
                <a:latin typeface="Arial"/>
              </a:rPr>
              <a:t>Políticas, deshonestidades, negligencias”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Es evidente que la </a:t>
            </a: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elusión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tributaria es </a:t>
            </a:r>
            <a:r>
              <a:rPr b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política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, ( es el poder político que aprueba las leyes que permiten esas exenciones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Pero la </a:t>
            </a: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evasión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se efectúa al margen de las leyes, y ella podría ser culpa de contribuyentes </a:t>
            </a:r>
            <a:r>
              <a:rPr b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deshonestos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, que no cumplen con sus obligaciones tributari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Pero en los hechos la evasión también es autorizada por un </a:t>
            </a: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sistema tributario concebido para ser evadido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y por la falta de voluntad política para aplicar la legislación apropiada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0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898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898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898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898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6600"/>
                </a:solidFill>
                <a:latin typeface="Arial"/>
              </a:rPr>
              <a:t>Las carretelas e internet</a:t>
            </a:r>
            <a:br>
              <a:rPr sz="4000"/>
            </a:b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39280" y="2133720"/>
            <a:ext cx="828036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En apariencia, o para la galería, Chile tiene un eficiente sistema contra la evasión tributaria por </a:t>
            </a:r>
            <a:r>
              <a:rPr b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la obligación de timbrar en el SII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las facturas, boletas y todos los demás documentos comerciales y contable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Este timbraje que data de la </a:t>
            </a:r>
            <a:r>
              <a:rPr b="1" lang="es-ES_tradnl" sz="2000" spc="-1" strike="noStrike" u="sng">
                <a:solidFill>
                  <a:srgbClr val="ffffff"/>
                </a:solidFill>
                <a:uFillTx/>
                <a:latin typeface="Arial"/>
              </a:rPr>
              <a:t>era de las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2000" spc="-1" strike="noStrike" u="sng">
                <a:solidFill>
                  <a:srgbClr val="ffffff"/>
                </a:solidFill>
                <a:uFillTx/>
                <a:latin typeface="Arial"/>
              </a:rPr>
              <a:t>carretelas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,  fue suprimido hace muchas décadas en los países desarrollad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En Chile, en cambio, la carretela transita  por la más moderna de las autopistas: </a:t>
            </a:r>
            <a:r>
              <a:rPr b="1" lang="es-ES_tradnl" sz="2000" spc="-1" strike="noStrike" u="sng">
                <a:solidFill>
                  <a:srgbClr val="ffffff"/>
                </a:solidFill>
                <a:uFillTx/>
                <a:latin typeface="Arial"/>
              </a:rPr>
              <a:t>Internet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6" name="Object 4"/>
          <p:cNvGraphicFramePr/>
          <p:nvPr/>
        </p:nvGraphicFramePr>
        <p:xfrm>
          <a:off x="0" y="0"/>
          <a:ext cx="2295360" cy="2595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2295360" cy="259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0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4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490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6600"/>
                </a:solidFill>
                <a:latin typeface="Arial"/>
              </a:rPr>
              <a:t>Sólo para pobr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413000"/>
            <a:ext cx="8218440" cy="468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Exxon dueña durante 24 años de </a:t>
            </a:r>
            <a:r>
              <a:rPr b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La Disputada de Las Condes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, jamás pagó un solo peso de impuesto a la renta. Al contrario, dejó perdidas tributarias por US$700 millones , y la vendió en US$1.300 millone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El timbraje de facturas, vigente en todo ese período, fue mudo testigo de esta multimillonaria evasión tributari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6600"/>
                </a:solidFill>
                <a:latin typeface="Arial"/>
              </a:rPr>
              <a:t>¿Entonces sirve el timbraje 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Sí … para </a:t>
            </a:r>
            <a:r>
              <a:rPr b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torneros y peluqueros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, entre otros, que han sido clausurados por no dar boleta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A estos mini evasores les cae el peso de una ley absolutamente ineficiente cuando se trata de verdaderos evasores de impuestos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0" name="Object 4"/>
          <p:cNvGraphicFramePr/>
          <p:nvPr/>
        </p:nvGraphicFramePr>
        <p:xfrm>
          <a:off x="6253200" y="260280"/>
          <a:ext cx="2890800" cy="128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53200" y="260280"/>
                    <a:ext cx="2890800" cy="128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nodeType="clickEffect" fill="hold">
                      <p:stCondLst>
                        <p:cond delay="0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4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500"/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6600"/>
                </a:solidFill>
                <a:latin typeface="Arial"/>
              </a:rPr>
              <a:t>¿Y si nos pusiéramos serios?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Hay medidas de muy fácil aplicación que desde hace décadas han permitido a los países desarrollados luchar contra la evasión tributaria, por lo que parece increíble que con la mundialización de las comunicaciones y de la economía, ellos no se conozcan y no se implementen en Chi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1) La limitación de las pérdidas contab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2) Plan Contable Unico y Obligatori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3) Supresión del secreto bancario y cont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0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8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5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5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6600"/>
                </a:solidFill>
                <a:latin typeface="Arial"/>
              </a:rPr>
              <a:t>Límite a las pérdida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492280"/>
            <a:ext cx="8291520" cy="36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En los países modernos, cuando las empresas tienen pérdidas que sobrepasan de 25 % a 50 % del capital social, existe la obligación legal de aumentar el capital de la empresas o ponerle término de gir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Esto debe ser así, porque si una empresa, año tras año acumula pérdidas y aún así sigue funcionando, significa que lo hace con </a:t>
            </a:r>
            <a:r>
              <a:rPr b="1" lang="es-ES_tradnl" sz="2400" spc="-1" strike="noStrike" u="sng">
                <a:solidFill>
                  <a:srgbClr val="ff0000"/>
                </a:solidFill>
                <a:uFillTx/>
                <a:latin typeface="Arial"/>
              </a:rPr>
              <a:t>ingresos no declarados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que han evadido el pago de impuestos, o son dineros de más dudosa procedenci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6" name="Object 4"/>
          <p:cNvGraphicFramePr/>
          <p:nvPr/>
        </p:nvGraphicFramePr>
        <p:xfrm>
          <a:off x="0" y="0"/>
          <a:ext cx="258588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258588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0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5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6600"/>
                </a:solidFill>
                <a:latin typeface="Arial"/>
              </a:rPr>
              <a:t>No a los sacos roto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En Chile, </a:t>
            </a:r>
            <a:r>
              <a:rPr b="1" lang="es-ES_tradnl" sz="2800" spc="-1" strike="noStrike" u="sng">
                <a:solidFill>
                  <a:srgbClr val="ffffff"/>
                </a:solidFill>
                <a:uFillTx/>
                <a:latin typeface="Arial"/>
              </a:rPr>
              <a:t>no existen límites a las pérdidas</a:t>
            </a: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, lo que se convierte en un verdadero saco roto donde los contribuyentes pueden echar sin límites, ventas sin factura, compras con facturas falsas, gastos o pérdidas no justificada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Para terminar con este </a:t>
            </a:r>
            <a:r>
              <a:rPr b="1" lang="es-ES_tradnl" sz="2800" spc="-1" strike="noStrike" u="sng">
                <a:solidFill>
                  <a:srgbClr val="ffffff"/>
                </a:solidFill>
                <a:uFillTx/>
                <a:latin typeface="Arial"/>
              </a:rPr>
              <a:t>saco roto</a:t>
            </a: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, ante lo cual el timbraje de facturas de nada sirve, toda empresa que tenga pérdidas superiores a un tercio del capital social, </a:t>
            </a:r>
            <a:r>
              <a:rPr b="1" lang="es-ES_tradnl" sz="2800" spc="-1" strike="noStrike" u="sng">
                <a:solidFill>
                  <a:srgbClr val="ffffff"/>
                </a:solidFill>
                <a:uFillTx/>
                <a:latin typeface="Arial"/>
              </a:rPr>
              <a:t>debe obligatoriamente aumentar su capital, o terminar su giro por determinacion del SII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nodeType="clickEffect" fill="hold">
                      <p:stCondLst>
                        <p:cond delay="0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7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5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12503"/>
                </a:solidFill>
                <a:latin typeface="Arial"/>
              </a:rPr>
              <a:t>Plan contable único y obligatorio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En la U.E. existe un Plan Contable que es obligatorio para todos los contribuyentes de la Unión, y en base a esa plan se deben obligatoriamente presentar los balances, inventarios y Estados de Resultados, junto a la declaración de la rent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El Plan Contable Unico, permite establecer estructuras de gastos por sector y tamaño de empresas, que en la comparación permite el autocontrol y la autofiscalizació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nodeType="clickEffect" fill="hold">
                      <p:stCondLst>
                        <p:cond delay="0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3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1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9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6600"/>
                </a:solidFill>
                <a:latin typeface="Arial"/>
              </a:rPr>
              <a:t>A río revuelto, pérdidas para el Fisco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786800" cy="82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Estado de Resultado Panaderí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Picture 9" descr=""/>
          <p:cNvPicPr/>
          <p:nvPr/>
        </p:nvPicPr>
        <p:blipFill>
          <a:blip r:embed="rId1"/>
          <a:stretch/>
        </p:blipFill>
        <p:spPr>
          <a:xfrm>
            <a:off x="34920" y="2836800"/>
            <a:ext cx="9001080" cy="23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1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6600"/>
                </a:solidFill>
                <a:latin typeface="Arial"/>
              </a:rPr>
              <a:t>Sin inventar la rueda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3628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Nada justifica que en Chile no se haya implementado un </a:t>
            </a:r>
            <a:r>
              <a:rPr b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Plan Contable Unico Nacional y Obligatorio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para todos los contribuyentes obligados de llevar contabilidad, salvo el de deliberadamente NO QUERER frenar la evasión tributaria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Para no tener de nuevo que </a:t>
            </a:r>
            <a:r>
              <a:rPr b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inventar la rueda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, y evitar largas discusiones sobre el tema, lo más lógico sería adaptar directamente el Plan Contable Europeo, el cuál se encuentra traducido al castellano, puesto que se usa en Españ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7" name="Object 4"/>
          <p:cNvGraphicFramePr/>
          <p:nvPr/>
        </p:nvGraphicFramePr>
        <p:xfrm>
          <a:off x="324000" y="0"/>
          <a:ext cx="1746000" cy="237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0"/>
                    <a:ext cx="1746000" cy="23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nodeType="clickEffect" fill="hold">
                      <p:stCondLst>
                        <p:cond delay="0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7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5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6600"/>
                </a:solidFill>
                <a:latin typeface="Arial"/>
              </a:rPr>
              <a:t>El Impuesto a la Renta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Todos los ingresos que perciben las empresas o los particulares deben pagar impuesto a la renta, ya sea que esta renta esté representada por ganancias, utilidades, salarios, honorarios, arriendos, dividendo de acciones, u otros ingresos monetario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Es un impuesto directo, porque el monto o tasa que se paga está en directa relación con el monto del ingreso percibido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Impuesto de 1era Categorí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Impuesto de 2da Categorí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Impuesto Global Complementario o Adicional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6600"/>
                </a:solidFill>
                <a:latin typeface="Arial"/>
              </a:rPr>
              <a:t>¡PERO SOLO SE PAGA IMPUESTO SI LA GANANCIA ES DECLARADA</a:t>
            </a:r>
            <a:r>
              <a:rPr b="0" lang="es-ES_tradnl" sz="2400" spc="-1" strike="noStrike">
                <a:solidFill>
                  <a:srgbClr val="ff6600"/>
                </a:solidFill>
                <a:latin typeface="Arial"/>
              </a:rPr>
              <a:t> 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0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898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898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898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898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898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898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898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6600"/>
                </a:solidFill>
                <a:latin typeface="Arial"/>
              </a:rPr>
              <a:t>Suprimir el secreto bancario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71640" y="2492280"/>
            <a:ext cx="7921440" cy="36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Poderoso caballero es Don Dinero ,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si hasta la fecha ningún Presidente se atreve a terminar con el secreto bancari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En los países avanzados las declaraciones de impuestos y los balances son públicos y no existe </a:t>
            </a:r>
            <a:r>
              <a:rPr b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el secreto bancario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para los fiscalizadores tributarios. Suprimir el secreto bancario y el tributario, son medidas muy importantes contra la evasión tributaria, y evidentemente contra el lavado de diner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Object 4"/>
          <p:cNvGraphicFramePr/>
          <p:nvPr/>
        </p:nvGraphicFramePr>
        <p:xfrm>
          <a:off x="0" y="981000"/>
          <a:ext cx="2484360" cy="325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81000"/>
                    <a:ext cx="2484360" cy="325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nodeType="clickEffect" fill="hold">
                      <p:stCondLst>
                        <p:cond delay="0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0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5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3e3ff"/>
                </a:solidFill>
                <a:latin typeface="Arial"/>
              </a:rPr>
              <a:t>Ventas en Mercados de Futuro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El art. 31 inciso primero de la ley de la Renta establece: “</a:t>
            </a:r>
            <a:r>
              <a:rPr b="1" i="1" lang="es-ES" sz="1600" spc="-1" strike="noStrike">
                <a:solidFill>
                  <a:srgbClr val="ffffff"/>
                </a:solidFill>
                <a:latin typeface="Arial"/>
              </a:rPr>
              <a:t>No se deducirán los gastos incurridos en la adquisición, mantención o explotación de bienes no destinados al giro del negocio o empresa</a:t>
            </a: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”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Rectangle 4"/>
          <p:cNvSpPr/>
          <p:nvPr/>
        </p:nvSpPr>
        <p:spPr>
          <a:xfrm>
            <a:off x="539640" y="2997360"/>
            <a:ext cx="2160720" cy="107928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Rectangle 5"/>
          <p:cNvSpPr/>
          <p:nvPr/>
        </p:nvSpPr>
        <p:spPr>
          <a:xfrm>
            <a:off x="6372360" y="2997360"/>
            <a:ext cx="2160360" cy="107928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Line 6"/>
          <p:cNvSpPr/>
          <p:nvPr/>
        </p:nvSpPr>
        <p:spPr>
          <a:xfrm>
            <a:off x="2771640" y="3645000"/>
            <a:ext cx="3529080" cy="0"/>
          </a:xfrm>
          <a:prstGeom prst="line">
            <a:avLst/>
          </a:prstGeom>
          <a:ln w="57240">
            <a:solidFill>
              <a:srgbClr val="ffffff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Text Box 7"/>
          <p:cNvSpPr/>
          <p:nvPr/>
        </p:nvSpPr>
        <p:spPr>
          <a:xfrm>
            <a:off x="3203640" y="328464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Tres me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Text Box 8"/>
          <p:cNvSpPr/>
          <p:nvPr/>
        </p:nvSpPr>
        <p:spPr>
          <a:xfrm>
            <a:off x="6372360" y="2997360"/>
            <a:ext cx="1942920" cy="11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Compra Opcion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10.000 T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A US </a:t>
            </a: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$ 1,1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Text Box 9"/>
          <p:cNvSpPr/>
          <p:nvPr/>
        </p:nvSpPr>
        <p:spPr>
          <a:xfrm>
            <a:off x="539640" y="2997360"/>
            <a:ext cx="1943280" cy="11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Venta Opcion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10.000 T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A US </a:t>
            </a: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$ 0,9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xt Box 10"/>
          <p:cNvSpPr/>
          <p:nvPr/>
        </p:nvSpPr>
        <p:spPr>
          <a:xfrm>
            <a:off x="611280" y="5157720"/>
            <a:ext cx="7705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Agregar: “ incluidas las pérdidas en los mercados de futuro de metales, o del mercado de futuros de cualquier otro producto, o mercados similares que determine el Servicio” </a:t>
            </a:r>
            <a:r>
              <a:rPr b="0" lang="es-ES" sz="1600" spc="-1" strike="noStrike">
                <a:solidFill>
                  <a:srgbClr val="3399ff"/>
                </a:solidFill>
                <a:latin typeface="Arial"/>
              </a:rPr>
              <a:t>(Proposición del FMI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3e3ff"/>
                </a:solidFill>
                <a:latin typeface="Arial"/>
              </a:rPr>
              <a:t>Los Precios de Transferencia</a:t>
            </a:r>
            <a:endParaRPr b="0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8229600" cy="13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En el paso de transformar el concentrado en cobre refinado, se van cargando “más costos” a los procesos, que pasan a ser  transferencia de utilidades para las empresas relacionadas que realizan estos procesos.</a:t>
            </a: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Rectangle 4"/>
          <p:cNvSpPr/>
          <p:nvPr/>
        </p:nvSpPr>
        <p:spPr>
          <a:xfrm>
            <a:off x="684360" y="3429000"/>
            <a:ext cx="2160360" cy="107964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Rectangle 5"/>
          <p:cNvSpPr/>
          <p:nvPr/>
        </p:nvSpPr>
        <p:spPr>
          <a:xfrm>
            <a:off x="6227640" y="3429000"/>
            <a:ext cx="2160720" cy="107964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Oval 6"/>
          <p:cNvSpPr/>
          <p:nvPr/>
        </p:nvSpPr>
        <p:spPr>
          <a:xfrm>
            <a:off x="3708360" y="3429000"/>
            <a:ext cx="1871640" cy="1224000"/>
          </a:xfrm>
          <a:prstGeom prst="ellipse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Text Box 7"/>
          <p:cNvSpPr/>
          <p:nvPr/>
        </p:nvSpPr>
        <p:spPr>
          <a:xfrm>
            <a:off x="684360" y="3429000"/>
            <a:ext cx="215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100.000 T Concentrado 32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Text Box 8"/>
          <p:cNvSpPr/>
          <p:nvPr/>
        </p:nvSpPr>
        <p:spPr>
          <a:xfrm>
            <a:off x="3851280" y="3500280"/>
            <a:ext cx="1871640" cy="10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Fletes seguros fundición, refinación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Participación en el preci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Text Box 9"/>
          <p:cNvSpPr/>
          <p:nvPr/>
        </p:nvSpPr>
        <p:spPr>
          <a:xfrm>
            <a:off x="6372360" y="3429000"/>
            <a:ext cx="2232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32.000 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Cobre Refina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Line 10"/>
          <p:cNvSpPr/>
          <p:nvPr/>
        </p:nvSpPr>
        <p:spPr>
          <a:xfrm>
            <a:off x="2916360" y="4005360"/>
            <a:ext cx="7920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Line 11"/>
          <p:cNvSpPr/>
          <p:nvPr/>
        </p:nvSpPr>
        <p:spPr>
          <a:xfrm>
            <a:off x="5724360" y="3933720"/>
            <a:ext cx="50328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Text Box 12"/>
          <p:cNvSpPr/>
          <p:nvPr/>
        </p:nvSpPr>
        <p:spPr>
          <a:xfrm>
            <a:off x="1683360" y="5783400"/>
            <a:ext cx="58089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Verdana"/>
              </a:rPr>
              <a:t>Agregar inciso 3° en el art. 38 del DL 824: que el valor promedio d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Verdana"/>
              </a:rPr>
              <a:t>cargos sea autorizado por el P. de la R. en base promedio industria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Oval 2"/>
          <p:cNvSpPr/>
          <p:nvPr/>
        </p:nvSpPr>
        <p:spPr>
          <a:xfrm>
            <a:off x="3124080" y="990720"/>
            <a:ext cx="2592360" cy="1439640"/>
          </a:xfrm>
          <a:prstGeom prst="ellipse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Oval 3"/>
          <p:cNvSpPr/>
          <p:nvPr/>
        </p:nvSpPr>
        <p:spPr>
          <a:xfrm>
            <a:off x="5580000" y="3357720"/>
            <a:ext cx="2592360" cy="1439640"/>
          </a:xfrm>
          <a:prstGeom prst="ellipse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826920" y="3429000"/>
            <a:ext cx="2592720" cy="1440000"/>
          </a:xfrm>
          <a:prstGeom prst="ellipse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Line 5"/>
          <p:cNvSpPr/>
          <p:nvPr/>
        </p:nvSpPr>
        <p:spPr>
          <a:xfrm flipH="1">
            <a:off x="2339640" y="1773360"/>
            <a:ext cx="863640" cy="15112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Line 6"/>
          <p:cNvSpPr/>
          <p:nvPr/>
        </p:nvSpPr>
        <p:spPr>
          <a:xfrm>
            <a:off x="5867280" y="1844640"/>
            <a:ext cx="936720" cy="12970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Line 7"/>
          <p:cNvSpPr/>
          <p:nvPr/>
        </p:nvSpPr>
        <p:spPr>
          <a:xfrm>
            <a:off x="3348000" y="4581360"/>
            <a:ext cx="237636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Text Box 8"/>
          <p:cNvSpPr/>
          <p:nvPr/>
        </p:nvSpPr>
        <p:spPr>
          <a:xfrm rot="18026400">
            <a:off x="1721520" y="2318760"/>
            <a:ext cx="194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Aporte de capital 20%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Text Box 9"/>
          <p:cNvSpPr/>
          <p:nvPr/>
        </p:nvSpPr>
        <p:spPr>
          <a:xfrm rot="17993400">
            <a:off x="2253240" y="2434680"/>
            <a:ext cx="145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Impuesto 35%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Text Box 10"/>
          <p:cNvSpPr/>
          <p:nvPr/>
        </p:nvSpPr>
        <p:spPr>
          <a:xfrm rot="3432000">
            <a:off x="5608440" y="2175120"/>
            <a:ext cx="180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Utilidad, sin impuesto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Text Box 11"/>
          <p:cNvSpPr/>
          <p:nvPr/>
        </p:nvSpPr>
        <p:spPr>
          <a:xfrm>
            <a:off x="3780000" y="4210200"/>
            <a:ext cx="1655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Créditos 80%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Impuesto 4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Text Box 12"/>
          <p:cNvSpPr/>
          <p:nvPr/>
        </p:nvSpPr>
        <p:spPr>
          <a:xfrm>
            <a:off x="3635280" y="1125360"/>
            <a:ext cx="17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Casa Matri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Text Box 13"/>
          <p:cNvSpPr/>
          <p:nvPr/>
        </p:nvSpPr>
        <p:spPr>
          <a:xfrm>
            <a:off x="1258920" y="378936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Minera Chile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Text Box 14"/>
          <p:cNvSpPr/>
          <p:nvPr/>
        </p:nvSpPr>
        <p:spPr>
          <a:xfrm>
            <a:off x="6012000" y="3500280"/>
            <a:ext cx="216036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Filiales Financiera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Bermudas, Bahama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I. Virgen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Text Box 15"/>
          <p:cNvSpPr/>
          <p:nvPr/>
        </p:nvSpPr>
        <p:spPr>
          <a:xfrm>
            <a:off x="1219320" y="228600"/>
            <a:ext cx="69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INICIO CICLO ELUSIÓN-EVAS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Text Box 16"/>
          <p:cNvSpPr/>
          <p:nvPr/>
        </p:nvSpPr>
        <p:spPr>
          <a:xfrm>
            <a:off x="1783080" y="6051600"/>
            <a:ext cx="587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Verdana"/>
              </a:rPr>
              <a:t>Modificar art. 2 DL 600, para que créditos no superen 20%, y en N° 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Verdana"/>
              </a:rPr>
              <a:t>de art. 59 DL 824, que Impto. Adic. Int. Pase de 4 a 20%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6600"/>
                </a:solidFill>
                <a:latin typeface="Arial"/>
              </a:rPr>
              <a:t>La gran falla: la evasión y la elusió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Una de las razones que explica que un país tan rico como Chile sea pobre, es el mal funcionamiento de su sistema tributario, que permite que </a:t>
            </a:r>
            <a:r>
              <a:rPr b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la evasión tributaria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alcance a los US$ 4.500 millones anuales, y que </a:t>
            </a:r>
            <a:r>
              <a:rPr b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la elusión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, es decir las exenciones tributarias en favor de los sectores más pudientes de la sociedad alcance a otros US$ 4.500 millones anuale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La evasión y la elusión tributaria representan alrededor de </a:t>
            </a:r>
            <a:r>
              <a:rPr b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un tercio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de los actuales ingresos tributarios del Estado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¡ES MAS QUE DEMASIADO</a:t>
            </a:r>
            <a:r>
              <a:rPr b="0" lang="es-ES_tradnl" sz="2400" spc="-1" strike="noStrike">
                <a:solidFill>
                  <a:srgbClr val="ff0000"/>
                </a:solidFill>
                <a:latin typeface="Arial"/>
              </a:rPr>
              <a:t> 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0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898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898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898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898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3e3ff"/>
                </a:solidFill>
                <a:latin typeface="Arial"/>
              </a:rPr>
              <a:t>Impuesto 1ª Categoría – Caso 1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457200" y="1600200"/>
          <a:ext cx="8229600" cy="4576680"/>
        </p:xfrm>
        <a:graphic>
          <a:graphicData uri="http://schemas.openxmlformats.org/drawingml/2006/table">
            <a:tbl>
              <a:tblPr/>
              <a:tblGrid>
                <a:gridCol w="2274840"/>
                <a:gridCol w="2082960"/>
                <a:gridCol w="1935000"/>
                <a:gridCol w="1936800"/>
              </a:tblGrid>
              <a:tr h="601560"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Empres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ocio 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ocio 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Utilida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.000.000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.000.000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.000.000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01560">
                <a:tc>
                  <a:txBody>
                    <a:bodyPr lIns="90000" rIns="900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mpto. 1era C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  </a:t>
                      </a: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.000.000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01560">
                <a:tc>
                  <a:txBody>
                    <a:bodyPr lIns="90000" rIns="900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asa Gl. Com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01560">
                <a:tc>
                  <a:txBody>
                    <a:bodyPr lIns="90000" rIns="900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rédito Socio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   </a:t>
                      </a: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.000.000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  </a:t>
                      </a: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.000.000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01920">
                <a:tc>
                  <a:txBody>
                    <a:bodyPr lIns="90000" rIns="900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Devolució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  </a:t>
                      </a: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.000.000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   </a:t>
                      </a: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.000.000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01560">
                <a:tc>
                  <a:txBody>
                    <a:bodyPr lIns="90000" rIns="900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otal Fisc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00840"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3e3ff"/>
                </a:solidFill>
                <a:latin typeface="Arial"/>
              </a:rPr>
              <a:t>Impuesto 1ª Categoría – Caso 2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457200" y="1600200"/>
          <a:ext cx="8229600" cy="4765680"/>
        </p:xfrm>
        <a:graphic>
          <a:graphicData uri="http://schemas.openxmlformats.org/drawingml/2006/table">
            <a:tbl>
              <a:tblPr/>
              <a:tblGrid>
                <a:gridCol w="2058840"/>
                <a:gridCol w="2151360"/>
                <a:gridCol w="2009520"/>
                <a:gridCol w="2009880"/>
              </a:tblGrid>
              <a:tr h="564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Empres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ocio 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ocio 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Utilida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.000.000.000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00.000.000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00.000.000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4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mpto. 1era C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0.000.000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5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asa Gl. Com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Global a paga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  </a:t>
                      </a: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84.994.273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  </a:t>
                      </a: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84.994.273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5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rédito Socio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  </a:t>
                      </a: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0.000.000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  </a:t>
                      </a: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0.000.000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4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Global pagad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    </a:t>
                      </a: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4.994.273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    </a:t>
                      </a: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4.994.273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otal Fisc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  </a:t>
                      </a: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84.994.273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  </a:t>
                      </a: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84.994.273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30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5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</a:t>
                      </a:r>
                      <a:r>
                        <a:rPr b="1" lang="es-ES_tradnl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63,296,80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</a:t>
                      </a:r>
                      <a:r>
                        <a:rPr b="0" lang="es-ES_tradnl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1.697.46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e3e3ff"/>
                </a:solidFill>
                <a:latin typeface="Arial"/>
              </a:rPr>
              <a:t>Tabla Impto. Global Complementario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457200" y="1600200"/>
          <a:ext cx="8229600" cy="4495680"/>
        </p:xfrm>
        <a:graphic>
          <a:graphicData uri="http://schemas.openxmlformats.org/drawingml/2006/table">
            <a:tbl>
              <a:tblPr/>
              <a:tblGrid>
                <a:gridCol w="2398680"/>
                <a:gridCol w="2097000"/>
                <a:gridCol w="1635120"/>
                <a:gridCol w="2098800"/>
              </a:tblGrid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f12503"/>
                          </a:solidFill>
                          <a:latin typeface="Arial"/>
                          <a:ea typeface="Arial"/>
                        </a:rPr>
                        <a:t>DESDE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f12503"/>
                          </a:solidFill>
                          <a:latin typeface="Arial"/>
                          <a:ea typeface="Arial"/>
                        </a:rPr>
                        <a:t>HASTA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f12503"/>
                          </a:solidFill>
                          <a:latin typeface="Arial"/>
                          <a:ea typeface="Arial"/>
                        </a:rPr>
                        <a:t>Tas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f12503"/>
                          </a:solidFill>
                          <a:latin typeface="Arial"/>
                          <a:ea typeface="Arial"/>
                        </a:rPr>
                        <a:t>Rebaj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522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DE $               0,00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$   6.605.054,00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EXEN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$              0,00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"        6.605.054,0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4.627.920,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,0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64.202,5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"       14.627.920,0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4.463.200,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,0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51.319,3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"      22.117.800,01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0.964.920,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,13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.068.014,3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"      30.964.920,01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9.812.040,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,2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.164.506,3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"      39.812.040,01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3.082.720,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,30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.951.349,1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"      58.711.680,01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3.389.600,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,35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1.703.194,8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"      73.389.600,01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Y MAS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,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5.005.726,8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6600"/>
                </a:solidFill>
                <a:latin typeface="Arial"/>
              </a:rPr>
              <a:t>¿Quienes pagan impuestos ?</a:t>
            </a:r>
            <a:br>
              <a:rPr sz="4400"/>
            </a:br>
            <a:r>
              <a:rPr b="1" lang="es-ES_tradnl" sz="2400" spc="-1" strike="noStrike">
                <a:solidFill>
                  <a:srgbClr val="e3e3ff"/>
                </a:solidFill>
                <a:latin typeface="Arial"/>
              </a:rPr>
              <a:t>(En millones de dólares)</a:t>
            </a:r>
            <a:endParaRPr b="0" lang="en-US" sz="2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5" name="Rectangle 8"/>
          <p:cNvSpPr/>
          <p:nvPr/>
        </p:nvSpPr>
        <p:spPr>
          <a:xfrm>
            <a:off x="2340000" y="5304600"/>
            <a:ext cx="511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103581360"/>
              </a:tabLst>
            </a:pPr>
            <a:r>
              <a:rPr b="1" lang="es-ES_tradnl" sz="3200" spc="-1" strike="noStrike">
                <a:solidFill>
                  <a:srgbClr val="ff6600"/>
                </a:solidFill>
                <a:latin typeface="Arial"/>
              </a:rPr>
              <a:t>¡Los mismos de siempre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6" name="Object 9"/>
          <p:cNvGraphicFramePr/>
          <p:nvPr/>
        </p:nvGraphicFramePr>
        <p:xfrm>
          <a:off x="457200" y="2244600"/>
          <a:ext cx="8229600" cy="3205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7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244600"/>
                    <a:ext cx="8229600" cy="320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push dir="r"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0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8" name=""/>
          <p:cNvGraphicFramePr/>
          <p:nvPr/>
        </p:nvGraphicFramePr>
        <p:xfrm>
          <a:off x="1042920" y="620640"/>
          <a:ext cx="6985080" cy="4969080"/>
        </p:xfrm>
        <a:graphic>
          <a:graphicData uri="http://schemas.openxmlformats.org/drawingml/2006/table">
            <a:tbl>
              <a:tblPr/>
              <a:tblGrid>
                <a:gridCol w="1879560"/>
                <a:gridCol w="1878120"/>
                <a:gridCol w="1879560"/>
                <a:gridCol w="1347840"/>
              </a:tblGrid>
              <a:tr h="382680">
                <a:tc gridSpan="4"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UMERO DE CONTRIBUYENTES SEGÚN INGRES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2680">
                <a:tc gridSpan="2"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ÑO TRIBUTARIO 201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08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2680"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Desd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Hast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N° Contr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% Tot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      </a:t>
                      </a:r>
                      <a:r>
                        <a:rPr b="0" lang="es-CL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</a:t>
                      </a: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4.195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</a:t>
                      </a: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665.459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</a:t>
                      </a: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1,15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823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</a:t>
                      </a: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4.195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</a:t>
                      </a: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87.100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</a:t>
                      </a: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05.822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</a:t>
                      </a: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,25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12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</a:t>
                      </a: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87.100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</a:t>
                      </a: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978.500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</a:t>
                      </a: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2.596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</a:t>
                      </a: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,44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23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</a:t>
                      </a: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978.500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</a:t>
                      </a: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769.900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</a:t>
                      </a: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7.677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</a:t>
                      </a: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43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26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</a:t>
                      </a: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769.900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</a:t>
                      </a: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61.300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</a:t>
                      </a: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.689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</a:t>
                      </a: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,73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26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</a:t>
                      </a: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61.300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</a:t>
                      </a: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48.400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</a:t>
                      </a: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.429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</a:t>
                      </a: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,54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08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</a:t>
                      </a: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48.400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</a:t>
                      </a: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35.500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</a:t>
                      </a: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.031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</a:t>
                      </a: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,21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26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</a:t>
                      </a: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35.500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 MAS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</a:t>
                      </a: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.889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</a:t>
                      </a: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,25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</a:t>
                      </a: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.213.592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0" lang="es-CL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,00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395280" y="549360"/>
          <a:ext cx="8137440" cy="5189400"/>
        </p:xfrm>
        <a:graphic>
          <a:graphicData uri="http://schemas.openxmlformats.org/drawingml/2006/table">
            <a:tbl>
              <a:tblPr/>
              <a:tblGrid>
                <a:gridCol w="2195640"/>
                <a:gridCol w="2241360"/>
                <a:gridCol w="1763640"/>
                <a:gridCol w="1936800"/>
              </a:tblGrid>
              <a:tr h="323640">
                <a:tc gridSpan="3"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Global complementario con reform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254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AS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 reform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2400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NT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MPUEST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FECTIVA 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aja en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24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 </a:t>
                      </a: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605.064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25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</a:t>
                      </a: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.677.920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   </a:t>
                      </a: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2.914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 </a:t>
                      </a: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200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        </a:t>
                      </a: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0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23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</a:t>
                      </a: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.463.200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</a:t>
                      </a: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05.737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 </a:t>
                      </a: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,520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         </a:t>
                      </a: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24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</a:t>
                      </a: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.248.480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</a:t>
                      </a: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26.749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 </a:t>
                      </a: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,086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        </a:t>
                      </a: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0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23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</a:t>
                      </a: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.033.760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</a:t>
                      </a: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77.364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</a:t>
                      </a: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,622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         </a:t>
                      </a: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25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</a:t>
                      </a: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.711.680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</a:t>
                      </a: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.139.452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</a:t>
                      </a: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,567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         </a:t>
                      </a: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24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</a:t>
                      </a: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3.389.680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</a:t>
                      </a: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.276.724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</a:t>
                      </a: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,453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 </a:t>
                      </a: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3.389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23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</a:t>
                      </a: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0.000.000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</a:t>
                      </a: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.590.364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</a:t>
                      </a: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,738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</a:t>
                      </a: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3.909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25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</a:t>
                      </a: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.000.000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</a:t>
                      </a: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.590.364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</a:t>
                      </a: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,590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</a:t>
                      </a: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403.909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24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</a:t>
                      </a: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0.000.000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</a:t>
                      </a: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.090.364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</a:t>
                      </a: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,394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</a:t>
                      </a: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03.909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24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</a:t>
                      </a: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.000.000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</a:t>
                      </a: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.590.364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</a:t>
                      </a: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,295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</a:t>
                      </a: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03.909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25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</a:t>
                      </a: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0.000.000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</a:t>
                      </a: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3.590.364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</a:t>
                      </a: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,718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</a:t>
                      </a: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.403.909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23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</a:t>
                      </a: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00.000.000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</a:t>
                      </a: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8.590.364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</a:t>
                      </a: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,859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</a:t>
                      </a: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.403.909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2T20:00:51Z</dcterms:created>
  <dc:creator>ACJR</dc:creator>
  <dc:description/>
  <dc:language>en-US</dc:language>
  <cp:lastModifiedBy>HP</cp:lastModifiedBy>
  <dcterms:modified xsi:type="dcterms:W3CDTF">2014-06-10T20:58:44Z</dcterms:modified>
  <cp:revision>91</cp:revision>
  <dc:subject/>
  <dc:title>Diapositiva 1</dc:title>
</cp:coreProperties>
</file>