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6AE-0DC2-4438-AE7D-44B2645F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426-8F63-46FB-9241-2CBC2C84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4D9-B9F4-463F-A7E6-7E8E8A1F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22A-644B-4A54-A4E5-898A230B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F42F-6F0E-468E-8226-2FF5C84D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78A9-E2FE-448E-B44A-4FD78108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9A28-55DB-4465-AD12-E6579380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B4E9-A63C-483F-A769-FA7AF3F0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F743-77C0-4BC8-85EA-82B41614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D32B-52F3-4B7A-B219-812C2ED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8396-2D71-47F8-9BB6-29D13EB3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BBE-32D7-43D5-9A83-63643D06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C744-A27D-4D77-99D1-56D78BF3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E6FF-309D-44C2-A528-037DF15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56CC-6AC7-42B1-AFA7-7E607C14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3D2E-128F-431A-A0AD-90CD1F5E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B4DE-75A9-4E7E-89AD-353849AA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1E1-DAB7-4517-B7AF-FD0AA863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27E-C73A-4090-A1E2-55518F64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0CD-5805-4FF2-86A6-F8E18FCC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FD3-E392-492A-B29E-D9D7354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F1C-7D2A-492E-9704-46190AF5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B93-B193-4E48-837F-975E994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E9B-B04A-4352-A98B-8B2569DD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AB55-84D4-45A1-807B-2A477554B41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F3EC-6EB5-43D3-867A-FF7BAE4C118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EPIDEMIOLOGIA EN SALU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Santiago Urcelay Vicente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Facultad de Ciencias Veterinarias y Pecuarias. Universidad de Chil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66"/>
                </a:solidFill>
                <a:latin typeface="Arial"/>
              </a:rPr>
              <a:t>EPIDEMIOLOGIA Y TRANSFORMACIONES PRODUCTIVA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oducción y su medición económica, son formas de medir las condiciones de Salud de poblaciones anim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Aparece el concepto de Sistema Productivo Enferm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Se incorporan elementos de genética, selección, nutrición, alimentación, reproducción y manejo, para mejorar la expresión productiva potencial de los anim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Se agrega valor a la producción  (agro industrialización), se diversifica la producción y se amplían merca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EPIDEMIOLOGIA Y SECTORES PÚBLICO Y PRIVAD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Globalización está orientando nuevas vertientes de acción para la Epidemiología, tanto en lo público como privado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cercamiento de trabajo entre sector público y priva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El Estado está disminuyendo su acción “policial” y esta trabajando en mayor “colaboración” con el sector priva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Vinculación internacional mayor de los mercados ha desarrollado los Análisis de Riesg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Crecen en importancia los litigios legales por asuntos de comercio agropecuari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Consumidores son más activos en defensa de sus derechos a comer productos sanos y de calidad por lo que pag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EPIDEMIOLOGIA Y SU FUTU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a Epidemiología seguirá sirviendo a la sociedad si es capaz de adaptarse a los cambios, incorporar nuevas estrategias y resolver los problemas que se le demande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os epidemiólogos no deben perder el encanto por lo que hacen y hacérselo sentir a las generaciones futuras de Médicos Veterinari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a Epidemiología es “la más apasionante de las especialidades.... y la más pedante, porque su misión es explicarlo todo, preverlo todo, prevenirlo todo... bueno saberlo todo”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PIDEMIOLOGIA EN SAL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 de pensar holís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antener patrones de salu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evenir, controlar y erradicar patrones de enferme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oblaciones anim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66"/>
                </a:solidFill>
                <a:latin typeface="Arial"/>
              </a:rPr>
              <a:t>HISTORIA DE SALUD Y ENFERMEDAD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Vinculada a la historia del homb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os patrones de explicación se encuentran todos actualmente en distintas sociedad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xplicación sobrenatural (Dioses castigadore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ctores ambientales naturales o antrópic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Agentes infecciosos específicos (Relación agente-huésped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nfoque holístico con incorporación d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o socio económico cultur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o tempor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o espa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as políticas sanitari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l comer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CEPTO DE SALUD ANIM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ADO: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dición cambiante de una cos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OPTIMO: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Máximo posible de obtener con los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   recursos disponi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ODUCTIVIDAD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producción por unidad de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  insum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66"/>
                </a:solidFill>
                <a:latin typeface="Arial"/>
              </a:rPr>
              <a:t>¿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PORQUE SALUD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¿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orque trabajamos para fomentar el tener a la población en estado de salud, más que reparar la salud perdid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ara tener beneficios económ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ara tener beneficios soci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ara tener intercambios comerci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ara mantener el bienestar anim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ara mantener equilibrio ecológ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ara mantener diversidad gené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EPIDEMIOLOGO Y SALUD ANIM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l Epidemiólogo esta al servici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De la producción animal (productiva, afectiva o   recreacional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De  las formas de producción y sus cambi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De las necesidades del hombre y sus mecanismos de intercambio (merc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EPIDEMIOLOGIA Y POBLACIO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a salud y enfermedad se mira en las poblaciones y eso la hace diferente al enfoque clínico y patológ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Incorpora elementos demográficos y espacia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conocer distribuc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conocer movimientos: migraciones, extrac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arámetros de natalidad, mortalidad, morbilidad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conocer distribución espacial por cartografía y  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Sistemas de Información Geográfic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EPIDEMIOLOGÍA Y ESTADISTIC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Incorpora el manejo computacional, para manejar grandes cantidades de da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Incorpora metodologías aplicadas en otras áreas,  a la Epidemiologí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Desarrolla la creación de Bases de Da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poya el desarrollo de programas computacionales específicos, para uso Epidemiológ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EPIDEMIOLOGIA Y ECONOMI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xigencias del sistema bancario, para prestar dinero al sector público y priv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xigencias a las asesorías técnicas de los profesionales del sector pecu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Desarrollo de metodologías adaptadas para el sect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Necesidad de trabajar con especialistas del área económ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01:10:43Z</dcterms:created>
  <dc:creator>Santiago Urcelay</dc:creator>
  <dc:description/>
  <dc:language>en-US</dc:language>
  <cp:lastModifiedBy>Facultad de Veterinaria</cp:lastModifiedBy>
  <dcterms:modified xsi:type="dcterms:W3CDTF">2009-03-19T15:11:04Z</dcterms:modified>
  <cp:revision>8</cp:revision>
  <dc:subject/>
  <dc:title>EPIDEMIOLOGIA EN SALUD ANIMAL</dc:title>
</cp:coreProperties>
</file>