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LIDO.WAV" ContentType="audio/x-wav"/>
  <Override PartName="/ppt/media/BOMBA.WAV" ContentType="audio/x-wav"/>
  <Override PartName="/ppt/media/APLAUSO.WAV" ContentType="audio/x-wav"/>
  <Override PartName="/ppt/media/image2.wmf" ContentType="image/x-wmf"/>
  <Override PartName="/ppt/media/CLIC.WAV" ContentType="audio/x-wav"/>
  <Override PartName="/ppt/media/image3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D02-4368-4DB0-8F2A-3F5E20D5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866-6DF4-4E87-B9EC-E4890151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222-24AB-4952-9B2F-2D91A7B6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E98-BFCB-4B18-9BA9-1AB565D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134-FF5E-477A-98A2-04865BB1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2E4-62B0-4C62-8A58-8739C32E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767-CB0C-471B-A926-5208A65F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370-8F95-4512-8365-012BB755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BEE-9F14-482C-9B62-F5F50BE6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B96-AEEA-4515-999C-7E5900F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84A-BA49-4A13-9319-849D1CD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E05-F8BB-46C0-870D-773364F2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15F7-BD8A-43A6-B571-D4CA718D9DD1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PEGIO.WAV"/><Relationship Id="rId3" Type="http://schemas.openxmlformats.org/officeDocument/2006/relationships/audio" Target="../media/BOMB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LIDO.WAV"/><Relationship Id="rId3" Type="http://schemas.openxmlformats.org/officeDocument/2006/relationships/audio" Target="../media/APLAUS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prima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rcicio teó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es de la Productividad Bru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514600"/>
          <a:ext cx="7772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Bru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795,45 kg glucosa x 3.99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5.132.545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 (PB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52800" y="5029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OTOSÍNTESIS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II.- Energía gastada en evapotranspi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tros de agua evapor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 kg ms x 250 l. = 1.500.000 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consum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500.000 x 593 kcal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89.500.00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V.- Energía recibida en el terren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00 cal/cm2/día x 10.000 cm2)/1000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Kcal/m2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100 días y en 4.000 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 x 4.000 x 5.0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2 x 10</a:t>
            </a:r>
            <a:r>
              <a:rPr b="0" lang="es-ES_tradnl" sz="32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omas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g ms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Ne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6.624.7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8. 068.073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Bruta (asimilación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5.132.545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89.500.0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24.632.545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disponibl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 x 10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63868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63868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6483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267080"/>
            <a:ext cx="12952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26708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2133720"/>
            <a:ext cx="60984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57600" y="2666520"/>
            <a:ext cx="838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UJO DE LA ENERG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0480" y="57564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no uti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280" y="39276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09880"/>
            <a:ext cx="1066680" cy="762120"/>
          </a:xfrm>
          <a:prstGeom prst="irregularSeal1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2767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4920" y="209880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 de evapotrans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0" y="3886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114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840" y="3774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809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6520" y="49179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iciencias y 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ED - 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2.000.000.000 - 924.632.5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1.075.367.455 kcal = 53.8% de 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utiliz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I/ED) 100 = 46,2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bsor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A/ ED) 1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,76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asimilación: A (PB) /EI = 3,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ecológico:    PN/EI        = 2,9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producción:  PN/ A       = 75.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rdida respiratoria: R/A  = 22,9%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rreno de 80 m x 50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ha cosechado al final de 100 días, 10.000 plantas de maí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 promedio = 500 ly/día (ly = 1 cal/cm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os neces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por planta = 3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ido de agua por planta =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rbono por planta = 45% de mat. se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s molecul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lucosa = 180; CO2 = 44; C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CO2 + 12H2O =&gt; (710 Kcal) =&gt; C6H12O6 + 6O2 + 6H2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diario de ms. durante el crecimiento = 1/2 peso seco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2 perdido en Resp = 1% del peso seco/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vaporación total 250 li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ergía usada en evaporación = 593 kc /li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omasa al final del perío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kg de ms. total =&gt; 10.000 x 3 k x 0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6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g/c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.000/4.000m2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.500 g/ m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.-Productividad neta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bono fijado al final de los 100 dí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 x 0.45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.700 kg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carb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quivale en glucos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g ---------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700 k --------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6.750 kg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ía para producir la gluco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mol = 180 g =&gt;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k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80g ------------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0g  ----------   X 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.944,4 kca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750 kg producidos x 3.94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26.624.700 k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95560" y="1981080"/>
            <a:ext cx="675144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39280" y="3851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IVIDAD NETA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LAU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.-Energía perdida en respir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érdida diaria de CO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so promedio = 3000 k; pérdida = 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000 x 0.01 = 30 kg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todo el período: 30 x 100 = 3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carbon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2 C en 44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x en 3.000 kg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18.18 kg de 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Transformando C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) Equivalente en glucos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 C -----------  180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18,18 ---------    X =&gt;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X = 2.045,45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) Energía consumida en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espir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045,45 x 3.944,4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8. 068.073 Kc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23:09:27Z</dcterms:created>
  <dc:creator> </dc:creator>
  <dc:description/>
  <dc:language>en-US</dc:language>
  <cp:lastModifiedBy>U. de Chile</cp:lastModifiedBy>
  <dcterms:modified xsi:type="dcterms:W3CDTF">2005-11-30T19:58:43Z</dcterms:modified>
  <cp:revision>10</cp:revision>
  <dc:subject/>
  <dc:title>Productividad primaria</dc:title>
</cp:coreProperties>
</file>