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LIDO.WAV" ContentType="audio/x-wav"/>
  <Override PartName="/ppt/media/BOMBA.WAV" ContentType="audio/x-wav"/>
  <Override PartName="/ppt/media/APLAUSO.WAV" ContentType="audio/x-wav"/>
  <Override PartName="/ppt/media/image2.wmf" ContentType="image/x-wmf"/>
  <Override PartName="/ppt/media/CLIC.WAV" ContentType="audio/x-wav"/>
  <Override PartName="/ppt/media/image3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A09-2E8F-4F48-83FD-034B6C44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3F9-AECB-4F16-B932-C4C948A8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784-9139-454D-9C1F-13F32B89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841-6605-4E00-A8F3-03C4E5E2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CC9-F1EC-4D28-81CC-D1E64134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1EE-FB9A-46B7-8071-3FCDBB7A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4AE-3D82-4202-BE74-C1C55D1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029-058F-4F3E-BE58-0AA994B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C0A-ACA1-4B05-8DE3-8B1105F3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631-A633-4355-A61F-A14CEBB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6C0-4361-4BA4-8296-33223FD6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277-6C35-4622-B74B-B1D170FD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E25-633B-41E3-8068-3148511A29D3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ARPEGIO.WAV"/><Relationship Id="rId3" Type="http://schemas.openxmlformats.org/officeDocument/2006/relationships/audio" Target="../media/BOMB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LIDO.WAV"/><Relationship Id="rId3" Type="http://schemas.openxmlformats.org/officeDocument/2006/relationships/audio" Target="../media/APLAUSO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prima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rcicio teór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es de la Productividad Bru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251460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ductividad Bru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795,45 kg glucosa x 3.99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5.132.545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 (PB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6216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52800" y="50292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OTOSÍNTESIS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III.- Energía gastada en evapotranspiració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itros de agua evapor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 kg ms x 250 l. = 1.500.000 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consumi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500.000 x 593 kcal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89.500.00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V.- Energía recibida en el terren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00 cal/cm2/día x 10.000 cm2)/1000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000 Kcal/m2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100 días y en 4.000 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 x 4.000 x 5.0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2 x 10</a:t>
            </a:r>
            <a:r>
              <a:rPr b="0" lang="es-ES_tradnl" sz="3200" spc="-1" strike="noStrike" baseline="30000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omas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g ms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Ne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6.624.7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8. 068.073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. Bruta (asimilación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5.132.545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ir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89.500.000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924.632.545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disponibl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 x 10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K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90720" y="297180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638680"/>
            <a:ext cx="121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638680"/>
            <a:ext cx="76212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46483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267080"/>
            <a:ext cx="129528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267080"/>
            <a:ext cx="3200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971800"/>
            <a:ext cx="1219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133720"/>
            <a:ext cx="60984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57600" y="2666520"/>
            <a:ext cx="83808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UJO DE LA ENERGÍ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886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0480" y="575640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no uti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5280" y="39276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809880"/>
            <a:ext cx="1066680" cy="762120"/>
          </a:xfrm>
          <a:prstGeom prst="irregularSeal1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2767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ingre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74920" y="209880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 de evapotrans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8000" y="38862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11480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1480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840" y="3774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809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6520" y="491796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i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ficiencias y 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ED - E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2.000.000.000 - 924.632.5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U = 1.075.367.455 kcal = 53.8% de 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utiliz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EI/ED) 100 = 46,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iciencia d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A/ ED) 100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,76%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ndimien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asimilación: A (PB) /EI = 3,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ecológico:    PN/EI        = 2,9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. producción:  PN/ A       = 75.8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érdida respiratoria: R/A  = 22,9%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rreno de 80 m x 50 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 cosechado al final de 100 días, 10.000 plantas de maí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ergía disponible promedio = 500 ly/día (ly = 1 cal/cm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tos necesar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por planta = 3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enido de agua por planta =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rbono por planta = 45% de mat. se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s molecul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lucosa = 180; CO2 = 44; C = 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CO2 + 12H2O =&gt; (710 Kcal) =&gt; C6H12O6 + 6O2 + 6H2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eso promedio diario de ms. durante el crecimiento = 1/2 peso seco 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2 perdido en Resp = 1% del peso seco/d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vaporación total 250 li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ergía usada en evaporación = 593 kc /li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omasa al final del perío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kg de ms. total =&gt; 10.000 x 3 k x 0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g/cm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000.000/4.000m2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1.500 g/ m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.-Productividad neta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bono fijado al final de los 100 dí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.000 k x 0.45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2.700 kg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car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quivale en glucosa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(C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g ---------18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700 k --------  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X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6.750 kg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ía para producir la gluco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mol = 180 g =&gt;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 k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80g ------------ 710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00g  ----------   X  =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3.944,4 kca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750 kg producidos x 3.944,4 k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26.624.700 k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é representa esta cifr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95560" y="1981080"/>
            <a:ext cx="675144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39280" y="38512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TIVIDAD NETA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LAU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I.-Energía perdida en respir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érdida diaria de CO2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promedio = 3000 k; pérdida = 1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000 x 0.01 = 30 kg/d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todo el período: 30 x 100 = 3.000 k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carbon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2 C en 44 CO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x en 3.000 kg =&gt;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818.18 kg de C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Transformando C en Kc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) Equivalente en glucosa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2 C -----------  180 de gluc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818,18 ---------    X =&gt;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X = 2.045,45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) Energía consumida en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respir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.045,45 x 3.944,4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8. 068.073 Kc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23:09:27Z</dcterms:created>
  <dc:creator> </dc:creator>
  <dc:description/>
  <dc:language>en-US</dc:language>
  <cp:lastModifiedBy>U. de Chile</cp:lastModifiedBy>
  <dcterms:modified xsi:type="dcterms:W3CDTF">2005-11-30T19:58:43Z</dcterms:modified>
  <cp:revision>10</cp:revision>
  <dc:subject/>
  <dc:title>Productividad primaria</dc:title>
</cp:coreProperties>
</file>